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4DC-9A14-41FF-B7AF-43ACACAA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63280" y="370152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FB5-D63B-4847-B964-E4FA43D4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1072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A83-8277-43CB-BFCB-A71A25AE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0436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508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6328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0436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508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E30-C719-4EC4-9191-D47891D4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63280" y="833040"/>
            <a:ext cx="692316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798-F718-47B1-9BAE-7E165CB2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1072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63280" y="370152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1072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0436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4508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6328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0436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4508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4C3-0867-401B-AEA6-C86B1390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763280" y="833040"/>
            <a:ext cx="692316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1072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763280" y="370152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1072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0436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45080" y="155700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76328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10436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45080" y="3701520"/>
            <a:ext cx="222912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1E15-CB65-4D56-A8CC-DCA4E88F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C74-3DF1-4234-93AA-6B744910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63280" y="833040"/>
            <a:ext cx="692316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366-D378-4AE5-9259-F1B1A3B3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CD2-3AC2-4AAA-8EB8-1D5DE06C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10720" y="370152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0BC9-B497-4342-8EB1-4950EA43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10720" y="1557000"/>
            <a:ext cx="33782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63280" y="3701520"/>
            <a:ext cx="69231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EEEB-E958-4D14-9300-B4C43CEE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2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20000"/>
              </a:lnSpc>
              <a:buClr>
                <a:srgbClr val="003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1" marL="530280" indent="-174600">
              <a:lnSpc>
                <a:spcPct val="120000"/>
              </a:lnSpc>
              <a:buClr>
                <a:srgbClr val="e7d1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2" marL="900000" indent="-190440">
              <a:lnSpc>
                <a:spcPct val="120000"/>
              </a:lnSpc>
              <a:buClr>
                <a:srgbClr val="002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3" marL="1254240" indent="-174600">
              <a:lnSpc>
                <a:spcPct val="120000"/>
              </a:lnSpc>
              <a:buClr>
                <a:srgbClr val="0020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4" marL="1608120" indent="-174600">
              <a:lnSpc>
                <a:spcPct val="120000"/>
              </a:lnSpc>
              <a:buClr>
                <a:srgbClr val="0020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5" marL="1608120" indent="-174600">
              <a:lnSpc>
                <a:spcPct val="120000"/>
              </a:lnSpc>
              <a:buClr>
                <a:srgbClr val="0020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6" marL="1608120" indent="-174600">
              <a:lnSpc>
                <a:spcPct val="120000"/>
              </a:lnSpc>
              <a:buClr>
                <a:srgbClr val="0020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0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93D8-A9C0-42F6-8228-E980BA8C7147}" type="slidenum">
              <a:rPr b="0" lang="sv-SE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44560" y="0"/>
            <a:ext cx="25704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171360" y="1440"/>
            <a:ext cx="25740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pic>
        <p:nvPicPr>
          <p:cNvPr id="7" name="Picture 13" descr="bar2"/>
          <p:cNvPicPr/>
          <p:nvPr/>
        </p:nvPicPr>
        <p:blipFill>
          <a:blip r:embed="rId2"/>
          <a:stretch/>
        </p:blipFill>
        <p:spPr>
          <a:xfrm>
            <a:off x="0" y="177840"/>
            <a:ext cx="8588520" cy="523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4" descr="Swedfund_sybol"/>
          <p:cNvPicPr/>
          <p:nvPr/>
        </p:nvPicPr>
        <p:blipFill>
          <a:blip r:embed="rId3"/>
          <a:stretch/>
        </p:blipFill>
        <p:spPr>
          <a:xfrm>
            <a:off x="6978600" y="247680"/>
            <a:ext cx="2017800" cy="3571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5" descr="globe70"/>
          <p:cNvPicPr/>
          <p:nvPr/>
        </p:nvPicPr>
        <p:blipFill>
          <a:blip r:embed="rId4"/>
          <a:stretch/>
        </p:blipFill>
        <p:spPr>
          <a:xfrm>
            <a:off x="244440" y="98280"/>
            <a:ext cx="80028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20000"/>
              </a:lnSpc>
              <a:buClr>
                <a:srgbClr val="003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174600">
              <a:lnSpc>
                <a:spcPct val="120000"/>
              </a:lnSpc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904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-1746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8120" indent="-174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8120" indent="-174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8120" indent="-174600">
              <a:lnSpc>
                <a:spcPct val="12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844560" y="0"/>
            <a:ext cx="25704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71360" y="1440"/>
            <a:ext cx="25740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pic>
        <p:nvPicPr>
          <p:cNvPr id="86" name="Picture 10" descr="bar2"/>
          <p:cNvPicPr/>
          <p:nvPr/>
        </p:nvPicPr>
        <p:blipFill>
          <a:blip r:embed="rId2"/>
          <a:stretch/>
        </p:blipFill>
        <p:spPr>
          <a:xfrm>
            <a:off x="0" y="177840"/>
            <a:ext cx="85885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Swedfund_sybol"/>
          <p:cNvPicPr/>
          <p:nvPr/>
        </p:nvPicPr>
        <p:blipFill>
          <a:blip r:embed="rId3"/>
          <a:stretch/>
        </p:blipFill>
        <p:spPr>
          <a:xfrm>
            <a:off x="6978600" y="247680"/>
            <a:ext cx="2017800" cy="357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globe70"/>
          <p:cNvPicPr/>
          <p:nvPr/>
        </p:nvPicPr>
        <p:blipFill>
          <a:blip r:embed="rId4"/>
          <a:stretch/>
        </p:blipFill>
        <p:spPr>
          <a:xfrm>
            <a:off x="244440" y="98280"/>
            <a:ext cx="80028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280" y="8330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2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763280" y="1557000"/>
            <a:ext cx="69231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120000"/>
              </a:lnSpc>
              <a:buClr>
                <a:srgbClr val="003e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1" marL="530280" indent="-174600">
              <a:lnSpc>
                <a:spcPct val="120000"/>
              </a:lnSpc>
              <a:buClr>
                <a:srgbClr val="e7d1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2" marL="900000" indent="-190440">
              <a:lnSpc>
                <a:spcPct val="120000"/>
              </a:lnSpc>
              <a:buClr>
                <a:srgbClr val="002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3" marL="1254240" indent="-174600">
              <a:lnSpc>
                <a:spcPct val="120000"/>
              </a:lnSpc>
              <a:buClr>
                <a:srgbClr val="0020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4" marL="1608120" indent="-174600">
              <a:lnSpc>
                <a:spcPct val="120000"/>
              </a:lnSpc>
              <a:buClr>
                <a:srgbClr val="0020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5" marL="1608120" indent="-174600">
              <a:lnSpc>
                <a:spcPct val="120000"/>
              </a:lnSpc>
              <a:buClr>
                <a:srgbClr val="0020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6" marL="1608120" indent="-174600">
              <a:lnSpc>
                <a:spcPct val="120000"/>
              </a:lnSpc>
              <a:buClr>
                <a:srgbClr val="0020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BB5D-6E09-4AD5-9507-22F63B685845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pic>
        <p:nvPicPr>
          <p:cNvPr id="128" name="Picture 2" descr="Swedfund_sybol_NTNM_outlines"/>
          <p:cNvPicPr/>
          <p:nvPr/>
        </p:nvPicPr>
        <p:blipFill>
          <a:blip r:embed="rId1"/>
          <a:stretch/>
        </p:blipFill>
        <p:spPr>
          <a:xfrm>
            <a:off x="1141560" y="1838160"/>
            <a:ext cx="6924600" cy="1971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9000" y="4935240"/>
            <a:ext cx="692316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202e"/>
                </a:solidFill>
                <a:latin typeface="Arial"/>
              </a:rPr>
              <a:t>November 2007 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8D03-DD4E-47B3-B84F-3FD6282BE5DD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084400" y="5365800"/>
            <a:ext cx="5014800" cy="75240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944640" y="3613320"/>
            <a:ext cx="1868400" cy="1236600"/>
          </a:xfrm>
          <a:prstGeom prst="rightArrow">
            <a:avLst>
              <a:gd name="adj1" fmla="val 50000"/>
              <a:gd name="adj2" fmla="val 37773"/>
            </a:avLst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720800" y="2043000"/>
            <a:ext cx="1681200" cy="99540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5284800" y="2043000"/>
            <a:ext cx="1681200" cy="99540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4160" y="1109160"/>
            <a:ext cx="86407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Possible scenario – example 1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647720" y="226368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Vodokanal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5211720" y="226368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Swedfund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478320" y="3603600"/>
            <a:ext cx="1909800" cy="99540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cxnSp>
        <p:nvCxnSpPr>
          <p:cNvPr id="227" name="AutoShape 12"/>
          <p:cNvCxnSpPr>
            <a:stCxn id="221" idx="2"/>
            <a:endCxn id="226" idx="0"/>
          </p:cNvCxnSpPr>
          <p:nvPr/>
        </p:nvCxnSpPr>
        <p:spPr>
          <a:xfrm flipH="1" rot="16200000">
            <a:off x="3214440" y="2385000"/>
            <a:ext cx="565920" cy="1872360"/>
          </a:xfrm>
          <a:prstGeom prst="bentConnector3">
            <a:avLst>
              <a:gd name="adj1" fmla="val 49713"/>
            </a:avLst>
          </a:prstGeom>
          <a:ln w="9360">
            <a:solidFill>
              <a:srgbClr val="00202e"/>
            </a:solidFill>
            <a:miter/>
          </a:ln>
        </p:spPr>
      </p:cxnSp>
      <p:cxnSp>
        <p:nvCxnSpPr>
          <p:cNvPr id="228" name="AutoShape 13"/>
          <p:cNvCxnSpPr>
            <a:stCxn id="222" idx="2"/>
            <a:endCxn id="226" idx="0"/>
          </p:cNvCxnSpPr>
          <p:nvPr/>
        </p:nvCxnSpPr>
        <p:spPr>
          <a:xfrm rot="5400000">
            <a:off x="4996440" y="2474640"/>
            <a:ext cx="565920" cy="1693080"/>
          </a:xfrm>
          <a:prstGeom prst="bentConnector3">
            <a:avLst>
              <a:gd name="adj1" fmla="val 49713"/>
            </a:avLst>
          </a:prstGeom>
          <a:ln w="9360">
            <a:solidFill>
              <a:srgbClr val="00202e"/>
            </a:solidFill>
            <a:miter/>
          </a:ln>
        </p:spPr>
      </p:cxnSp>
      <p:sp>
        <p:nvSpPr>
          <p:cNvPr id="229" name="Rectangle 10"/>
          <p:cNvSpPr/>
          <p:nvPr/>
        </p:nvSpPr>
        <p:spPr>
          <a:xfrm>
            <a:off x="3570120" y="374004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New production company (bio-gas)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2268360" y="297180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65 % equity*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4581360" y="297180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35 % equity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0" y="6391440"/>
            <a:ext cx="4944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2e"/>
                </a:solidFill>
                <a:latin typeface="Arial"/>
              </a:rPr>
              <a:t>* In-kind contribution partly possible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1109520" y="387972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Loan financing, bank or other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4" name="AutoShape 20"/>
          <p:cNvSpPr/>
          <p:nvPr/>
        </p:nvSpPr>
        <p:spPr>
          <a:xfrm rot="10800000">
            <a:off x="6054840" y="3612960"/>
            <a:ext cx="1868400" cy="1236600"/>
          </a:xfrm>
          <a:prstGeom prst="rightArrow">
            <a:avLst>
              <a:gd name="adj1" fmla="val 50000"/>
              <a:gd name="adj2" fmla="val 37773"/>
            </a:avLst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5" name="Rectangle 21"/>
          <p:cNvSpPr/>
          <p:nvPr/>
        </p:nvSpPr>
        <p:spPr>
          <a:xfrm>
            <a:off x="6562800" y="3994200"/>
            <a:ext cx="1557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6" name="Rectangle 25"/>
          <p:cNvSpPr/>
          <p:nvPr/>
        </p:nvSpPr>
        <p:spPr>
          <a:xfrm>
            <a:off x="2239920" y="5425920"/>
            <a:ext cx="4987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Swedfund’s exit e.g., through buy-back of shares or exit through partner (Vodokanal)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E054-006A-4AEA-AF27-64E71B2BD44B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2084400" y="5162400"/>
            <a:ext cx="5014800" cy="100836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574560" y="3473280"/>
            <a:ext cx="1868760" cy="1236960"/>
          </a:xfrm>
          <a:prstGeom prst="rightArrow">
            <a:avLst>
              <a:gd name="adj1" fmla="val 50000"/>
              <a:gd name="adj2" fmla="val 37769"/>
            </a:avLst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249200" y="2043000"/>
            <a:ext cx="1681200" cy="99540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6492960" y="2043000"/>
            <a:ext cx="1681200" cy="99540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4160" y="1109160"/>
            <a:ext cx="86407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Possible scenario – example 2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147680" y="219708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Local, private company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3895560" y="3603600"/>
            <a:ext cx="1681200" cy="99540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cxnSp>
        <p:nvCxnSpPr>
          <p:cNvPr id="245" name="AutoShape 10"/>
          <p:cNvCxnSpPr>
            <a:stCxn id="246" idx="2"/>
            <a:endCxn id="244" idx="0"/>
          </p:cNvCxnSpPr>
          <p:nvPr/>
        </p:nvCxnSpPr>
        <p:spPr>
          <a:xfrm flipH="1">
            <a:off x="4736520" y="3038400"/>
            <a:ext cx="1080" cy="565920"/>
          </a:xfrm>
          <a:prstGeom prst="straightConnector1">
            <a:avLst/>
          </a:prstGeom>
          <a:ln w="9360">
            <a:solidFill>
              <a:srgbClr val="00202e"/>
            </a:solidFill>
            <a:miter/>
          </a:ln>
        </p:spPr>
      </p:cxnSp>
      <p:cxnSp>
        <p:nvCxnSpPr>
          <p:cNvPr id="247" name="AutoShape 11"/>
          <p:cNvCxnSpPr>
            <a:stCxn id="241" idx="2"/>
            <a:endCxn id="244" idx="0"/>
          </p:cNvCxnSpPr>
          <p:nvPr/>
        </p:nvCxnSpPr>
        <p:spPr>
          <a:xfrm rot="5400000">
            <a:off x="5752440" y="2022480"/>
            <a:ext cx="565920" cy="2597760"/>
          </a:xfrm>
          <a:prstGeom prst="bentConnector3">
            <a:avLst>
              <a:gd name="adj1" fmla="val 49713"/>
            </a:avLst>
          </a:prstGeom>
          <a:ln w="9360">
            <a:solidFill>
              <a:srgbClr val="00202e"/>
            </a:solidFill>
            <a:miter/>
          </a:ln>
        </p:spPr>
      </p:cxnSp>
      <p:sp>
        <p:nvSpPr>
          <p:cNvPr id="248" name="Rectangle 12"/>
          <p:cNvSpPr/>
          <p:nvPr/>
        </p:nvSpPr>
        <p:spPr>
          <a:xfrm>
            <a:off x="3971880" y="366876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New production company (bio-diesel)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1692360" y="295272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60 % equity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6288120" y="297180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20 % equity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0" y="6391440"/>
            <a:ext cx="4944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2e"/>
                </a:solidFill>
                <a:latin typeface="Arial"/>
              </a:rPr>
              <a:t>* In-kind contribution partly possible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711360" y="374328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Loan financing, bank or other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3" name="AutoShape 17"/>
          <p:cNvSpPr/>
          <p:nvPr/>
        </p:nvSpPr>
        <p:spPr>
          <a:xfrm rot="10800000">
            <a:off x="6630480" y="3612960"/>
            <a:ext cx="1868760" cy="1236600"/>
          </a:xfrm>
          <a:prstGeom prst="rightArrow">
            <a:avLst>
              <a:gd name="adj1" fmla="val 50000"/>
              <a:gd name="adj2" fmla="val 37780"/>
            </a:avLst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7122960" y="3895560"/>
            <a:ext cx="1314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Swedish equipment 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2211480" y="5200560"/>
            <a:ext cx="4987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3600" indent="-93600">
              <a:lnSpc>
                <a:spcPct val="12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Swedfund’s exit e.g., through trade sale or exit through local partner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93600" indent="-93600">
              <a:lnSpc>
                <a:spcPct val="12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Industrial expertise of local company, crucial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3895560" y="2043000"/>
            <a:ext cx="1681200" cy="995400"/>
          </a:xfrm>
          <a:prstGeom prst="rect">
            <a:avLst/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6" name="Rectangle 21"/>
          <p:cNvSpPr/>
          <p:nvPr/>
        </p:nvSpPr>
        <p:spPr>
          <a:xfrm>
            <a:off x="3832200" y="219708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Swedfund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4305240" y="295272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20 % equity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cxnSp>
        <p:nvCxnSpPr>
          <p:cNvPr id="258" name="AutoShape 23"/>
          <p:cNvCxnSpPr>
            <a:stCxn id="240" idx="2"/>
            <a:endCxn id="244" idx="0"/>
          </p:cNvCxnSpPr>
          <p:nvPr/>
        </p:nvCxnSpPr>
        <p:spPr>
          <a:xfrm flipH="1" rot="16200000">
            <a:off x="3130560" y="1997640"/>
            <a:ext cx="565920" cy="2647080"/>
          </a:xfrm>
          <a:prstGeom prst="bentConnector3">
            <a:avLst>
              <a:gd name="adj1" fmla="val 49713"/>
            </a:avLst>
          </a:prstGeom>
          <a:ln w="9360">
            <a:solidFill>
              <a:srgbClr val="00202e"/>
            </a:solidFill>
            <a:miter/>
          </a:ln>
        </p:spPr>
      </p:cxnSp>
      <p:sp>
        <p:nvSpPr>
          <p:cNvPr id="259" name="Rectangle 24"/>
          <p:cNvSpPr/>
          <p:nvPr/>
        </p:nvSpPr>
        <p:spPr>
          <a:xfrm>
            <a:off x="6367320" y="2197080"/>
            <a:ext cx="19875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2e"/>
                </a:solidFill>
                <a:latin typeface="Arial"/>
              </a:rPr>
              <a:t>Other investor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D184-1BDA-4A41-806E-5B183EB93021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4160" y="1109160"/>
            <a:ext cx="86407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Possible scenario – example 3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2352600" y="2008080"/>
            <a:ext cx="4944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202e"/>
                </a:solidFill>
                <a:latin typeface="Arial"/>
              </a:rPr>
              <a:t>Your project? </a:t>
            </a:r>
            <a:endParaRPr b="0" lang="en-US" sz="80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9E42-7285-4F54-9E81-D7C3DCB0E5C7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4680" y="966600"/>
            <a:ext cx="849456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What is Swedfund?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grpSp>
        <p:nvGrpSpPr>
          <p:cNvPr id="132" name="Group 11"/>
          <p:cNvGrpSpPr/>
          <p:nvPr/>
        </p:nvGrpSpPr>
        <p:grpSpPr>
          <a:xfrm>
            <a:off x="1716120" y="2133720"/>
            <a:ext cx="4963680" cy="2315880"/>
            <a:chOff x="1716120" y="2133720"/>
            <a:chExt cx="4963680" cy="2315880"/>
          </a:xfrm>
        </p:grpSpPr>
        <p:sp>
          <p:nvSpPr>
            <p:cNvPr id="133" name="Oval 3"/>
            <p:cNvSpPr/>
            <p:nvPr/>
          </p:nvSpPr>
          <p:spPr>
            <a:xfrm>
              <a:off x="2820600" y="2133720"/>
              <a:ext cx="2908080" cy="1384200"/>
            </a:xfrm>
            <a:prstGeom prst="ellipse">
              <a:avLst/>
            </a:prstGeom>
            <a:gradFill rotWithShape="0">
              <a:gsLst>
                <a:gs pos="0">
                  <a:srgbClr val="e7d19a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2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2e"/>
                </a:solidFill>
                <a:latin typeface="Arial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>
              <a:off x="1716120" y="3065400"/>
              <a:ext cx="2908080" cy="1384200"/>
            </a:xfrm>
            <a:prstGeom prst="ellipse">
              <a:avLst/>
            </a:prstGeom>
            <a:gradFill rotWithShape="0">
              <a:gsLst>
                <a:gs pos="0">
                  <a:srgbClr val="e7d19a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2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2e"/>
                </a:solidFill>
                <a:latin typeface="Arial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>
              <a:off x="3771720" y="3065400"/>
              <a:ext cx="2908080" cy="1384200"/>
            </a:xfrm>
            <a:prstGeom prst="ellipse">
              <a:avLst/>
            </a:prstGeom>
            <a:gradFill rotWithShape="0">
              <a:gsLst>
                <a:gs pos="0">
                  <a:srgbClr val="e7d19a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002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202e"/>
                </a:solidFill>
                <a:latin typeface="Arial"/>
              </a:endParaRPr>
            </a:p>
          </p:txBody>
        </p:sp>
      </p:grpSp>
      <p:sp>
        <p:nvSpPr>
          <p:cNvPr id="136" name="Rectangle 6"/>
          <p:cNvSpPr/>
          <p:nvPr/>
        </p:nvSpPr>
        <p:spPr>
          <a:xfrm>
            <a:off x="1952640" y="3451320"/>
            <a:ext cx="1942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202e"/>
                </a:solidFill>
                <a:latin typeface="Arial"/>
              </a:rPr>
              <a:t>Swedish interest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017880" y="2465280"/>
            <a:ext cx="232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202e"/>
                </a:solidFill>
                <a:latin typeface="Arial"/>
              </a:rPr>
              <a:t>Partner (often Swedish company)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4678200" y="3460680"/>
            <a:ext cx="1494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202e"/>
                </a:solidFill>
                <a:latin typeface="Arial"/>
              </a:rPr>
              <a:t>Swedfund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1141560" y="4924440"/>
            <a:ext cx="6878520" cy="1111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202e"/>
                </a:solidFill>
                <a:latin typeface="Arial"/>
              </a:rPr>
              <a:t>Swedfund’s mission is to stimulate development on local markets through the private sector and also to promote Swedish interests. 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6005-849B-4AD4-AF2D-1C67DDA5C719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1" name="AutoShape 2"/>
          <p:cNvSpPr/>
          <p:nvPr/>
        </p:nvSpPr>
        <p:spPr>
          <a:xfrm>
            <a:off x="363600" y="3121200"/>
            <a:ext cx="1309680" cy="67608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2" y="0"/>
                </a:lnTo>
                <a:lnTo>
                  <a:pt x="21600" y="10800"/>
                </a:lnTo>
                <a:lnTo>
                  <a:pt x="195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ed196">
                  <a:alpha val="40000"/>
                </a:srgbClr>
              </a:gs>
              <a:gs pos="100000">
                <a:srgbClr val="fcf6ea"/>
              </a:gs>
            </a:gsLst>
            <a:lin ang="5400000"/>
          </a:gradFill>
          <a:ln w="1260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363600" y="1568520"/>
            <a:ext cx="1309680" cy="67608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2" y="0"/>
                </a:lnTo>
                <a:lnTo>
                  <a:pt x="21600" y="10800"/>
                </a:lnTo>
                <a:lnTo>
                  <a:pt x="195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ed196">
                  <a:alpha val="40000"/>
                </a:srgbClr>
              </a:gs>
              <a:gs pos="100000">
                <a:srgbClr val="fcf6ea"/>
              </a:gs>
            </a:gsLst>
            <a:lin ang="5400000"/>
          </a:gradFill>
          <a:ln w="1260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64600" y="966600"/>
            <a:ext cx="8494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Short facts about Swedfund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95280" y="1631880"/>
            <a:ext cx="11174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Owner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886040" y="1631880"/>
            <a:ext cx="28191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The Swedish state, 100 %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95280" y="3103560"/>
            <a:ext cx="11174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Number of employees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876320" y="3132000"/>
            <a:ext cx="4902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25, of which 10 investment managers and 3 lawyers</a:t>
            </a:r>
            <a:br>
              <a:rPr sz="1400"/>
            </a:b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363600" y="3913200"/>
            <a:ext cx="1309680" cy="67644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2" y="0"/>
                </a:lnTo>
                <a:lnTo>
                  <a:pt x="21600" y="10800"/>
                </a:lnTo>
                <a:lnTo>
                  <a:pt x="195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ed196">
                  <a:alpha val="40000"/>
                </a:srgbClr>
              </a:gs>
              <a:gs pos="100000">
                <a:srgbClr val="fcf6ea"/>
              </a:gs>
            </a:gsLst>
            <a:lin ang="5400000"/>
          </a:gradFill>
          <a:ln w="1260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395280" y="3890880"/>
            <a:ext cx="12081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Investment portfolio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1876320" y="3963960"/>
            <a:ext cx="67215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Currently 67 investments in 31 countries</a:t>
            </a: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Since the start in1979, Swedfund has done more than 180 investments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363600" y="4737240"/>
            <a:ext cx="1309680" cy="67608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2" y="0"/>
                </a:lnTo>
                <a:lnTo>
                  <a:pt x="21600" y="10800"/>
                </a:lnTo>
                <a:lnTo>
                  <a:pt x="195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ed196">
                  <a:alpha val="40000"/>
                </a:srgbClr>
              </a:gs>
              <a:gs pos="100000">
                <a:srgbClr val="fcf6ea"/>
              </a:gs>
            </a:gsLst>
            <a:lin ang="5400000"/>
          </a:gradFill>
          <a:ln w="1260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95280" y="4692600"/>
            <a:ext cx="12081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Investment horizon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1876320" y="4788000"/>
            <a:ext cx="57643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5-7 years</a:t>
            </a:r>
            <a:br>
              <a:rPr sz="1400"/>
            </a:b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4" name="AutoShape 15"/>
          <p:cNvSpPr/>
          <p:nvPr/>
        </p:nvSpPr>
        <p:spPr>
          <a:xfrm>
            <a:off x="363600" y="5543640"/>
            <a:ext cx="1309680" cy="67608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2" y="0"/>
                </a:lnTo>
                <a:lnTo>
                  <a:pt x="21600" y="10800"/>
                </a:lnTo>
                <a:lnTo>
                  <a:pt x="195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ed196">
                  <a:alpha val="40000"/>
                </a:srgbClr>
              </a:gs>
              <a:gs pos="100000">
                <a:srgbClr val="fcf6ea"/>
              </a:gs>
            </a:gsLst>
            <a:lin ang="5400000"/>
          </a:gradFill>
          <a:ln w="1260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395280" y="5643720"/>
            <a:ext cx="12081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1876320" y="5594400"/>
            <a:ext cx="57643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Clear ethical and environmental guidelines in every investment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363600" y="2320920"/>
            <a:ext cx="1309680" cy="67644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32" y="0"/>
                </a:lnTo>
                <a:lnTo>
                  <a:pt x="21600" y="10800"/>
                </a:lnTo>
                <a:lnTo>
                  <a:pt x="1953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ed196">
                  <a:alpha val="40000"/>
                </a:srgbClr>
              </a:gs>
              <a:gs pos="100000">
                <a:srgbClr val="fcf6ea"/>
              </a:gs>
            </a:gsLst>
            <a:lin ang="5400000"/>
          </a:gradFill>
          <a:ln w="1260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395280" y="2343240"/>
            <a:ext cx="12351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Geographic focus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1938240" y="2371680"/>
            <a:ext cx="5475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Africa 43 %, Eastern Europe 33 %, Asia 17 %, Latin America 7 %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538C-92A8-4C35-B107-0FC66F70C5E9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282600" y="966960"/>
            <a:ext cx="69231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Business model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 rot="19968600">
            <a:off x="2465280" y="2374920"/>
            <a:ext cx="486000" cy="392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1841400" y="1650960"/>
            <a:ext cx="1673280" cy="63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e51"/>
                </a:solidFill>
                <a:latin typeface="Arial"/>
              </a:rPr>
              <a:t>Swedfund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 rot="1729800">
            <a:off x="5513040" y="2382480"/>
            <a:ext cx="485640" cy="392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892760" y="1676520"/>
            <a:ext cx="1825560" cy="63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3e51"/>
                </a:solidFill>
                <a:latin typeface="Arial"/>
              </a:rPr>
              <a:t>Industrial partner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1125360" y="2819520"/>
            <a:ext cx="6486840" cy="3747960"/>
          </a:xfrm>
          <a:prstGeom prst="roundRect">
            <a:avLst>
              <a:gd name="adj" fmla="val 8440"/>
            </a:avLst>
          </a:prstGeom>
          <a:noFill/>
          <a:ln w="12600">
            <a:solidFill>
              <a:srgbClr val="003e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202e"/>
                </a:solidFill>
                <a:latin typeface="Arial"/>
              </a:rPr>
              <a:t>Portfolio company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1338120" y="3333600"/>
            <a:ext cx="579132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Aft>
                <a:spcPts val="1001"/>
              </a:spcAft>
              <a:buClr>
                <a:srgbClr val="003e51"/>
              </a:buClr>
              <a:buSzPct val="9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2e"/>
                </a:solidFill>
                <a:latin typeface="Arial"/>
              </a:rPr>
              <a:t>MSEK 5 – 130 per investment</a:t>
            </a:r>
            <a:r>
              <a:rPr b="0" lang="en-GB" sz="1800" spc="-1" strike="noStrike">
                <a:solidFill>
                  <a:srgbClr val="00202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266760" indent="-266760">
              <a:spcAft>
                <a:spcPts val="1001"/>
              </a:spcAft>
              <a:buClr>
                <a:srgbClr val="003e51"/>
              </a:buClr>
              <a:buSzPct val="9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2e"/>
                </a:solidFill>
                <a:latin typeface="Arial"/>
              </a:rPr>
              <a:t>Same or lower risk than industrial partner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266760" indent="-266760">
              <a:spcAft>
                <a:spcPts val="1001"/>
              </a:spcAft>
              <a:buClr>
                <a:srgbClr val="003e51"/>
              </a:buClr>
              <a:buSzPct val="9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2e"/>
                </a:solidFill>
                <a:latin typeface="Arial"/>
              </a:rPr>
              <a:t>Swedfund’s stake is typically 30 % of total investment 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266760" indent="-266760">
              <a:spcAft>
                <a:spcPts val="1001"/>
              </a:spcAft>
              <a:buClr>
                <a:srgbClr val="003e51"/>
              </a:buClr>
              <a:buSzPct val="9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2e"/>
                </a:solidFill>
                <a:latin typeface="Arial"/>
              </a:rPr>
              <a:t>Swedfund always minority owner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266760" indent="-266760">
              <a:spcAft>
                <a:spcPts val="1001"/>
              </a:spcAft>
              <a:buClr>
                <a:srgbClr val="003e51"/>
              </a:buClr>
              <a:buSzPct val="9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2e"/>
                </a:solidFill>
                <a:latin typeface="Arial"/>
              </a:rPr>
              <a:t>Active board participation if Swedfund invests in equity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266760" indent="-266760">
              <a:spcAft>
                <a:spcPts val="1001"/>
              </a:spcAft>
              <a:buClr>
                <a:srgbClr val="003e51"/>
              </a:buClr>
              <a:buSzPct val="90000"/>
              <a:buFont typeface="Wingdings" charset="2"/>
              <a:buChar char="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2e"/>
                </a:solidFill>
                <a:latin typeface="Arial"/>
              </a:rPr>
              <a:t>Investment horizon 5-7 years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2905200" y="2344680"/>
            <a:ext cx="2322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Invest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5904000" y="2344680"/>
            <a:ext cx="2322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Invests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DCFA-C88E-4142-91BD-932F40595466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7840" y="627120"/>
            <a:ext cx="899028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Swedfund offers risk capital and competence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606600" y="1765440"/>
            <a:ext cx="4400280" cy="4609800"/>
          </a:xfrm>
          <a:prstGeom prst="ellipse">
            <a:avLst/>
          </a:prstGeom>
          <a:solidFill>
            <a:srgbClr val="eece96">
              <a:alpha val="40000"/>
            </a:srgbClr>
          </a:soli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314720" y="1935000"/>
            <a:ext cx="3080520" cy="45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51"/>
                </a:solidFill>
                <a:latin typeface="Arial"/>
              </a:rPr>
              <a:t>Swedfund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2e"/>
                </a:solidFill>
                <a:latin typeface="Arial"/>
              </a:rPr>
              <a:t>Capital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Equity, 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Convertibles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Secured mortgages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Royalty loans 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Guarantees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Bef>
                <a:spcPts val="60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2e"/>
                </a:solidFill>
                <a:latin typeface="Arial"/>
              </a:rPr>
              <a:t>Competence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Finance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Legal assistance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Knows local markets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International network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spcAft>
                <a:spcPts val="601"/>
              </a:spcAft>
              <a:buClr>
                <a:srgbClr val="00202e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Credibility – the Swedish state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8b3d8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>
            <a:off x="4213080" y="1676520"/>
            <a:ext cx="4402440" cy="4610160"/>
          </a:xfrm>
          <a:prstGeom prst="ellipse">
            <a:avLst/>
          </a:prstGeom>
          <a:solidFill>
            <a:srgbClr val="eece96">
              <a:alpha val="40000"/>
            </a:srgbClr>
          </a:soli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51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51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03e51"/>
                </a:solidFill>
                <a:latin typeface="Arial"/>
              </a:rPr>
              <a:t>Industrial partner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1" marL="536400">
              <a:lnSpc>
                <a:spcPct val="120000"/>
              </a:lnSpc>
              <a:buClr>
                <a:srgbClr val="002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Sector know-how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lvl="1" marL="536400">
              <a:lnSpc>
                <a:spcPct val="120000"/>
              </a:lnSpc>
              <a:buClr>
                <a:srgbClr val="002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Commercial product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lvl="1" marL="536400">
              <a:lnSpc>
                <a:spcPct val="120000"/>
              </a:lnSpc>
              <a:buClr>
                <a:srgbClr val="002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Financial resources </a:t>
            </a:r>
            <a:endParaRPr b="0" lang="en-US" sz="1600" spc="-1" strike="noStrike">
              <a:solidFill>
                <a:srgbClr val="00202e"/>
              </a:solidFill>
              <a:latin typeface="Arial"/>
            </a:endParaRPr>
          </a:p>
          <a:p>
            <a:pPr lvl="1" marL="536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202e"/>
                </a:solidFill>
                <a:latin typeface="Arial"/>
              </a:rPr>
              <a:t>and management</a:t>
            </a:r>
            <a:r>
              <a:rPr b="0" lang="en-GB" sz="1800" spc="-1" strike="noStrike">
                <a:solidFill>
                  <a:srgbClr val="00202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FEC4-40B3-4AFC-AECF-B15B546E713D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76" name="AutoShape 2"/>
          <p:cNvSpPr/>
          <p:nvPr/>
        </p:nvSpPr>
        <p:spPr>
          <a:xfrm>
            <a:off x="2089080" y="5035680"/>
            <a:ext cx="4262400" cy="585720"/>
          </a:xfrm>
          <a:custGeom>
            <a:avLst/>
            <a:gdLst>
              <a:gd name="textAreaLeft" fmla="*/ 0 w 4262400"/>
              <a:gd name="textAreaRight" fmla="*/ 4262760 w 42624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7d19a">
                  <a:alpha val="60392"/>
                </a:srgbClr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600" y="956880"/>
            <a:ext cx="8494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Swedfund has an efficient investment process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33200" y="2871720"/>
            <a:ext cx="1605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202e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101600" y="2871720"/>
            <a:ext cx="1605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2 weeks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2693880" y="2871720"/>
            <a:ext cx="1605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4 weeks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341960" y="2871720"/>
            <a:ext cx="1604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2-4 weeks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016680" y="2871720"/>
            <a:ext cx="1604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2 weeks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33200" y="3513240"/>
            <a:ext cx="1605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202e"/>
                </a:solidFill>
                <a:latin typeface="Arial"/>
              </a:rPr>
              <a:t>Output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101600" y="3513240"/>
            <a:ext cx="1632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Assessment if possible</a:t>
            </a: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Market</a:t>
            </a: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Management</a:t>
            </a: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Financials</a:t>
            </a: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Size </a:t>
            </a: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- Etcetera</a:t>
            </a:r>
            <a:br>
              <a:rPr sz="1400"/>
            </a:b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2693880" y="3513240"/>
            <a:ext cx="1605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In-depth analysis of relevant aspects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4341960" y="3513240"/>
            <a:ext cx="17589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Independent assessment of financials, legal aspects etcetera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6016680" y="3513240"/>
            <a:ext cx="1604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Decision by Swedfund’s board based on screening and due diligence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2206800" y="5089680"/>
            <a:ext cx="44114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202e"/>
                </a:solidFill>
                <a:latin typeface="Arial"/>
              </a:rPr>
              <a:t>Total investment process around two  months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5986440" y="1812960"/>
            <a:ext cx="1935360" cy="939600"/>
          </a:xfrm>
          <a:custGeom>
            <a:avLst/>
            <a:gdLst>
              <a:gd name="textAreaLeft" fmla="*/ 0 w 1935360"/>
              <a:gd name="textAreaRight" fmla="*/ 1935720 w 193536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7d19a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4329000" y="1812960"/>
            <a:ext cx="1935360" cy="939600"/>
          </a:xfrm>
          <a:custGeom>
            <a:avLst/>
            <a:gdLst>
              <a:gd name="textAreaLeft" fmla="*/ 0 w 1935360"/>
              <a:gd name="textAreaRight" fmla="*/ 1935720 w 193536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7d19a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1" name="AutoShape 13"/>
          <p:cNvSpPr/>
          <p:nvPr/>
        </p:nvSpPr>
        <p:spPr>
          <a:xfrm>
            <a:off x="2671920" y="1812960"/>
            <a:ext cx="1935000" cy="939600"/>
          </a:xfrm>
          <a:custGeom>
            <a:avLst/>
            <a:gdLst>
              <a:gd name="textAreaLeft" fmla="*/ 0 w 1935000"/>
              <a:gd name="textAreaRight" fmla="*/ 1935360 w 193500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7d19a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3241800" y="2048040"/>
            <a:ext cx="1604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202e"/>
                </a:solidFill>
                <a:latin typeface="Arial"/>
              </a:rPr>
              <a:t>Screening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3" name="Rectangle 17"/>
          <p:cNvSpPr/>
          <p:nvPr/>
        </p:nvSpPr>
        <p:spPr>
          <a:xfrm>
            <a:off x="4794120" y="2048040"/>
            <a:ext cx="1605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202e"/>
                </a:solidFill>
                <a:latin typeface="Arial"/>
              </a:rPr>
              <a:t>Due diligence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>
            <a:off x="6378480" y="2048040"/>
            <a:ext cx="16048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202e"/>
                </a:solidFill>
                <a:latin typeface="Arial"/>
              </a:rPr>
              <a:t>Board decision process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5" name="AutoShape 14"/>
          <p:cNvSpPr/>
          <p:nvPr/>
        </p:nvSpPr>
        <p:spPr>
          <a:xfrm>
            <a:off x="1015920" y="1812960"/>
            <a:ext cx="1935360" cy="939600"/>
          </a:xfrm>
          <a:custGeom>
            <a:avLst/>
            <a:gdLst>
              <a:gd name="textAreaLeft" fmla="*/ 0 w 1935360"/>
              <a:gd name="textAreaRight" fmla="*/ 1935720 w 193536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7d19a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eed1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101600" y="2048040"/>
            <a:ext cx="16052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202e"/>
                </a:solidFill>
                <a:latin typeface="Arial"/>
              </a:rPr>
              <a:t>Initial assessment</a:t>
            </a:r>
            <a:endParaRPr b="0" lang="en-US" sz="12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597F-0023-492D-B991-A21F7E137448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4600" y="975960"/>
            <a:ext cx="8494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Swedfund in Russia – a few examples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666720" y="1320840"/>
            <a:ext cx="2266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202e"/>
                </a:solidFill>
                <a:latin typeface="Arial"/>
              </a:rPr>
              <a:t>Investment</a:t>
            </a:r>
            <a:r>
              <a:rPr b="1" lang="sv-SE" sz="1400" spc="-1" strike="noStrike">
                <a:solidFill>
                  <a:srgbClr val="00202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002040" y="1320840"/>
            <a:ext cx="2266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202e"/>
                </a:solidFill>
                <a:latin typeface="Arial"/>
              </a:rPr>
              <a:t>Sector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318280" y="1320840"/>
            <a:ext cx="2266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202e"/>
                </a:solidFill>
                <a:latin typeface="Arial"/>
              </a:rPr>
              <a:t>Partner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731880" y="1855800"/>
            <a:ext cx="2133720" cy="0"/>
          </a:xfrm>
          <a:prstGeom prst="line">
            <a:avLst/>
          </a:prstGeom>
          <a:ln w="936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3065400" y="1855800"/>
            <a:ext cx="2133720" cy="0"/>
          </a:xfrm>
          <a:prstGeom prst="line">
            <a:avLst/>
          </a:prstGeom>
          <a:ln w="936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5391000" y="1855800"/>
            <a:ext cx="2133720" cy="0"/>
          </a:xfrm>
          <a:prstGeom prst="line">
            <a:avLst/>
          </a:prstGeom>
          <a:ln w="936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666720" y="1909800"/>
            <a:ext cx="2266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Volgastrap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Melon Fashion Group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Pervomayskaya Zarya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Min o Min 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Advakom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Nordrus Hotel Holdings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LCC Nordvod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Teligent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3002040" y="1909800"/>
            <a:ext cx="2266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Steel strap production</a:t>
            </a: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	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Retail / fashion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Business centre</a:t>
            </a: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	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Retail / haircare 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Subsupplier IT/Telecom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Hotel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Water treatment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Telecom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5318280" y="1909800"/>
            <a:ext cx="2266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Specta Group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Kellermann /East Cap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Kellermann/East Cap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Min o Min, Scope Capital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Private investors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Rezidor SAS Hospitality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Skanska/NCC</a:t>
            </a:r>
            <a:br>
              <a:rPr sz="1400"/>
            </a:br>
            <a:br>
              <a:rPr sz="1400"/>
            </a:b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Teligent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6FB3-C392-4841-A3F5-0904E46CE99A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95200" y="982440"/>
            <a:ext cx="8035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Steel strap production in Kostroma, Russia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12840" y="1823760"/>
            <a:ext cx="42037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2e"/>
                </a:solidFill>
                <a:latin typeface="Arial"/>
              </a:rPr>
              <a:t>Volgastrap, Russia</a:t>
            </a:r>
            <a:endParaRPr b="0" lang="en-US" sz="2400" spc="-1" strike="noStrike">
              <a:solidFill>
                <a:srgbClr val="00202e"/>
              </a:solidFill>
              <a:latin typeface="Arial"/>
            </a:endParaRPr>
          </a:p>
          <a:p>
            <a:pPr marL="1760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2e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Steel strap production for industrial clients (2005)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Industrial partner: Specta Group AG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Total investment: 19.1  MEUR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1" marL="530280" indent="-174600">
              <a:lnSpc>
                <a:spcPct val="110000"/>
              </a:lnSpc>
              <a:buClr>
                <a:srgbClr val="002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Secured loans 11.7 MEUR (SF, FF, IMB)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  <a:p>
            <a:pPr lvl="1" marL="530280" indent="-174600">
              <a:lnSpc>
                <a:spcPct val="110000"/>
              </a:lnSpc>
              <a:buClr>
                <a:srgbClr val="0020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2e"/>
                </a:solidFill>
                <a:latin typeface="Arial"/>
              </a:rPr>
              <a:t>Equity 7.4 MEUR (Specta, SF, FF*)</a:t>
            </a:r>
            <a:endParaRPr b="0" lang="en-US" sz="2000" spc="-1" strike="noStrike">
              <a:solidFill>
                <a:srgbClr val="00202e"/>
              </a:solidFill>
              <a:latin typeface="Arial"/>
            </a:endParaRPr>
          </a:p>
        </p:txBody>
      </p:sp>
      <p:pic>
        <p:nvPicPr>
          <p:cNvPr id="211" name="Picture 4" descr="1635_08"/>
          <p:cNvPicPr/>
          <p:nvPr/>
        </p:nvPicPr>
        <p:blipFill>
          <a:blip r:embed="rId1"/>
          <a:stretch/>
        </p:blipFill>
        <p:spPr>
          <a:xfrm>
            <a:off x="469800" y="1882800"/>
            <a:ext cx="4102200" cy="3819600"/>
          </a:xfrm>
          <a:prstGeom prst="rect">
            <a:avLst/>
          </a:prstGeom>
          <a:ln w="76320">
            <a:solidFill>
              <a:srgbClr val="e7d19a"/>
            </a:solidFill>
            <a:miter/>
          </a:ln>
        </p:spPr>
      </p:pic>
      <p:sp>
        <p:nvSpPr>
          <p:cNvPr id="212" name="Rectangle 5"/>
          <p:cNvSpPr/>
          <p:nvPr/>
        </p:nvSpPr>
        <p:spPr>
          <a:xfrm>
            <a:off x="295200" y="6130800"/>
            <a:ext cx="80359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202e"/>
                </a:solidFill>
                <a:latin typeface="Arial"/>
              </a:rPr>
              <a:t>SF=Swedfund, FF=Finnfund, IMB=International Moscow Bank</a:t>
            </a:r>
            <a:endParaRPr b="0" lang="en-US" sz="14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668E-6470-4325-8A8F-311304019D85}" type="slidenum">
              <a:rPr b="0" lang="sv-SE" sz="700" spc="-1" strike="noStrike">
                <a:solidFill>
                  <a:srgbClr val="00202e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4160" y="1109160"/>
            <a:ext cx="86407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202e"/>
                </a:solidFill>
                <a:latin typeface="Arial"/>
              </a:rPr>
              <a:t>Swedfund is increasing its focus on energy efficiency and renewables</a:t>
            </a:r>
            <a:endParaRPr b="0" lang="en-US" sz="2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76200" y="2344320"/>
            <a:ext cx="6329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12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2e"/>
                </a:solidFill>
                <a:latin typeface="Arial"/>
              </a:rPr>
              <a:t>Only investments in non-public companies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2e"/>
                </a:solidFill>
                <a:latin typeface="Arial"/>
              </a:rPr>
              <a:t>Joint Venture with public company possible 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2e"/>
                </a:solidFill>
                <a:latin typeface="Arial"/>
              </a:rPr>
              <a:t>Swedish interest in terms of equipment almost always necessary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2e"/>
                </a:solidFill>
                <a:latin typeface="Arial"/>
              </a:rPr>
              <a:t>As usual, Swedfund’s stake part of financing not more than 30-40 %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-176040">
              <a:lnSpc>
                <a:spcPct val="120000"/>
              </a:lnSpc>
              <a:buClr>
                <a:srgbClr val="00202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2e"/>
                </a:solidFill>
                <a:latin typeface="Arial"/>
              </a:rPr>
              <a:t>Equity financing priority 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  <a:p>
            <a:pPr marL="176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76200" y="1673280"/>
            <a:ext cx="808992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040" indent="-1760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2e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30200" y="2017800"/>
            <a:ext cx="5083200" cy="0"/>
          </a:xfrm>
          <a:prstGeom prst="line">
            <a:avLst/>
          </a:prstGeom>
          <a:ln w="9360">
            <a:solidFill>
              <a:srgbClr val="00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2e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4:34:52Z</dcterms:created>
  <dc:creator>.</dc:creator>
  <dc:description/>
  <dc:language>en-US</dc:language>
  <cp:lastModifiedBy>o</cp:lastModifiedBy>
  <dcterms:modified xsi:type="dcterms:W3CDTF">2008-01-04T12:05:10Z</dcterms:modified>
  <cp:revision>53</cp:revision>
  <dc:subject/>
  <dc:title>Bild 1</dc:title>
</cp:coreProperties>
</file>