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047-7CA0-4412-828C-E7FA559F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C50-718A-43A2-B610-D144F5A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2A0-53DD-4A96-A2F7-87B8BD46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F04-9620-4EF8-8232-298DE187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ED1-3ACC-4334-B43D-D58247D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F14-AD7B-4664-9E7D-29B2C50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435-C732-473F-A557-7AC80D2B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EB1-FB76-41E7-82E0-7250165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9AF-2D67-4C4A-B023-5734519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EAD-F483-47C3-8F87-BF917E5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8BE-79EC-4F72-BA17-DAB3D41F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39A-8784-469C-B0D5-7C10B27A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2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e7d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2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91DB-BB60-4FDF-85B2-F55D9421C2D6}" type="slidenum">
              <a:rPr b="0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44560" y="0"/>
            <a:ext cx="25704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171360" y="1440"/>
            <a:ext cx="2574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7" name="Picture 13" descr="bar2"/>
          <p:cNvPicPr/>
          <p:nvPr/>
        </p:nvPicPr>
        <p:blipFill>
          <a:blip r:embed="rId2"/>
          <a:stretch/>
        </p:blipFill>
        <p:spPr>
          <a:xfrm>
            <a:off x="0" y="177840"/>
            <a:ext cx="8588520" cy="523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Swedfund_sybol"/>
          <p:cNvPicPr/>
          <p:nvPr/>
        </p:nvPicPr>
        <p:blipFill>
          <a:blip r:embed="rId3"/>
          <a:stretch/>
        </p:blipFill>
        <p:spPr>
          <a:xfrm>
            <a:off x="6978600" y="247680"/>
            <a:ext cx="2017800" cy="357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5" descr="globe70"/>
          <p:cNvPicPr/>
          <p:nvPr/>
        </p:nvPicPr>
        <p:blipFill>
          <a:blip r:embed="rId4"/>
          <a:stretch/>
        </p:blipFill>
        <p:spPr>
          <a:xfrm>
            <a:off x="244440" y="98280"/>
            <a:ext cx="8002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844560" y="0"/>
            <a:ext cx="25704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1360" y="1440"/>
            <a:ext cx="2574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86" name="Picture 10" descr="bar2"/>
          <p:cNvPicPr/>
          <p:nvPr/>
        </p:nvPicPr>
        <p:blipFill>
          <a:blip r:embed="rId2"/>
          <a:stretch/>
        </p:blipFill>
        <p:spPr>
          <a:xfrm>
            <a:off x="0" y="177840"/>
            <a:ext cx="85885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wedfund_sybol"/>
          <p:cNvPicPr/>
          <p:nvPr/>
        </p:nvPicPr>
        <p:blipFill>
          <a:blip r:embed="rId3"/>
          <a:stretch/>
        </p:blipFill>
        <p:spPr>
          <a:xfrm>
            <a:off x="6978600" y="247680"/>
            <a:ext cx="201780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globe70"/>
          <p:cNvPicPr/>
          <p:nvPr/>
        </p:nvPicPr>
        <p:blipFill>
          <a:blip r:embed="rId4"/>
          <a:stretch/>
        </p:blipFill>
        <p:spPr>
          <a:xfrm>
            <a:off x="244440" y="98280"/>
            <a:ext cx="80028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2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e7d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2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193C-E87A-4E57-89D5-59BA32658975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128" name="Picture 2" descr="Swedfund_sybol_NTNM_outlines"/>
          <p:cNvPicPr/>
          <p:nvPr/>
        </p:nvPicPr>
        <p:blipFill>
          <a:blip r:embed="rId1"/>
          <a:stretch/>
        </p:blipFill>
        <p:spPr>
          <a:xfrm>
            <a:off x="1141560" y="1838160"/>
            <a:ext cx="6924600" cy="1971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9000" y="49352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November 2007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486-E34C-4D2F-A13E-95CA2A0DF7DA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084400" y="5365800"/>
            <a:ext cx="5014800" cy="752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944640" y="3613320"/>
            <a:ext cx="1868400" cy="1236600"/>
          </a:xfrm>
          <a:prstGeom prst="rightArrow">
            <a:avLst>
              <a:gd name="adj1" fmla="val 50000"/>
              <a:gd name="adj2" fmla="val 37773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208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2848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1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647720" y="22636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Vodokan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211720" y="22636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478320" y="3603600"/>
            <a:ext cx="19098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27" name="AutoShape 12"/>
          <p:cNvCxnSpPr>
            <a:stCxn id="221" idx="2"/>
            <a:endCxn id="226" idx="0"/>
          </p:cNvCxnSpPr>
          <p:nvPr/>
        </p:nvCxnSpPr>
        <p:spPr>
          <a:xfrm flipH="1" rot="16200000">
            <a:off x="3214440" y="2385000"/>
            <a:ext cx="565920" cy="187236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cxnSp>
        <p:nvCxnSpPr>
          <p:cNvPr id="228" name="AutoShape 13"/>
          <p:cNvCxnSpPr>
            <a:stCxn id="222" idx="2"/>
            <a:endCxn id="226" idx="0"/>
          </p:cNvCxnSpPr>
          <p:nvPr/>
        </p:nvCxnSpPr>
        <p:spPr>
          <a:xfrm rot="5400000">
            <a:off x="4996440" y="2474640"/>
            <a:ext cx="565920" cy="169308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29" name="Rectangle 10"/>
          <p:cNvSpPr/>
          <p:nvPr/>
        </p:nvSpPr>
        <p:spPr>
          <a:xfrm>
            <a:off x="3570120" y="374004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New production company (bio-gas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26836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65 % equity*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58136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35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0" y="6391440"/>
            <a:ext cx="494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2e"/>
                </a:solidFill>
                <a:latin typeface="Arial"/>
              </a:rPr>
              <a:t>* In-kind contribution partly possibl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109520" y="3879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an financing, bank or oth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4" name="AutoShape 20"/>
          <p:cNvSpPr/>
          <p:nvPr/>
        </p:nvSpPr>
        <p:spPr>
          <a:xfrm rot="10800000">
            <a:off x="6054840" y="3612960"/>
            <a:ext cx="1868400" cy="1236600"/>
          </a:xfrm>
          <a:prstGeom prst="rightArrow">
            <a:avLst>
              <a:gd name="adj1" fmla="val 50000"/>
              <a:gd name="adj2" fmla="val 37773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6562800" y="3994200"/>
            <a:ext cx="1557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2239920" y="5425920"/>
            <a:ext cx="4987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’s exit e.g., through buy-back of shares or exit through partner (Vodokanal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F98F-9555-421B-8671-628F5D4F711E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084400" y="5162400"/>
            <a:ext cx="5014800" cy="100836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74560" y="3473280"/>
            <a:ext cx="1868760" cy="1236960"/>
          </a:xfrm>
          <a:prstGeom prst="rightArrow">
            <a:avLst>
              <a:gd name="adj1" fmla="val 50000"/>
              <a:gd name="adj2" fmla="val 37769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2492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49296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2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14768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cal, private compan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895560" y="36036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45" name="AutoShape 10"/>
          <p:cNvCxnSpPr>
            <a:stCxn id="246" idx="2"/>
            <a:endCxn id="244" idx="0"/>
          </p:cNvCxnSpPr>
          <p:nvPr/>
        </p:nvCxnSpPr>
        <p:spPr>
          <a:xfrm flipH="1">
            <a:off x="4736520" y="3038400"/>
            <a:ext cx="1080" cy="565920"/>
          </a:xfrm>
          <a:prstGeom prst="straightConnector1">
            <a:avLst/>
          </a:prstGeom>
          <a:ln w="9360">
            <a:solidFill>
              <a:srgbClr val="00202e"/>
            </a:solidFill>
            <a:miter/>
          </a:ln>
        </p:spPr>
      </p:cxnSp>
      <p:cxnSp>
        <p:nvCxnSpPr>
          <p:cNvPr id="247" name="AutoShape 11"/>
          <p:cNvCxnSpPr>
            <a:stCxn id="241" idx="2"/>
            <a:endCxn id="244" idx="0"/>
          </p:cNvCxnSpPr>
          <p:nvPr/>
        </p:nvCxnSpPr>
        <p:spPr>
          <a:xfrm rot="5400000">
            <a:off x="5752440" y="2022480"/>
            <a:ext cx="565920" cy="259776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48" name="Rectangle 12"/>
          <p:cNvSpPr/>
          <p:nvPr/>
        </p:nvSpPr>
        <p:spPr>
          <a:xfrm>
            <a:off x="3971880" y="366876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New production company (bio-diesel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692360" y="2952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6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628812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2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0" y="6391440"/>
            <a:ext cx="494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2e"/>
                </a:solidFill>
                <a:latin typeface="Arial"/>
              </a:rPr>
              <a:t>* In-kind contribution partly possibl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11360" y="37432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an financing, bank or oth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 rot="10800000">
            <a:off x="6630480" y="3612960"/>
            <a:ext cx="1868760" cy="1236600"/>
          </a:xfrm>
          <a:prstGeom prst="rightArrow">
            <a:avLst>
              <a:gd name="adj1" fmla="val 50000"/>
              <a:gd name="adj2" fmla="val 37780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7122960" y="3895560"/>
            <a:ext cx="1314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ish equipment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211480" y="5200560"/>
            <a:ext cx="4987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’s exit e.g., through trade sale or exit through local partn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93600" indent="-9360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Industrial expertise of local company, cruci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389556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83220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4305240" y="2952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2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58" name="AutoShape 23"/>
          <p:cNvCxnSpPr>
            <a:stCxn id="240" idx="2"/>
            <a:endCxn id="244" idx="0"/>
          </p:cNvCxnSpPr>
          <p:nvPr/>
        </p:nvCxnSpPr>
        <p:spPr>
          <a:xfrm flipH="1" rot="16200000">
            <a:off x="3130560" y="1997640"/>
            <a:ext cx="565920" cy="264708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59" name="Rectangle 24"/>
          <p:cNvSpPr/>
          <p:nvPr/>
        </p:nvSpPr>
        <p:spPr>
          <a:xfrm>
            <a:off x="636732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Other investo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DD3-59C4-465B-8CDA-A4A202D4854E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3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2352600" y="2008080"/>
            <a:ext cx="4944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2e"/>
                </a:solidFill>
                <a:latin typeface="Arial"/>
              </a:rPr>
              <a:t>Your project? </a:t>
            </a:r>
            <a:endParaRPr b="0" lang="en-US" sz="8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1014-735B-4E2A-A051-CF4D1338AFF8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680" y="966600"/>
            <a:ext cx="849456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What is Swedfund?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1716120" y="2133720"/>
            <a:ext cx="4963680" cy="2315880"/>
            <a:chOff x="1716120" y="2133720"/>
            <a:chExt cx="4963680" cy="2315880"/>
          </a:xfrm>
        </p:grpSpPr>
        <p:sp>
          <p:nvSpPr>
            <p:cNvPr id="133" name="Oval 3"/>
            <p:cNvSpPr/>
            <p:nvPr/>
          </p:nvSpPr>
          <p:spPr>
            <a:xfrm>
              <a:off x="2820600" y="213372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>
              <a:off x="1716120" y="306540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>
              <a:off x="3771720" y="306540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</p:grpSp>
      <p:sp>
        <p:nvSpPr>
          <p:cNvPr id="136" name="Rectangle 6"/>
          <p:cNvSpPr/>
          <p:nvPr/>
        </p:nvSpPr>
        <p:spPr>
          <a:xfrm>
            <a:off x="1952640" y="3451320"/>
            <a:ext cx="1942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Swedish interes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017880" y="2465280"/>
            <a:ext cx="232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Partner (often Swedish company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678200" y="3460680"/>
            <a:ext cx="1494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141560" y="4924440"/>
            <a:ext cx="6878520" cy="111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202e"/>
                </a:solidFill>
                <a:latin typeface="Arial"/>
              </a:rPr>
              <a:t>Swedfund’s mission is to stimulate development on local markets through the private sector and also to promote Swedish interests.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6199-6B30-496E-840D-6D71290E927F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363600" y="312120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63600" y="156852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4600" y="96660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hort facts about Swedfund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631880"/>
            <a:ext cx="1117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886040" y="1631880"/>
            <a:ext cx="2819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he Swedish state, 100 %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5280" y="3103560"/>
            <a:ext cx="1117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Number of employee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876320" y="3132000"/>
            <a:ext cx="490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5, of which 10 investment managers and 3 lawyers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363600" y="3913200"/>
            <a:ext cx="1309680" cy="6764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95280" y="389088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ment portfolio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876320" y="3963960"/>
            <a:ext cx="67215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Currently 67 investments in 31 countries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Since the start in1979, Swedfund has done more than 180 investment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363600" y="473724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95280" y="469260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ment horizon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1876320" y="4788000"/>
            <a:ext cx="576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5-7 years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363600" y="554364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395280" y="564372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876320" y="5594400"/>
            <a:ext cx="576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Clear ethical and environmental guidelines in every investment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63600" y="2320920"/>
            <a:ext cx="1309680" cy="6764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395280" y="2343240"/>
            <a:ext cx="1235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Geographic focu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1938240" y="2371680"/>
            <a:ext cx="547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frica 43 %, Eastern Europe 33 %, Asia 17 %, Latin America 7 %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1C0-0AAB-4285-AE62-63A478E4DA7D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82600" y="966960"/>
            <a:ext cx="6923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Business model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 rot="19968600">
            <a:off x="2465280" y="2374920"/>
            <a:ext cx="486000" cy="392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841400" y="1650960"/>
            <a:ext cx="1673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e51"/>
                </a:solidFill>
                <a:latin typeface="Arial"/>
              </a:rPr>
              <a:t>Swedfund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 rot="1729800">
            <a:off x="5513040" y="2382480"/>
            <a:ext cx="485640" cy="392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892760" y="1676520"/>
            <a:ext cx="182556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e51"/>
                </a:solidFill>
                <a:latin typeface="Arial"/>
              </a:rPr>
              <a:t>Industrial partne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1125360" y="2819520"/>
            <a:ext cx="6486840" cy="3747960"/>
          </a:xfrm>
          <a:prstGeom prst="roundRect">
            <a:avLst>
              <a:gd name="adj" fmla="val 8440"/>
            </a:avLst>
          </a:prstGeom>
          <a:noFill/>
          <a:ln w="12600">
            <a:solidFill>
              <a:srgbClr val="003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202e"/>
                </a:solidFill>
                <a:latin typeface="Arial"/>
              </a:rPr>
              <a:t>Portfolio company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338120" y="3333600"/>
            <a:ext cx="579132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MSEK 5 – 130 per investment</a:t>
            </a: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ame or lower risk than industrial partner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wedfund’s stake is typically 30 % of total investment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wedfund always minority owner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Active board participation if Swedfund invests in equity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Investment horizon 5-7 year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2905200" y="2344680"/>
            <a:ext cx="232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904000" y="2344680"/>
            <a:ext cx="232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3636-2001-4DB0-A19E-90C6355A1BC5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7840" y="627120"/>
            <a:ext cx="899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offers risk capital and competence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606600" y="1765440"/>
            <a:ext cx="4400280" cy="4609800"/>
          </a:xfrm>
          <a:prstGeom prst="ellipse">
            <a:avLst/>
          </a:prstGeom>
          <a:solidFill>
            <a:srgbClr val="eece96">
              <a:alpha val="40000"/>
            </a:srgbClr>
          </a:soli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314720" y="1935000"/>
            <a:ext cx="308052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Swedfund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2e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Equity,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onvertibl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Secured mortgag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Royalty loans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Guarante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2e"/>
                </a:solidFill>
                <a:latin typeface="Arial"/>
              </a:rPr>
              <a:t>Compete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Legal assista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Knows local market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International network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redibility – the Swedish stat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b3d8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4213080" y="1676520"/>
            <a:ext cx="4402440" cy="4610160"/>
          </a:xfrm>
          <a:prstGeom prst="ellipse">
            <a:avLst/>
          </a:prstGeom>
          <a:solidFill>
            <a:srgbClr val="eece96">
              <a:alpha val="40000"/>
            </a:srgbClr>
          </a:soli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Industrial partne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Sector know-how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ommercial produc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Financial resources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and management</a:t>
            </a: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A05-61B5-4412-AA8B-5E37944B7298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2089080" y="5035680"/>
            <a:ext cx="4262400" cy="58572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600" y="95688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has an efficient investment proces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3320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10160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69388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341960" y="287172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-4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16680" y="287172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33200" y="35132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101600" y="3513240"/>
            <a:ext cx="1632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ssessment if possible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Market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Management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Financials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Size 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Etcetera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693880" y="35132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-depth analysis of relevant aspect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4341960" y="3513240"/>
            <a:ext cx="1758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dependent assessment of financials, legal aspects etcetera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6016680" y="35132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Decision by Swedfund’s board based on screening and due diligence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06800" y="5089680"/>
            <a:ext cx="4411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Total investment process around two  months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598644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432900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2671920" y="1812960"/>
            <a:ext cx="1935000" cy="93960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241800" y="20480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Screening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794120" y="20480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Due diligenc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6378480" y="20480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Board decision process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101592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01600" y="20480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Initial assessment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D67-DC75-49D7-AFBE-78CFEAB6A288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600" y="97596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in Russia – a few example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6672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Investment</a:t>
            </a: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0204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Secto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1828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Partn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73188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06540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39100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6672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Volgastr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elon Fashion Grou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Pervomayskaya Zarya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in o Min 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dvakom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Nordrus Hotel Holdings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LCC Nordvod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igen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00204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teel strap production</a:t>
            </a: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tail / fashion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Business centre</a:t>
            </a: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tail / haircare 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ubsupplier IT/Telecom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Hotel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Water treatment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531828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pecta Grou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Kellermann /East C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Kellermann/East C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in o Min, Scope Capital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Private investors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zidor SAS Hospitality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kanska/NCC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igent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DB7-3A74-40F9-9C44-9BDC985D449E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5200" y="982440"/>
            <a:ext cx="8035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teel strap production in Kostroma, Russia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12840" y="1823760"/>
            <a:ext cx="42037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2e"/>
                </a:solidFill>
                <a:latin typeface="Arial"/>
              </a:rPr>
              <a:t>Volgastrap, Russia</a:t>
            </a:r>
            <a:endParaRPr b="0" lang="en-US" sz="24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teel strap production for industrial clients (2005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Industrial partner: Specta Group AG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otal investment: 19.1  MEU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1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ured loans 11.7 MEUR (SF, FF, IMB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1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Equity 7.4 MEUR (Specta, SF, FF*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211" name="Picture 4" descr="1635_08"/>
          <p:cNvPicPr/>
          <p:nvPr/>
        </p:nvPicPr>
        <p:blipFill>
          <a:blip r:embed="rId1"/>
          <a:stretch/>
        </p:blipFill>
        <p:spPr>
          <a:xfrm>
            <a:off x="469800" y="1882800"/>
            <a:ext cx="4102200" cy="3819600"/>
          </a:xfrm>
          <a:prstGeom prst="rect">
            <a:avLst/>
          </a:prstGeom>
          <a:ln w="76320">
            <a:solidFill>
              <a:srgbClr val="e7d19a"/>
            </a:solidFill>
            <a:miter/>
          </a:ln>
        </p:spPr>
      </p:pic>
      <p:sp>
        <p:nvSpPr>
          <p:cNvPr id="212" name="Rectangle 5"/>
          <p:cNvSpPr/>
          <p:nvPr/>
        </p:nvSpPr>
        <p:spPr>
          <a:xfrm>
            <a:off x="295200" y="6130800"/>
            <a:ext cx="803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F=Swedfund, FF=Finnfund, IMB=International Moscow Bank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EB0-82CC-4AF5-A5AA-627F7A9E89A9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is increasing its focus on energy efficiency and renewable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76200" y="2344320"/>
            <a:ext cx="6329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Only investments in non-public companie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Joint Venture with public company possible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Swedish interest in terms of equipment almost always necessary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As usual, Swedfund’s stake part of financing not more than 30-40 %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Equity financing priority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76200" y="1673280"/>
            <a:ext cx="80899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30200" y="2017800"/>
            <a:ext cx="508320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4:34:52Z</dcterms:created>
  <dc:creator>.</dc:creator>
  <dc:description/>
  <dc:language>en-US</dc:language>
  <cp:lastModifiedBy>o</cp:lastModifiedBy>
  <dcterms:modified xsi:type="dcterms:W3CDTF">2008-01-04T12:05:10Z</dcterms:modified>
  <cp:revision>53</cp:revision>
  <dc:subject/>
  <dc:title>Bild 1</dc:title>
</cp:coreProperties>
</file>