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933113" cy="8002588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880-7270-40F9-B564-50AEAD69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984240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120" y="4624920"/>
            <a:ext cx="984240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D19-FD09-46AE-8978-77AE4C77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4612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8936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1B5-FEE3-48A2-BFE7-5579B7EE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3960" y="186660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01800" y="186660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6120" y="462492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3960" y="462492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01800" y="4624920"/>
            <a:ext cx="316908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C7A-0AC6-4DA8-9E36-C29347E8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46120" y="1866600"/>
            <a:ext cx="9842400" cy="52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909-DC2B-423D-8FF5-A45388F7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984240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1C0-48E9-4388-AE6E-FBF9BF55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DBD-8774-46E7-B9FF-DB2C01A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D10-52FB-45E5-B763-CF6DAB0C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6120" y="320760"/>
            <a:ext cx="98424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34E-FC5D-4F3B-971E-9B116F55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4612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5C1-9925-4637-8CF3-F0F767F4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9360" y="462492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6D1-AA6F-42B1-890B-FD99ED47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4612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89360" y="1866600"/>
            <a:ext cx="480276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46120" y="4624920"/>
            <a:ext cx="9842400" cy="25185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1CE-5A86-41A8-A0B2-484B2BB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6120" y="32076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6120" y="1866600"/>
            <a:ext cx="9842400" cy="5280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27000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93960" indent="-271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35400" indent="-2718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35400" indent="-2718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35400" indent="-2718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5760" y="7286400"/>
            <a:ext cx="2552760" cy="555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sv-SE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5360" y="7286400"/>
            <a:ext cx="3463920" cy="555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sv-SE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sv-SE" sz="1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5400" y="7286400"/>
            <a:ext cx="2552760" cy="555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lang="sv-SE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25FE4D7E-3971-496F-B840-42E98E759C71}" type="slidenum">
              <a:rPr b="0" lang="sv-SE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10934640" cy="800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9296640" cy="13716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cc00"/>
                </a:solidFill>
                <a:latin typeface="Arial"/>
              </a:rPr>
              <a:t>Nordic Environment Finance Corporation (NEFCO)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www.nefco.or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06600" y="5872320"/>
            <a:ext cx="8209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NEFCO investment Fund. Priorities in financing. Projects and experience in Russia and Ukra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Narrow"/>
              </a:rPr>
              <a:t>MINSK December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6240" y="1839960"/>
            <a:ext cx="95281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normAutofit fontScale="95000"/>
          </a:bodyPr>
          <a:p>
            <a:pPr marL="385920" indent="-385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ypical projects financed by NEFCO special purpose 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efficiency and energy savings measures in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el switch from fossil fuel to renewable fuel and energy efficiency measures in boiler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fficient production technology in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y savings measures in schools, hospital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mp renewal projects in Vodokanals and D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t exchangers in DH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et ligh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609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Special Purpose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2240" y="112068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Summary of NEFCO:s activiti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5320" y="2847960"/>
            <a:ext cx="8425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Russia - 157 projects since 19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59 ongoing, 48 in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34 completed, 16 dis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Ukraine - 46 projects sinc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12 ongoing, 32 in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1 completed, 1 dis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2240" y="1120680"/>
            <a:ext cx="984240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Summary of NEFCO:s activities</a:t>
            </a:r>
            <a:br>
              <a:rPr sz="5200"/>
            </a:b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pct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74560" y="2847960"/>
            <a:ext cx="1036008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6960" y="760320"/>
            <a:ext cx="984276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4600" y="2992320"/>
            <a:ext cx="9631440" cy="46101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JV companies (ordinary finance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fferences in the way you do busin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Differences in legislation and administrative procedure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Business eth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86960" y="760320"/>
            <a:ext cx="984276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74600" y="2776320"/>
            <a:ext cx="9631440" cy="48258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Special purpose fin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Loan security (budget code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Transaction cost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Arial"/>
              </a:rPr>
              <a:t>Reporting and follow u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9296640" cy="13716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da-DK" sz="5200" spc="-1" strike="noStrike">
                <a:solidFill>
                  <a:srgbClr val="000000"/>
                </a:solidFill>
                <a:latin typeface="Arial"/>
              </a:rPr>
              <a:t>www.nefco.org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10134720" cy="19810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Visit our web-pages for more inform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434600" y="2631960"/>
            <a:ext cx="8882280" cy="47880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NEFCO is a multilateral financial institution established and funded by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Iceland, Norway, Denmark, Sweden and Finl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3680" y="1336680"/>
            <a:ext cx="8137440" cy="6500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8597000">
            <a:off x="5733360" y="438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Arial Narrow"/>
              </a:rPr>
              <a:t>Baltic 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63320" y="2487600"/>
            <a:ext cx="8953560" cy="4154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NEFCO aims to improve the ecological situation in its countries of operation through investments in projects with positive ecological impac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2631960"/>
            <a:ext cx="9169200" cy="45151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NEFCO:s projects must generate ecological benefits cheaper than in the Nordic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06440" indent="0">
              <a:spcBef>
                <a:spcPts val="1199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38240" y="1623960"/>
            <a:ext cx="8136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3880" y="1192320"/>
            <a:ext cx="9842760" cy="13334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5200" spc="-1" strike="noStrike">
                <a:solidFill>
                  <a:srgbClr val="000000"/>
                </a:solidFill>
                <a:latin typeface="Arial"/>
              </a:rPr>
              <a:t>Finance Prioriti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4240" y="2671560"/>
            <a:ext cx="9410760" cy="53290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he investment must be in our area of operation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The project is viable and based on proven technolog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t delivers significant ecological benefits, both locally and in the reg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t is ecologically cost effici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It is of Nordic inter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05120" y="2743200"/>
            <a:ext cx="1066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743200"/>
            <a:ext cx="1066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EZZAN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743200"/>
            <a:ext cx="1143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RIS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6248520"/>
            <a:ext cx="7925040" cy="1295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TERPRI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MUNICIP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367000">
            <a:off x="1504440" y="4667040"/>
            <a:ext cx="2017440" cy="608040"/>
          </a:xfrm>
          <a:prstGeom prst="leftRightArrow">
            <a:avLst>
              <a:gd name="adj1" fmla="val 50000"/>
              <a:gd name="adj2" fmla="val 6605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367000">
            <a:off x="2665800" y="4648680"/>
            <a:ext cx="1981080" cy="608040"/>
          </a:xfrm>
          <a:prstGeom prst="leftRightArrow">
            <a:avLst>
              <a:gd name="adj1" fmla="val 50000"/>
              <a:gd name="adj2" fmla="val 6486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367000">
            <a:off x="3845160" y="4612320"/>
            <a:ext cx="1908000" cy="608040"/>
          </a:xfrm>
          <a:prstGeom prst="leftRightArrow">
            <a:avLst>
              <a:gd name="adj1" fmla="val 50000"/>
              <a:gd name="adj2" fmla="val 6246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724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siness/Com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40280" y="4910040"/>
            <a:ext cx="1143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lea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11880" y="4910040"/>
            <a:ext cx="114300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av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446600">
            <a:off x="6144480" y="5671800"/>
            <a:ext cx="762120" cy="1066680"/>
          </a:xfrm>
          <a:custGeom>
            <a:avLst/>
            <a:gdLst>
              <a:gd name="textAreaLeft" fmla="*/ 0 w 762120"/>
              <a:gd name="textAreaRight" fmla="*/ 762480 w 7621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446600">
            <a:off x="7439760" y="5671800"/>
            <a:ext cx="762120" cy="1066680"/>
          </a:xfrm>
          <a:custGeom>
            <a:avLst/>
            <a:gdLst>
              <a:gd name="textAreaLeft" fmla="*/ 0 w 762120"/>
              <a:gd name="textAreaRight" fmla="*/ 762480 w 7621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30960" y="2776680"/>
            <a:ext cx="114300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Spe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Purp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Fac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949800">
            <a:off x="6403680" y="392868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670600">
            <a:off x="7122960" y="385596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91680" y="2776680"/>
            <a:ext cx="114300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CO2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38240" y="1697040"/>
            <a:ext cx="331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vestment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Market te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90960" y="16970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vironmental Support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Soft &amp; deplet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8040" y="169704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sting Ground Fac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Market ter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5367000">
            <a:off x="8201520" y="4578840"/>
            <a:ext cx="1908360" cy="608040"/>
          </a:xfrm>
          <a:prstGeom prst="leftRightArrow">
            <a:avLst>
              <a:gd name="adj1" fmla="val 50000"/>
              <a:gd name="adj2" fmla="val 6248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6240" y="1839960"/>
            <a:ext cx="95281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normAutofit fontScale="99000"/>
          </a:bodyPr>
          <a:p>
            <a:pPr marL="402120" indent="-40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ypical projects financed by NEFCO ordinary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rnisation of industrial product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48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 in existing plants - not green-field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tion of equipment for pollution ab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vironmental services; waste management and water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ewable energy investments and energy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048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mass, wind energy, geothermal, small scale hyd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09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Ordinary 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1T12:20:57Z</dcterms:created>
  <dc:creator/>
  <dc:description/>
  <dc:language>en-US</dc:language>
  <cp:lastModifiedBy/>
  <cp:lastPrinted>1999-12-13T10:28:18Z</cp:lastPrinted>
  <dcterms:modified xsi:type="dcterms:W3CDTF">2007-12-07T12:18:54Z</dcterms:modified>
  <cp:revision>84</cp:revision>
  <dc:subject/>
  <dc:title> </dc:title>
</cp:coreProperties>
</file>