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2F0-B158-419C-A49D-0A67906C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0E8-3DD6-4256-B645-294DF609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EEB-901F-46ED-9B15-7816014D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393D-FD5E-4AA9-A2C7-7BA29C16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3B74-1B22-4C60-AC6E-C91DD0DD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C0F0-1664-49B2-B08B-DDACA872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1935-C449-47B7-92FA-87D7D476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219B-76FB-4B0B-8C81-64B1ECCF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0057-6D74-4421-9135-6F48DF3A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1AA3-EACB-4C98-AB03-0710E6E8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D345-1DBF-4758-A0D0-BF16F36D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F6D-0E61-40A0-89FB-9B1FF110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DD77-3C50-47AF-9E87-8E9D41C3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C1A4-380C-4A84-B0E6-3BFA9805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578A-7E34-422A-ABAA-026775C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B556-C651-48A1-BAE9-DB3B2A8A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50532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619880"/>
            <a:ext cx="20606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FE8A-3887-4235-A4B3-78CC93B4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80BD-CA82-4287-A1DD-266934F2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012-B523-48C5-AF27-338A93FB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E33-F879-4677-8107-1D65FE4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774-D8FF-4FA6-A732-F30A4ABA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275-AACE-4A36-9A21-3F41FB8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21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61988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097-65B5-434B-8FD8-EC284B07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505320"/>
            <a:ext cx="312336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19880"/>
            <a:ext cx="640080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36A-1DAE-4465-BEF9-7B27D7F1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ff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0C28-BF28-4980-9482-7CC6744D4C1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5851440"/>
            <a:ext cx="129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20091" b="0"/>
          <a:stretch/>
        </p:blipFill>
        <p:spPr>
          <a:xfrm>
            <a:off x="223920" y="6224760"/>
            <a:ext cx="70956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0C50-F3D9-4451-A152-7744A0B167EA}" type="slidenum">
              <a:rPr b="0" lang="en-GB" sz="1400" spc="-1" strike="noStrike">
                <a:solidFill>
                  <a:srgbClr val="1c1c1c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20091" b="0"/>
          <a:stretch/>
        </p:blipFill>
        <p:spPr>
          <a:xfrm>
            <a:off x="223920" y="6224760"/>
            <a:ext cx="709560" cy="404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00ff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ternational Investment Funds in Bioenergy and Energy Efficiency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Susan Legro, Eco Ltd.</a:t>
            </a: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Issues and Solutions in Bioenergy….”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December 11, 2007</a:t>
            </a:r>
            <a:endParaRPr b="0" lang="en-US" sz="2200" spc="-1" strike="noStrike">
              <a:solidFill>
                <a:srgbClr val="99ff99"/>
              </a:solidFill>
              <a:latin typeface="Lucida Sans Unicode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Arial"/>
              </a:rPr>
              <a:t>Minsk</a:t>
            </a:r>
            <a:endParaRPr b="0" lang="en-US" sz="2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Lessons Learned, 1 of 2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Energy efficiency investments should be made before or concurrently with supply-side investments, not after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Heat demand may be overestimated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novative financial mechanisms = need for very specialized legal expertise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Lessons Learned, 2 of 2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Potential conflict of interest: private sector partners may want maximum heat consumption.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ontracts are the key means of managing risk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Need to coordinate timing of funding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Relatively low internal rate of return (IRR) can make it difficult to attract investor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Conclusion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Re-visit pipeline of projects for “niche” investor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Emphasize risk managemen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ontinue to include private sector projects 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Follow status of emissions marke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Спасибо за внимание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2845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Overview 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Types of Funds 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vestor Requirement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Lessons Learned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onclusion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“</a:t>
            </a: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Рубить дерево по плечу”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Types of Fund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Private Equity Investment Fund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Dedicated Renewable Energy Fund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Bioenergy Development Fund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UNECE/SwissRe Fund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Fuel and power companie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Shell</a:t>
            </a: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GE Energy Financial Service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Types of Fund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Other project equity investment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Foreign partner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Sawn wood companies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Furniture companies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Foreign partner + investment fund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Lucida Sans Unicode"/>
              </a:rPr>
              <a:t>Company + NEFCO</a:t>
            </a:r>
            <a:endParaRPr b="0" lang="en-US" sz="20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Vendor financing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arbon equity investment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Emission reduction purchase agreement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Combination of project and carbon equity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Types of Fund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Deb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Loan from a multilateral financial institution (MFI)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085760" indent="-217080"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Lucida Sans Unicode"/>
              </a:rPr>
              <a:t>EBRD, IBRD/IFC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On-lending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25800" indent="-32580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ombination of Debt and Equity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ommon within project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05600" indent="-2714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Some MFIs offer both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Other Types of Intl. Support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Credit Enhancement Products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Investment guarantees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Political risk insurance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“</a:t>
            </a: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Market development” suppor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vestor Requirement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Risk management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Project risk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Country risk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Risk vs. return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Lucida Sans Unicode"/>
              </a:rPr>
              <a:t>The market--and the competition--is </a:t>
            </a:r>
            <a:r>
              <a:rPr b="0" i="1" lang="en-US" sz="2800" spc="-1" strike="noStrike">
                <a:solidFill>
                  <a:srgbClr val="99ff99"/>
                </a:solidFill>
                <a:latin typeface="Lucida Sans Unicode"/>
              </a:rPr>
              <a:t>global</a:t>
            </a: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vestor Profile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terest in private sector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terest in small and medium enterprises (SMEs)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Lucida Sans Unicode"/>
              </a:rPr>
              <a:t>Interest in combined project and carbon equity</a:t>
            </a:r>
            <a:endParaRPr b="0" lang="en-US" sz="32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b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7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Lucida Sans Unicode"/>
              </a:rPr>
              <a:t>Investor Requirements</a:t>
            </a:r>
            <a:endParaRPr b="0" lang="en-US" sz="4000" spc="-1" strike="noStrike">
              <a:solidFill>
                <a:srgbClr val="66ff33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0272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Project investment document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The more data, the better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History of site and equipment 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etails on owners and investor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Details on consumers (residential, industrial)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What kind of document?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Project documents should provide a “starting point” for investor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Arial"/>
              </a:rPr>
              <a:t>Individual investors have their own unique templates, methodologies, and due diligence procedures</a:t>
            </a: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3:37:16Z</dcterms:created>
  <dc:creator>Grant Ballard-Tremeer</dc:creator>
  <dc:description/>
  <dc:language>en-US</dc:language>
  <cp:lastModifiedBy>Susan Legro</cp:lastModifiedBy>
  <cp:lastPrinted>1999-06-01T14:50:12Z</cp:lastPrinted>
  <dcterms:modified xsi:type="dcterms:W3CDTF">2007-12-10T07:08:54Z</dcterms:modified>
  <cp:revision>26</cp:revision>
  <dc:subject/>
  <dc:title>Logical Framework Analysis</dc:title>
</cp:coreProperties>
</file>