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2AA9-267F-4A72-B35A-7E659E471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640080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619880"/>
            <a:ext cx="640080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E892-4151-40AE-89AB-A156804F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31233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505320"/>
            <a:ext cx="31233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619880"/>
            <a:ext cx="31233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4619880"/>
            <a:ext cx="31233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1FA8-6D2C-4204-9A5A-CEC91B994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206064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3505320"/>
            <a:ext cx="206064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3505320"/>
            <a:ext cx="206064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619880"/>
            <a:ext cx="206064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4619880"/>
            <a:ext cx="206064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4619880"/>
            <a:ext cx="206064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A8E2-BB96-4D18-BC10-CCF3F0637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8529-E08D-4F67-9821-363AF48F8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BCD3C-7243-4D30-BA05-CBF3CEDC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11F8-651D-4DAC-A47F-A2731856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312336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505320"/>
            <a:ext cx="312336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FCD16-AEDE-4121-9CE2-0AC668F2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7BBB-5922-4D2E-9746-93B2C3F1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120" y="15235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B0C92-BB5C-41A5-B235-8A55FBA4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31233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505320"/>
            <a:ext cx="312336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619880"/>
            <a:ext cx="31233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F29B-4AD4-4CC4-ABE1-7B8F277E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0EA7-7937-457C-AAEC-91C5AB62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312336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505320"/>
            <a:ext cx="31233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4619880"/>
            <a:ext cx="31233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E9A1-2347-416B-914D-89E08B31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31233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505320"/>
            <a:ext cx="31233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619880"/>
            <a:ext cx="640080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3096-D263-43F5-9ECC-D557731D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640080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619880"/>
            <a:ext cx="640080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84971-9A80-460E-9190-270FBD4E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31233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505320"/>
            <a:ext cx="31233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619880"/>
            <a:ext cx="31233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4619880"/>
            <a:ext cx="31233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BB8C-9393-4220-9317-7902500F3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206064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3505320"/>
            <a:ext cx="206064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3505320"/>
            <a:ext cx="206064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619880"/>
            <a:ext cx="206064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4619880"/>
            <a:ext cx="206064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4619880"/>
            <a:ext cx="206064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FD90-66D3-46BD-A6B1-C7CA978E7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716D-A7AB-45C9-8CA9-4AC74122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312336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505320"/>
            <a:ext cx="312336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1D58-E90B-4F19-BC58-D6BADA9C3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4448-2C43-4C31-8BAB-033BF7AF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120" y="15235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1B7B-BAAA-4946-A26C-335DB449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31233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505320"/>
            <a:ext cx="312336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619880"/>
            <a:ext cx="31233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70FC-2DD6-4837-A486-D4C14D78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312336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505320"/>
            <a:ext cx="31233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4619880"/>
            <a:ext cx="31233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E743-A1EC-423A-871A-A0B5F2A2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31233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505320"/>
            <a:ext cx="31233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619880"/>
            <a:ext cx="640080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9C31-387D-4F60-BCCA-6BAEB9DA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b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7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Lucida Sans Unicode"/>
              </a:rPr>
              <a:t>Click to edit the title text format</a:t>
            </a: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752120"/>
            <a:ext cx="880272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  <a:p>
            <a:pPr lvl="1" marL="743040" indent="-285840">
              <a:spcBef>
                <a:spcPts val="799"/>
              </a:spcBef>
              <a:buClr>
                <a:srgbClr val="33cc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Second Outline Level</a:t>
            </a: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  <a:p>
            <a:pPr lvl="2" marL="1143000" indent="-228600">
              <a:spcBef>
                <a:spcPts val="799"/>
              </a:spcBef>
              <a:buClr>
                <a:srgbClr val="00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Third Outline Level</a:t>
            </a: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Fourth Outline Level</a:t>
            </a: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  <a:p>
            <a:pPr lvl="4" marL="2057400" indent="-228600">
              <a:spcBef>
                <a:spcPts val="799"/>
              </a:spcBef>
              <a:buClr>
                <a:srgbClr val="00ff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Fifth Outline Level</a:t>
            </a: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Sixth Outline Level</a:t>
            </a: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Seventh Outline Level</a:t>
            </a: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B6A7-D5A6-44A1-B8EC-EF48E3A714E8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5851440"/>
            <a:ext cx="1295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20091" b="0"/>
          <a:stretch/>
        </p:blipFill>
        <p:spPr>
          <a:xfrm>
            <a:off x="223920" y="6224760"/>
            <a:ext cx="70956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b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Lucida Sans Unicode"/>
              </a:rPr>
              <a:t>Click to edit the title text format</a:t>
            </a: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2E15-8B4C-44F8-A754-85221FA3473D}" type="slidenum">
              <a:rPr b="0" lang="en-GB" sz="1400" spc="-1" strike="noStrike">
                <a:solidFill>
                  <a:srgbClr val="1c1c1c"/>
                </a:solidFill>
                <a:latin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0" r="20091" b="0"/>
          <a:stretch/>
        </p:blipFill>
        <p:spPr>
          <a:xfrm>
            <a:off x="223920" y="6224760"/>
            <a:ext cx="709560" cy="404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99ff99"/>
              </a:solidFill>
              <a:latin typeface="Lucida Sans Unicode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Lucida Sans Unicode"/>
              </a:rPr>
              <a:t>Third Outline Level</a:t>
            </a:r>
            <a:endParaRPr b="0" lang="en-US" sz="2400" spc="-1" strike="noStrike">
              <a:solidFill>
                <a:srgbClr val="99ff99"/>
              </a:solidFill>
              <a:latin typeface="Lucida Sans Unicode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Lucida Sans Unicode"/>
              </a:rPr>
              <a:t>Fourth Outline Level</a:t>
            </a:r>
            <a:endParaRPr b="0" lang="en-US" sz="2000" spc="-1" strike="noStrike">
              <a:solidFill>
                <a:srgbClr val="99ff99"/>
              </a:solidFill>
              <a:latin typeface="Lucida Sans Unicode"/>
            </a:endParaRPr>
          </a:p>
          <a:p>
            <a:pPr lvl="4" marL="1828800" algn="ctr">
              <a:spcBef>
                <a:spcPts val="499"/>
              </a:spcBef>
              <a:buClr>
                <a:srgbClr val="00ff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Lucida Sans Unicode"/>
              </a:rPr>
              <a:t>Fifth Outline Level</a:t>
            </a:r>
            <a:endParaRPr b="0" lang="en-US" sz="2000" spc="-1" strike="noStrike">
              <a:solidFill>
                <a:srgbClr val="99ff99"/>
              </a:solidFill>
              <a:latin typeface="Lucida Sans Unicode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Lucida Sans Unicode"/>
              </a:rPr>
              <a:t>Sixth Outline Level</a:t>
            </a:r>
            <a:endParaRPr b="0" lang="en-US" sz="2000" spc="-1" strike="noStrike">
              <a:solidFill>
                <a:srgbClr val="99ff99"/>
              </a:solidFill>
              <a:latin typeface="Lucida Sans Unicode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Lucida Sans Unicode"/>
              </a:rPr>
              <a:t>Seventh Outline Level</a:t>
            </a:r>
            <a:endParaRPr b="0" lang="en-US" sz="2000" spc="-1" strike="noStrike">
              <a:solidFill>
                <a:srgbClr val="99ff99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b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Lucida Sans Unicode"/>
              </a:rPr>
              <a:t>International Investment Funds in Bioenergy and Energy Efficiency</a:t>
            </a: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Lucida Sans Unicode"/>
              </a:rPr>
              <a:t>Susan Legro, Eco Ltd.</a:t>
            </a: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99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Issues and Solutions in Bioenergy….”</a:t>
            </a:r>
            <a:endParaRPr b="0" lang="en-US" sz="2400" spc="-1" strike="noStrike">
              <a:solidFill>
                <a:srgbClr val="99ff99"/>
              </a:solidFill>
              <a:latin typeface="Lucida Sans Unicode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ff99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99"/>
                </a:solidFill>
                <a:latin typeface="Arial"/>
              </a:rPr>
              <a:t>December 11, 2007</a:t>
            </a:r>
            <a:endParaRPr b="0" lang="en-US" sz="2200" spc="-1" strike="noStrike">
              <a:solidFill>
                <a:srgbClr val="99ff99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99"/>
                </a:solidFill>
                <a:latin typeface="Arial"/>
              </a:rPr>
              <a:t>Minsk</a:t>
            </a:r>
            <a:endParaRPr b="0" lang="en-US" sz="2200" spc="-1" strike="noStrike">
              <a:solidFill>
                <a:srgbClr val="99ff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b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7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Lucida Sans Unicode"/>
              </a:rPr>
              <a:t>Lessons Learned, 1 of 2</a:t>
            </a: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0272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Energy efficiency investments should be made before or concurrently with supply-side investments, not after</a:t>
            </a: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Heat demand may be overestimated</a:t>
            </a: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Innovative financial mechanisms = need for very specialized legal expertise</a:t>
            </a: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b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7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Lucida Sans Unicode"/>
              </a:rPr>
              <a:t>Lessons Learned, 2 of 2</a:t>
            </a: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0272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Lucida Sans Unicode"/>
              </a:rPr>
              <a:t>Potential conflict of interest: private sector partners may want maximum heat consumption.</a:t>
            </a:r>
            <a:endParaRPr b="0" lang="en-US" sz="2800" spc="-1" strike="noStrike">
              <a:solidFill>
                <a:srgbClr val="99ff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Lucida Sans Unicode"/>
              </a:rPr>
              <a:t>Contracts are the key means of managing risk</a:t>
            </a:r>
            <a:endParaRPr b="0" lang="en-US" sz="2800" spc="-1" strike="noStrike">
              <a:solidFill>
                <a:srgbClr val="99ff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Lucida Sans Unicode"/>
              </a:rPr>
              <a:t>Need to coordinate timing of funding</a:t>
            </a:r>
            <a:endParaRPr b="0" lang="en-US" sz="2800" spc="-1" strike="noStrike">
              <a:solidFill>
                <a:srgbClr val="99ff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Lucida Sans Unicode"/>
              </a:rPr>
              <a:t>Relatively low internal rate of return (IRR) can make it difficult to attract investors</a:t>
            </a:r>
            <a:endParaRPr b="0" lang="en-US" sz="2800" spc="-1" strike="noStrike">
              <a:solidFill>
                <a:srgbClr val="99ff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b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7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Lucida Sans Unicode"/>
              </a:rPr>
              <a:t>Conclusions</a:t>
            </a: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0272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Re-visit pipeline of projects for “niche” investors</a:t>
            </a: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Emphasize risk management</a:t>
            </a: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Continue to include private sector projects </a:t>
            </a: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Follow status of emissions market</a:t>
            </a: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b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Lucida Sans Unicode"/>
              </a:rPr>
              <a:t>Спасибо за внимание</a:t>
            </a: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410080" y="4038480"/>
            <a:ext cx="28450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b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7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Lucida Sans Unicode"/>
              </a:rPr>
              <a:t>Overview </a:t>
            </a: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0272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Types of Funds </a:t>
            </a: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Investor Requirements</a:t>
            </a: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Lessons Learned</a:t>
            </a: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Conclusions</a:t>
            </a: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“</a:t>
            </a: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Рубить дерево по плечу”</a:t>
            </a: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b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7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Lucida Sans Unicode"/>
              </a:rPr>
              <a:t>Types of Funds</a:t>
            </a: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0272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Private Equity Investment Funds</a:t>
            </a: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Lucida Sans Unicode"/>
              </a:rPr>
              <a:t>Dedicated Renewable Energy Funds</a:t>
            </a:r>
            <a:endParaRPr b="0" lang="en-US" sz="2800" spc="-1" strike="noStrike">
              <a:solidFill>
                <a:srgbClr val="99ff99"/>
              </a:solidFill>
              <a:latin typeface="Lucida Sans Unicode"/>
            </a:endParaRPr>
          </a:p>
          <a:p>
            <a:pPr lvl="2" marL="1143000" indent="-228600">
              <a:spcBef>
                <a:spcPts val="601"/>
              </a:spcBef>
              <a:buClr>
                <a:srgbClr val="00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Lucida Sans Unicode"/>
              </a:rPr>
              <a:t>Bioenergy Development Fund</a:t>
            </a:r>
            <a:endParaRPr b="0" lang="en-US" sz="2400" spc="-1" strike="noStrike">
              <a:solidFill>
                <a:srgbClr val="99ff99"/>
              </a:solidFill>
              <a:latin typeface="Lucida Sans Unicode"/>
            </a:endParaRPr>
          </a:p>
          <a:p>
            <a:pPr lvl="2" marL="1143000" indent="-228600">
              <a:spcBef>
                <a:spcPts val="601"/>
              </a:spcBef>
              <a:buClr>
                <a:srgbClr val="00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Lucida Sans Unicode"/>
              </a:rPr>
              <a:t>UNECE/SwissRe Fund</a:t>
            </a:r>
            <a:endParaRPr b="0" lang="en-US" sz="2400" spc="-1" strike="noStrike">
              <a:solidFill>
                <a:srgbClr val="99ff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Lucida Sans Unicode"/>
              </a:rPr>
              <a:t>Fuel and power companies</a:t>
            </a:r>
            <a:endParaRPr b="0" lang="en-US" sz="2800" spc="-1" strike="noStrike">
              <a:solidFill>
                <a:srgbClr val="99ff99"/>
              </a:solidFill>
              <a:latin typeface="Lucida Sans Unicode"/>
            </a:endParaRPr>
          </a:p>
          <a:p>
            <a:pPr lvl="2" marL="1143000" indent="-228600">
              <a:spcBef>
                <a:spcPts val="601"/>
              </a:spcBef>
              <a:buClr>
                <a:srgbClr val="00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Lucida Sans Unicode"/>
              </a:rPr>
              <a:t>Shell</a:t>
            </a:r>
            <a:r>
              <a:rPr b="0" lang="en-US" sz="2400" spc="-1" strike="noStrike">
                <a:solidFill>
                  <a:srgbClr val="99ff99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99ff99"/>
              </a:solidFill>
              <a:latin typeface="Lucida Sans Unicode"/>
            </a:endParaRPr>
          </a:p>
          <a:p>
            <a:pPr lvl="2" marL="1143000" indent="-228600">
              <a:spcBef>
                <a:spcPts val="601"/>
              </a:spcBef>
              <a:buClr>
                <a:srgbClr val="00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Lucida Sans Unicode"/>
              </a:rPr>
              <a:t>GE Energy Financial Services</a:t>
            </a:r>
            <a:endParaRPr b="0" lang="en-US" sz="2400" spc="-1" strike="noStrike">
              <a:solidFill>
                <a:srgbClr val="99ff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b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7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Lucida Sans Unicode"/>
              </a:rPr>
              <a:t>Types of Funds</a:t>
            </a: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0272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Lucida Sans Unicode"/>
              </a:rPr>
              <a:t>Other project equity investment</a:t>
            </a:r>
            <a:endParaRPr b="0" lang="en-US" sz="2800" spc="-1" strike="noStrike">
              <a:solidFill>
                <a:srgbClr val="99ff99"/>
              </a:solidFill>
              <a:latin typeface="Lucida Sans Unicod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Lucida Sans Unicode"/>
              </a:rPr>
              <a:t>Foreign partner</a:t>
            </a:r>
            <a:endParaRPr b="0" lang="en-US" sz="2400" spc="-1" strike="noStrike">
              <a:solidFill>
                <a:srgbClr val="99ff99"/>
              </a:solidFill>
              <a:latin typeface="Lucida Sans Unicod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Lucida Sans Unicode"/>
              </a:rPr>
              <a:t>Sawn wood companies</a:t>
            </a:r>
            <a:endParaRPr b="0" lang="en-US" sz="2000" spc="-1" strike="noStrike">
              <a:solidFill>
                <a:srgbClr val="99ff99"/>
              </a:solidFill>
              <a:latin typeface="Lucida Sans Unicod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Lucida Sans Unicode"/>
              </a:rPr>
              <a:t>Furniture companies</a:t>
            </a:r>
            <a:endParaRPr b="0" lang="en-US" sz="2000" spc="-1" strike="noStrike">
              <a:solidFill>
                <a:srgbClr val="99ff99"/>
              </a:solidFill>
              <a:latin typeface="Lucida Sans Unicod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Lucida Sans Unicode"/>
              </a:rPr>
              <a:t>Foreign partner + investment fund</a:t>
            </a:r>
            <a:endParaRPr b="0" lang="en-US" sz="2400" spc="-1" strike="noStrike">
              <a:solidFill>
                <a:srgbClr val="99ff99"/>
              </a:solidFill>
              <a:latin typeface="Lucida Sans Unicod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Lucida Sans Unicode"/>
              </a:rPr>
              <a:t>Company + NEFCO</a:t>
            </a:r>
            <a:endParaRPr b="0" lang="en-US" sz="2000" spc="-1" strike="noStrike">
              <a:solidFill>
                <a:srgbClr val="99ff99"/>
              </a:solidFill>
              <a:latin typeface="Lucida Sans Unicod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Lucida Sans Unicode"/>
              </a:rPr>
              <a:t>Vendor financing</a:t>
            </a:r>
            <a:endParaRPr b="0" lang="en-US" sz="2400" spc="-1" strike="noStrike">
              <a:solidFill>
                <a:srgbClr val="99ff99"/>
              </a:solidFill>
              <a:latin typeface="Lucida Sans Unicode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99"/>
              </a:solidFill>
              <a:latin typeface="Lucida Sans Unicode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Lucida Sans Unicode"/>
              </a:rPr>
              <a:t>Carbon equity investments</a:t>
            </a:r>
            <a:endParaRPr b="0" lang="en-US" sz="2800" spc="-1" strike="noStrike">
              <a:solidFill>
                <a:srgbClr val="99ff99"/>
              </a:solidFill>
              <a:latin typeface="Lucida Sans Unicod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Lucida Sans Unicode"/>
              </a:rPr>
              <a:t>Emission reduction purchase agreement</a:t>
            </a:r>
            <a:endParaRPr b="0" lang="en-US" sz="2400" spc="-1" strike="noStrike">
              <a:solidFill>
                <a:srgbClr val="99ff99"/>
              </a:solidFill>
              <a:latin typeface="Lucida Sans Unicod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Lucida Sans Unicode"/>
              </a:rPr>
              <a:t>Combination of project and carbon equity</a:t>
            </a:r>
            <a:endParaRPr b="0" lang="en-US" sz="2400" spc="-1" strike="noStrike">
              <a:solidFill>
                <a:srgbClr val="99ff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b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7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Lucida Sans Unicode"/>
              </a:rPr>
              <a:t>Types of Funds</a:t>
            </a: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0272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Debt</a:t>
            </a: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  <a:p>
            <a:pPr lvl="1" marL="705600" indent="-271440">
              <a:spcBef>
                <a:spcPts val="700"/>
              </a:spcBef>
              <a:buClr>
                <a:srgbClr val="33cc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Lucida Sans Unicode"/>
              </a:rPr>
              <a:t>Loan from a multilateral financial institution (MFI)</a:t>
            </a:r>
            <a:endParaRPr b="0" lang="en-US" sz="2800" spc="-1" strike="noStrike">
              <a:solidFill>
                <a:srgbClr val="99ff99"/>
              </a:solidFill>
              <a:latin typeface="Lucida Sans Unicode"/>
            </a:endParaRPr>
          </a:p>
          <a:p>
            <a:pPr lvl="2" marL="1085760" indent="-217080">
              <a:spcBef>
                <a:spcPts val="601"/>
              </a:spcBef>
              <a:buClr>
                <a:srgbClr val="00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Lucida Sans Unicode"/>
              </a:rPr>
              <a:t>EBRD, IBRD/IFC</a:t>
            </a:r>
            <a:endParaRPr b="0" lang="en-US" sz="2400" spc="-1" strike="noStrike">
              <a:solidFill>
                <a:srgbClr val="99ff99"/>
              </a:solidFill>
              <a:latin typeface="Lucida Sans Unicode"/>
            </a:endParaRPr>
          </a:p>
          <a:p>
            <a:pPr lvl="1" marL="705600" indent="-271440">
              <a:spcBef>
                <a:spcPts val="700"/>
              </a:spcBef>
              <a:buClr>
                <a:srgbClr val="33cc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Lucida Sans Unicode"/>
              </a:rPr>
              <a:t>On-lending</a:t>
            </a:r>
            <a:endParaRPr b="0" lang="en-US" sz="2800" spc="-1" strike="noStrike">
              <a:solidFill>
                <a:srgbClr val="99ff99"/>
              </a:solidFill>
              <a:latin typeface="Lucida Sans Unicode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  <a:p>
            <a:pPr marL="325800" indent="-325800">
              <a:spcBef>
                <a:spcPts val="799"/>
              </a:spcBef>
              <a:buClr>
                <a:srgbClr val="00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Combination of Debt and Equity</a:t>
            </a: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  <a:p>
            <a:pPr lvl="1" marL="705600" indent="-271440">
              <a:spcBef>
                <a:spcPts val="700"/>
              </a:spcBef>
              <a:buClr>
                <a:srgbClr val="33cc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Lucida Sans Unicode"/>
              </a:rPr>
              <a:t>Common within projects</a:t>
            </a:r>
            <a:endParaRPr b="0" lang="en-US" sz="2800" spc="-1" strike="noStrike">
              <a:solidFill>
                <a:srgbClr val="99ff99"/>
              </a:solidFill>
              <a:latin typeface="Lucida Sans Unicode"/>
            </a:endParaRPr>
          </a:p>
          <a:p>
            <a:pPr lvl="1" marL="705600" indent="-271440">
              <a:spcBef>
                <a:spcPts val="700"/>
              </a:spcBef>
              <a:buClr>
                <a:srgbClr val="33cc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Lucida Sans Unicode"/>
              </a:rPr>
              <a:t>Some MFIs offer both</a:t>
            </a:r>
            <a:endParaRPr b="0" lang="en-US" sz="2800" spc="-1" strike="noStrike">
              <a:solidFill>
                <a:srgbClr val="99ff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b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7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Lucida Sans Unicode"/>
              </a:rPr>
              <a:t>Other Types of Intl. Support</a:t>
            </a: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0272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Credit Enhancement Products</a:t>
            </a: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Lucida Sans Unicode"/>
              </a:rPr>
              <a:t>Investment guarantees</a:t>
            </a:r>
            <a:endParaRPr b="0" lang="en-US" sz="2800" spc="-1" strike="noStrike">
              <a:solidFill>
                <a:srgbClr val="99ff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Lucida Sans Unicode"/>
              </a:rPr>
              <a:t>Political risk insurance</a:t>
            </a:r>
            <a:endParaRPr b="0" lang="en-US" sz="2800" spc="-1" strike="noStrike">
              <a:solidFill>
                <a:srgbClr val="99ff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“</a:t>
            </a: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Market development” support</a:t>
            </a: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b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7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Lucida Sans Unicode"/>
              </a:rPr>
              <a:t>Investor Requirements</a:t>
            </a: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0272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Risk management</a:t>
            </a: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Lucida Sans Unicode"/>
              </a:rPr>
              <a:t>Project risk</a:t>
            </a:r>
            <a:endParaRPr b="0" lang="en-US" sz="2800" spc="-1" strike="noStrike">
              <a:solidFill>
                <a:srgbClr val="99ff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Lucida Sans Unicode"/>
              </a:rPr>
              <a:t>Country risk</a:t>
            </a:r>
            <a:endParaRPr b="0" lang="en-US" sz="2800" spc="-1" strike="noStrike">
              <a:solidFill>
                <a:srgbClr val="99ff99"/>
              </a:solidFill>
              <a:latin typeface="Lucida Sans Unicode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Risk vs. return</a:t>
            </a: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Lucida Sans Unicode"/>
              </a:rPr>
              <a:t>The market--and the competition--is </a:t>
            </a:r>
            <a:r>
              <a:rPr b="0" i="1" lang="en-US" sz="2800" spc="-1" strike="noStrike">
                <a:solidFill>
                  <a:srgbClr val="99ff99"/>
                </a:solidFill>
                <a:latin typeface="Lucida Sans Unicode"/>
              </a:rPr>
              <a:t>global</a:t>
            </a:r>
            <a:endParaRPr b="0" lang="en-US" sz="2800" spc="-1" strike="noStrike">
              <a:solidFill>
                <a:srgbClr val="99ff99"/>
              </a:solidFill>
              <a:latin typeface="Lucida Sans Unicode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b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7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Lucida Sans Unicode"/>
              </a:rPr>
              <a:t>Investor Profiles</a:t>
            </a: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0272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Interest in private sector</a:t>
            </a: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Interest in small and medium enterprises (SMEs)</a:t>
            </a: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Interest in combined project and carbon equity</a:t>
            </a: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b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7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Lucida Sans Unicode"/>
              </a:rPr>
              <a:t>Investor Requirements</a:t>
            </a: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0272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Project investment document</a:t>
            </a:r>
            <a:endParaRPr b="0" lang="en-US" sz="2400" spc="-1" strike="noStrike">
              <a:solidFill>
                <a:srgbClr val="99ff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The more data, the better</a:t>
            </a:r>
            <a:endParaRPr b="0" lang="en-US" sz="2400" spc="-1" strike="noStrike">
              <a:solidFill>
                <a:srgbClr val="99ff99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History of site and equipment </a:t>
            </a:r>
            <a:endParaRPr b="0" lang="en-US" sz="2400" spc="-1" strike="noStrike">
              <a:solidFill>
                <a:srgbClr val="99ff99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Details on owners and investors</a:t>
            </a:r>
            <a:endParaRPr b="0" lang="en-US" sz="2400" spc="-1" strike="noStrike">
              <a:solidFill>
                <a:srgbClr val="99ff99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Details on consumers (residential, industrial)</a:t>
            </a:r>
            <a:endParaRPr b="0" lang="en-US" sz="2400" spc="-1" strike="noStrike">
              <a:solidFill>
                <a:srgbClr val="99ff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What kind of document?</a:t>
            </a:r>
            <a:endParaRPr b="0" lang="en-US" sz="2400" spc="-1" strike="noStrike">
              <a:solidFill>
                <a:srgbClr val="99ff99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Project documents should provide a “starting point” for investors</a:t>
            </a:r>
            <a:endParaRPr b="0" lang="en-US" sz="2400" spc="-1" strike="noStrike">
              <a:solidFill>
                <a:srgbClr val="99ff99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Individual investors have their own unique templates, methodologies, and due diligence procedures</a:t>
            </a:r>
            <a:endParaRPr b="0" lang="en-US" sz="2400" spc="-1" strike="noStrike">
              <a:solidFill>
                <a:srgbClr val="99ff99"/>
              </a:solidFill>
              <a:latin typeface="Lucida Sans Unicode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5T13:37:16Z</dcterms:created>
  <dc:creator>Grant Ballard-Tremeer</dc:creator>
  <dc:description/>
  <dc:language>en-US</dc:language>
  <cp:lastModifiedBy>Susan Legro</cp:lastModifiedBy>
  <cp:lastPrinted>1999-06-01T14:50:12Z</cp:lastPrinted>
  <dcterms:modified xsi:type="dcterms:W3CDTF">2007-12-10T07:08:54Z</dcterms:modified>
  <cp:revision>26</cp:revision>
  <dc:subject/>
  <dc:title>Logical Framework Analysis</dc:title>
</cp:coreProperties>
</file>