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7DD-E093-4C50-B9AD-7FE105C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B26-9C14-4165-9FA7-E7DD5544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223-9C38-4613-A0B3-56E5BB0C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D4A-889B-4BA5-9EC3-E51AF7F0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90E0-3AB4-4AC9-8140-71A4A02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FC41-2FEE-41F3-A3D1-D37FDD6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FDE-F405-42E5-8ECB-EAEB4B5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C9B6-9A54-478C-9F5A-E660EE8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543-A6FB-4DB2-8B1D-AFDC329C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07C-FB5F-43D5-95BE-6CB8BCD3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650-2A52-49F4-9840-91D2CAA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67D-E4BC-48B9-A780-BD7DD4A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7E0B-FEBE-44F9-8700-C85E03D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E237-2173-4CEA-92C5-52EFD81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BD91-AC65-4C7C-96BF-B79E5D88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CCD6-08DC-4E1B-9DCC-F6FC256B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30D-B07D-43C2-AD8B-8021A0FE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0B0-82A9-466F-9C62-5236EEE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A93-5700-42AD-9707-C37F8BAC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127-5D9D-4012-8B5E-E00D647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11A-523E-42C2-94E6-E293D5C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002-0149-46F8-A3A9-490A6DE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BBB-6714-4053-A3BA-39796796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287-73E5-44BD-B424-49F91B3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5AB8-C1E0-4B66-9C4C-3363DCA95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75D-9C65-4158-B5AE-EA982522C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048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imes New Roman"/>
              </a:rPr>
              <a:t>Volumes and Sources of Financing EE and RE programs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imes New Roman"/>
              </a:rPr>
              <a:t>in Belaru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na Gritsenko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ational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program for 25% of local fuels in energy balance till 2012 (CM Decree #1680 dated 30.12.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program of Energy System Modernization in 2006 – 2010 (President’s Decree #575 dated 15.11.200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Energy Efficiency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olumes and Sources of Financ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866000" cy="4140360"/>
        </p:xfrm>
        <a:graphic>
          <a:graphicData uri="http://schemas.openxmlformats.org/drawingml/2006/table">
            <a:tbl>
              <a:tblPr/>
              <a:tblGrid>
                <a:gridCol w="4513320"/>
                <a:gridCol w="2209680"/>
                <a:gridCol w="1143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urces of Financ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-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$ m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w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nergo Innovation F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Innovatio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and local bud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nancing breakdow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 - $US 599,95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 - $US 774-802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8 - $US 960-115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 - $US 1260-150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- $US 1606-1798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– $US 5200 – 585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ctual Volumes of Financing in 2007 (9 month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8156520" cy="4140360"/>
        </p:xfrm>
        <a:graphic>
          <a:graphicData uri="http://schemas.openxmlformats.org/drawingml/2006/table">
            <a:tbl>
              <a:tblPr/>
              <a:tblGrid>
                <a:gridCol w="4525920"/>
                <a:gridCol w="1935360"/>
                <a:gridCol w="16952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urces of Financ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$US mil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n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w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nergo Innovation F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Innovatio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and local bud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Thank you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0:22:41Z</dcterms:created>
  <dc:creator>Vladimir</dc:creator>
  <dc:description/>
  <dc:language>en-US</dc:language>
  <cp:lastModifiedBy>Vladimir</cp:lastModifiedBy>
  <dcterms:modified xsi:type="dcterms:W3CDTF">2007-12-10T21:11:10Z</dcterms:modified>
  <cp:revision>3</cp:revision>
  <dc:subject/>
  <dc:title>Volumes and Sources of Financing EE and RE programs in Belarus</dc:title>
</cp:coreProperties>
</file>