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CD3-350E-46BD-BD98-BB026F9B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319-667E-4C04-BF24-F5E532D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C78-0C4F-47FF-B00A-869FC3C6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26A4-B60E-45B7-BF0B-2EA2B3E7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C458-78BE-490A-8F39-FE97622C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D02D-F296-4B04-B216-FD11A27C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CE32-5421-4A7E-A0BD-4DA8A2E0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0446-F60E-403A-A0F1-585AA7F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B1E3-93AC-4A1A-8A17-80729A2E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BC10-51E1-4EB8-8841-63729091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DA45-B251-4864-8130-1AE0828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E7D-AE1C-4BA3-8517-59B751F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096A-7446-4DF6-AE1F-BC62EBCA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E90E-BAEC-4C07-A362-2F34E8A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E102-EE4D-44F1-B3A5-88F42DE9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4DA9-D5CD-4EFB-8F06-445B87F8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CB8-68CA-4CE0-9B95-30048249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6BB-39B9-4A42-8CC8-A2877D2C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B26-B545-4C60-ACC4-95C5563C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19B-7F1B-49F2-B737-3E144008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171440"/>
            <a:ext cx="7467480" cy="97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425-F83A-4A19-B5E0-48A7E04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886-325B-49F8-9C40-C25927F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532-3DE0-4629-89A6-650479D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3C9-8F0A-4439-995C-81371CC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554C-7F6D-413D-876D-0BB75FF00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D6B5-3F19-4AC8-AA83-1811F4FB3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048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imes New Roman"/>
              </a:rPr>
              <a:t>Volumes and Sources of Financing EE and RE programs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imes New Roman"/>
              </a:rPr>
              <a:t>in Belaru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na Gritsenko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ational Pro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rget program for 25% of local fuels in energy balance till 2012 (CM Decree #1680 dated 30.12.200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program of Energy System Modernization in 2006 – 2010 (President’s Decree #575 dated 15.11.200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Energy Efficiency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Volumes and Sources of Financ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981080"/>
          <a:ext cx="7866000" cy="4140360"/>
        </p:xfrm>
        <a:graphic>
          <a:graphicData uri="http://schemas.openxmlformats.org/drawingml/2006/table">
            <a:tbl>
              <a:tblPr/>
              <a:tblGrid>
                <a:gridCol w="4513320"/>
                <a:gridCol w="2209680"/>
                <a:gridCol w="1143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urces of Financ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-20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S$ mill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w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nergo Innovation F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Innovatio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and local bud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inancing breakdow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6 - $US 599,95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7 - $US 774-802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8 - $US 960-115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9 - $US 1260-150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 - $US 1606-1798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 – $US 5200 – 5850 m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ctual Volumes of Financing in 2007 (9 months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981080"/>
          <a:ext cx="8156520" cy="4140360"/>
        </p:xfrm>
        <a:graphic>
          <a:graphicData uri="http://schemas.openxmlformats.org/drawingml/2006/table">
            <a:tbl>
              <a:tblPr/>
              <a:tblGrid>
                <a:gridCol w="4525920"/>
                <a:gridCol w="1935360"/>
                <a:gridCol w="16952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urces of Financ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 $US mill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n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w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nEnergo Innovation F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her Innovation F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ate and local bud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177280"/>
            <a:ext cx="746748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Thank you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0:22:41Z</dcterms:created>
  <dc:creator>Vladimir</dc:creator>
  <dc:description/>
  <dc:language>en-US</dc:language>
  <cp:lastModifiedBy>Vladimir</cp:lastModifiedBy>
  <dcterms:modified xsi:type="dcterms:W3CDTF">2007-12-10T21:11:10Z</dcterms:modified>
  <cp:revision>3</cp:revision>
  <dc:subject/>
  <dc:title>Volumes and Sources of Financing EE and RE programs in Belarus</dc:title>
</cp:coreProperties>
</file>