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A597-7711-47C3-8E72-039A231A35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5040" y="418680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176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32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69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5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32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69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07640" y="507600"/>
            <a:ext cx="779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176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1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рынка энергосервисных компаний (ЭСКО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Росси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езентация ЕБРР на заседании рабочей группы РСПП 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о энергоэффективност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12 Июля</a:t>
            </a: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 2007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г.</a:t>
            </a:r>
            <a:r>
              <a:rPr b="1" lang="en-GB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686480"/>
            <a:ext cx="64008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СКО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частный сектор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ышленные предприятия. Главные характеристи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опотребление тесно увязано с технологическими процессами и объемами производства, что затрудняет определение «базового уровн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нообразие и специфика технологических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авный подход – внедрение систем энергоменедж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приятия часто не хотят привлекать консультантов, концепция раздела эффекта от энергосбережения представляется им чрезмерно слож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можности для разработки специфических продуктов, например лизинг когенерационных установок, аутсорсинг энергетических объек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СКО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жилищный сектор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ы клиентов – товарищества собственников жилья, местные органы власт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авные характеристи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учшение отопления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ляция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клопакеты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ы температурного контроля всего з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ы часто связаны с модернизацией систем централизованного теплоснабжения (особенно подстанций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жность разработки схемам о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и понятны, но проекты на уровне отдельных домохозяйств малоэффектвны, а нормативы работы с ТСЖ не отработа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на основе продажи коммунальных услуг, а не перфоманс-контра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Модели ЭСКО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лючение перфоманс-контра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ксированная плата на основе прогнозной экономии энер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нансирование с привлечением третьих стор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вой фонд ЭС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утсорс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з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Заключение перфоманс-контрактов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5400" y="2133360"/>
            <a:ext cx="80056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обная концепция, т.к. клиенту получает экономию, не инвестируя собственные средств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ю трудно прогнозировать и измерять, особенно на промпредприятия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КО имеют ограниченный доступ к финансированию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ь не вызывает доверия и считается чрезмерно усложненной для практического применени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ое применение – в жилищном 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Фиксированная плата на основе прогнозной экономии энергии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6320" y="2000160"/>
            <a:ext cx="790416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много проще принципа раздела эффекта от энергосбережения, поскольку не требуется измерение и контроль за показателями фактической экономи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ще в договорном плане, поэтому привлекательней для клиент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прос источника инвестиционных средств остается нерешенны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ь наиболее применима на промышленных предприяти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Финансирование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с привлечением третьих сторон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ется в моделях раздела эффекта энергосбережения и фиксированной плат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КО дает гарантию исполнения, а третья сторона предоставляет финансовые средств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ычно банковский кредит клиенту с уступкой прав платежей ЭСКО в качестве залог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ЭСКО и решение проблемы неэффективной структуры баланса и доступа ЭСКО к финансирова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99"/>
                </a:solidFill>
                <a:latin typeface="Arial"/>
              </a:rPr>
              <a:t>Целевой фонд ЭСКО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9360" y="1800360"/>
            <a:ext cx="78850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ее между ЭСКО и фондом инвестици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вой фонд предоставляет средства финансирован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жет покупать дебиторку по завершенным проектам, профинансированным с помощью краткосрочных средств ЭСКО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уждается в стандартном подходе и единой системе оценки рисков проект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а дополнительная поддержка (например, ЕБР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Аутсорсинг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2181240"/>
            <a:ext cx="78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КО берет на себя функции управления системами отоплен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вещения и иными системами с обязательством снизить затрат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ет ответственность за техобслуживание, но клиент все равно оплачивает согласованные капитальные расход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чаще применяется в зданиях коммерческого назначения и в определенных масштабах в гос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2040" y="536040"/>
            <a:ext cx="779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Лизинг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9360" y="1819080"/>
            <a:ext cx="788508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настоящая модель ЭСКО, но лизинг очень эффективен для финансирования промышленных объектов типа когенерационны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КО может предоставлять услуги «под ключ», но не отвечать за привлечение финансирования (бывают исключен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 примеров на рынках, использующих гравным образом электричество, а не газ (например, установка когенерации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нергоэффективность в госсекторе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6280" y="1762200"/>
            <a:ext cx="40942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а энергоменеджмента в госсектор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осквы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ый кредит на цели повышения энергоэффективности в секторе здравоохра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едрение проекта на опытном муниципальном предприятии при  поддержке международных специалистов, оплачиваемых за счет средств тех. содей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ирование в размере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долл. США на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цессе подгот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160" y="1742760"/>
            <a:ext cx="4095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СКО в г. Лодзь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ьш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Ч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дит или платежная гарантия частному оператору ЭСКО, выбранному по итогам тенд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оприятия по энергоэффективности в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аниях, внедряемые ЭСКО и оплачиваемые за счет энергосбережен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четные потребности в инвестициях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евро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БРР выдает кредит на сумму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евро или платежную гарантию в объеме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овестка дня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БРР и инициатива по развитию устойчивой энерге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нок ЭСКО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ударственный и частный се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и ЭС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ы и практика реализации моделей ЭС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0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меры проектов ЕБРР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1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 Энергоальянс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Украина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1" i="1" lang="en-GB" sz="29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9360" y="1652400"/>
            <a:ext cx="391788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дит на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долл. США выдан первой на Украине частной ЭСКО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трольным пакетом акций владеет фонд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stern NIS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поддержке американского фонд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дит ЕБРР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долл. США и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долл. США, предоставленные банком Райффайзен (синдикац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СКО применяет схему финансового лизинга: клиент эксплуатирует оборудование без высоких первоначальных инвести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м проектом стало строительство ТЭС мощностью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Вт, работающей на кожуре семян подсолнечн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5214960"/>
            <a:ext cx="3324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Arial"/>
              </a:rPr>
              <a:t>ЕБРР стал инициатором создания первой частной ЭСКО, предоставляющей  своим клиентам долгосрочные средства на условиях финансового лизинг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21320" y="2065320"/>
            <a:ext cx="2657520" cy="283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 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РИЭЭК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Румыния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1" i="1" lang="en-GB" sz="29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7520" y="1800360"/>
            <a:ext cx="387036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дит на сумму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евро румынской ЭСКО, специализирующейся на промышленном сек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ания создана Румыно-американским фондом поддержки предприяти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нд финансирует малые проекты в области коген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ирование строится по забалансовой схеме путем заключения договоров энергоснаб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18040" y="2744640"/>
            <a:ext cx="3797280" cy="895320"/>
          </a:xfrm>
          <a:prstGeom prst="rect">
            <a:avLst/>
          </a:prstGeom>
          <a:ln w="9360">
            <a:solidFill>
              <a:srgbClr val="213795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5391000" y="4300560"/>
            <a:ext cx="3305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c99"/>
                </a:solidFill>
                <a:latin typeface="Arial"/>
              </a:rPr>
              <a:t>ЕБРР выступил инициатором создания в Румынии одной из первых ЭСКО, предоставляющей средства финансирования на цели повышения энергоэффективности на промпредприятия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3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УкрЭСКО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Украина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7640" y="2050920"/>
            <a:ext cx="382284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дит ЕБРР в сумме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долл. США под госгарант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зданная в 1998 году, эта государственная ЭСКО работает с промышленными и частными клиент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лиенты ЭСКО пользуются услугами и консультациями технических специалистов на протяжении всего срока действия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торный кредит в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о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ффективная модель для стран, где риски считаются слишком высоки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65840" y="4811760"/>
            <a:ext cx="369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c99"/>
                </a:solidFill>
                <a:latin typeface="Arial"/>
              </a:rPr>
              <a:t>Благодаря своим контактам с правительством Украины ЕБРР создал новый механизм повышения энергоэффективности на Украин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52880" y="2114640"/>
            <a:ext cx="3676680" cy="2150280"/>
            <a:chOff x="4952880" y="2114640"/>
            <a:chExt cx="3676680" cy="2150280"/>
          </a:xfrm>
        </p:grpSpPr>
        <p:grpSp>
          <p:nvGrpSpPr>
            <p:cNvPr id="101" name=""/>
            <p:cNvGrpSpPr/>
            <p:nvPr/>
          </p:nvGrpSpPr>
          <p:grpSpPr>
            <a:xfrm>
              <a:off x="4971960" y="2138400"/>
              <a:ext cx="3657240" cy="2126520"/>
              <a:chOff x="4971960" y="2138400"/>
              <a:chExt cx="3657240" cy="212652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71960" y="2138400"/>
                <a:ext cx="3657240" cy="88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1960" y="3015360"/>
                <a:ext cx="3657240" cy="1249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4952880" y="2114640"/>
              <a:ext cx="3676680" cy="2133360"/>
            </a:xfrm>
            <a:prstGeom prst="rect">
              <a:avLst/>
            </a:prstGeom>
            <a:noFill/>
            <a:ln w="9360">
              <a:solidFill>
                <a:srgbClr val="2137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 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Компания «Прометей»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Венгрия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8000" y="2050920"/>
            <a:ext cx="414648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97 году ЕБРР приобрел пакет акций на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евро и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оставил кредит в сумме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евро ведущей ЭСКО в Венгр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мпания оказывает весь комплекс энергосервисных услуг с гарантией эффекта. В ее портфеле более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3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тра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метей работает главным образом с предприятиями централизованного теплоснабжения и в муниципальном жилищном секто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БРР оказал помощь компании в последующем привлечении финансир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99040" y="4811760"/>
            <a:ext cx="3692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c99"/>
                </a:solidFill>
                <a:latin typeface="Arial"/>
              </a:rPr>
              <a:t>После первого вложения средств ЕБРР в компанию «Прометей» рынок энергосервисных услуг в Венгрии получил значительное развит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43440" y="2016000"/>
            <a:ext cx="2189160" cy="266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5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ТЭС в г. Познани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ольша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7760" y="1779480"/>
            <a:ext cx="39499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5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ьская компания «Далкия» получила кредит ЕББР в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евро для приобретение сети централизованного теплоснабжения г. Познани и Познанской ТЭС,  приватизированной казначейством Поль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довательное приобретение тепловой сети и ТЭС стало первым примером консолидации объектов выработки и распределения тепловой энергии в Польше и максимизации эффектив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вестпрограмма нацелена на  расширение сети теплоснабжения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ее эффективности, установление изоляции и дополнительных счетчиков теп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76840" y="2160720"/>
            <a:ext cx="3998880" cy="283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619600" y="5110200"/>
            <a:ext cx="3117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Arial"/>
              </a:rPr>
              <a:t>Благодаря  своим давним партнерским отношениям с ЕБРР компания «Далкия» занимается разработкой проектов повышения  энергоэффективности во многих странах регио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6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Фонд «Дексия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фонделек»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5400" y="1792440"/>
            <a:ext cx="48528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БРР вложил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евро в фонд прямых инвестиций с капиталом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евро. Фонд занимался инвестициями в проекты повышения энергоэффективности в странах Центральной Европ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онд оказал содействие в реализации целого ряда проектов энергоэффективности в регионе как в форме прямого участия, так и через свою ЭСКО «ЭЭТЕК»,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оцентным владельцем которой он явля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лизованные инвестиционные проек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дернизация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дприятий централизованного теплоснабжения Польш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ект энергоаутсорсинга на крупном предприятии Венгрии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БА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становка малых когенерационных установок на промпредприятия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ект уличного освещения с участием группы муниципальных образо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02200" y="4789440"/>
            <a:ext cx="3117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Arial"/>
              </a:rPr>
              <a:t>Фонду позволил увеличить приток прямых инвестиций в компании, специализирующиеся на проектах повышения  энергоэффективности и освоения возобновляемых источников энер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1280" y="1833480"/>
            <a:ext cx="87480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99"/>
                </a:solidFill>
                <a:latin typeface="Arial"/>
              </a:rPr>
              <a:t>Контактная информация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2880" y="1887120"/>
            <a:ext cx="844092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Arial"/>
              </a:rPr>
              <a:t>Питер Хобс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99"/>
                </a:solidFill>
                <a:latin typeface="Arial"/>
              </a:rPr>
              <a:t>Старший банкир, Отдел энергоэффективности и изменения клим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л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: +44 (0)20 7338 6737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mail: hobsonp@ebrd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Arial"/>
              </a:rPr>
              <a:t>Павел Теремец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99"/>
                </a:solidFill>
                <a:latin typeface="Arial"/>
              </a:rPr>
              <a:t>Менеджер по развитию проектов, Отдел энергоэффективности и изменения клим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л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: + 7 495 787 111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б. 162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remetp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@ebrd.co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ru-RU" sz="3300" spc="-1" strike="noStrike">
                <a:solidFill>
                  <a:srgbClr val="ffff99"/>
                </a:solidFill>
                <a:latin typeface="Arial"/>
              </a:rPr>
              <a:t>Информ</a:t>
            </a:r>
            <a:r>
              <a:rPr b="1" lang="ru-RU" sz="3300" spc="-1" strike="noStrike">
                <a:solidFill>
                  <a:srgbClr val="ffff99"/>
                </a:solidFill>
                <a:latin typeface="Arial"/>
              </a:rPr>
              <a:t>ация о </a:t>
            </a:r>
            <a:r>
              <a:rPr b="1" lang="ru-RU" sz="3300" spc="-1" strike="noStrike">
                <a:solidFill>
                  <a:srgbClr val="ffff99"/>
                </a:solidFill>
                <a:latin typeface="Arial"/>
              </a:rPr>
              <a:t>ЕБРР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28720" y="1773360"/>
            <a:ext cx="814860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120" bIns="42120" anchor="t">
            <a:noAutofit/>
          </a:bodyPr>
          <a:p>
            <a:pPr marL="341280" indent="-341280">
              <a:lnSpc>
                <a:spcPct val="15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ждународное финансовое учреждение с рейтингом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5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БРР основан в 1991 год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ционеры – 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о, а также Европейский Инвестиционный Банк и Евросою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5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ь ЕБРР – содействие переходу к рыночной экономи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5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пнейший частный инвестор в регионе. Объем инвестиционного портфеля в России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.8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лрд. 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р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5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, муниципальный сектор и энергоэффективность – важнейшие приоритеты ЕБРР в Росс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85960" y="1373040"/>
          <a:ext cx="7772400" cy="575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373040"/>
                    <a:ext cx="7772400" cy="57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99"/>
                </a:solidFill>
                <a:latin typeface="Arial"/>
              </a:rPr>
              <a:t>Портфель проектов ЕБРР в России по отраслям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99"/>
                </a:solidFill>
                <a:latin typeface="Arial"/>
              </a:rPr>
              <a:t>Финансирование ЕБРР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5040" y="1882440"/>
            <a:ext cx="7961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cc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ямые инструменты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едиты, прямые инвестиции (в акционерный капитал), гарантии, включая средства повышения кредитного рейтинг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рантии выполнения обязательств и д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Косвенные инструменты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едиты малым и средним предприятиям, фонды прямых инвестиций, программа финансирования микро- и малого бизнеса, кредитные линии банкам, программа содействия торговле, со-финанс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олгосрочное партнерство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госрочное финансирование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7-10 лет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ртнерство на ранней стад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астный и государственный сектор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вестиции в частные и государственные компании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лог с правительством в области экономической политики и реализации про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ЕБРР и инициатива по развитию устойчивой энергетики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5040" y="1968480"/>
            <a:ext cx="81486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воение инвестиций ЕБРР в энергоэффективность в 2007-08 до 1,7 млрд. Евро (включая промышленность, муниципальный сектор, возобновляемые источники, энергетика – «чистые технологии»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ализированный департамент ЕБРР по энергоэффектив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платная техническая поддержка: проведение энергоаудитов, разработка программ по энергоэффективности, внедрение систем энергоменеджмента,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инновационных механизмов (ЭСКО, финансирование энергоэффективности через банковский сектор, и т.д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леродный фонд ЕБРР – монетизация углеродных креди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ЕБРР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монетизация углеродных кредитов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5400" y="2133720"/>
            <a:ext cx="75182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леродный фонд Нидерландов под управлением ЕБ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редитель Международного фонда углеродных кредитов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CC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с капиталом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6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млн. Евро совместно с Европейским Инвестиционным Бан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упка углеродных кредитов проектов, финансируемых ЕБР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платная поддержка для клиентов на всем цикле углеродного финансирования вплоть до разработки проектной документ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99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ffcc99"/>
                </a:solidFill>
                <a:latin typeface="Arial"/>
              </a:rPr>
              <a:t>Продажа углеродных кредитов повышает рентабельность проек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нергосервисные компании (ЭСКО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04960" y="2133720"/>
            <a:ext cx="79898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и основных ры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секто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ниц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ественные здан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фисные помещения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ищный секто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квартирные дома, нуждающиеся в модернизации и новых системах отоп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ный секто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ым образом промышленные предприя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ый из этих рынков требует индивидуального под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СКО – государственный сектор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0640" y="1819080"/>
            <a:ext cx="790416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ые характерис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ное и поддающееся измерению потребление энер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ндартные технические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ы заключаются по принципу госзака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тенциально огромный рын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 применение перфоманс-контракт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 эффекта от энергосбережен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утствие опыта у местных властей осложняет маркетинг, развитие бизнеса и реализацию про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0:25:57Z</dcterms:created>
  <dc:creator>vukovicg</dc:creator>
  <dc:description/>
  <dc:language>en-US</dc:language>
  <cp:lastModifiedBy>TeremetP</cp:lastModifiedBy>
  <dcterms:modified xsi:type="dcterms:W3CDTF">2007-07-19T13:46:15Z</dcterms:modified>
  <cp:revision>180</cp:revision>
  <dc:subject/>
  <dc:title>Guidelines for colour templates [Presentations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77270475</vt:r8>
  </property>
  <property fmtid="{D5CDD505-2E9C-101B-9397-08002B2CF9AE}" pid="3" name="_AuthorEmail">
    <vt:lpwstr>TeremetP@ebrd.com</vt:lpwstr>
  </property>
  <property fmtid="{D5CDD505-2E9C-101B-9397-08002B2CF9AE}" pid="4" name="_AuthorEmailDisplayName">
    <vt:lpwstr>Teremetsky, Pavel</vt:lpwstr>
  </property>
  <property fmtid="{D5CDD505-2E9C-101B-9397-08002B2CF9AE}" pid="5" name="_EmailSubject">
    <vt:lpwstr>???????</vt:lpwstr>
  </property>
</Properties>
</file>