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DD26-9246-4611-B613-7FEA5C08267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77994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5040" y="4186800"/>
            <a:ext cx="77994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1760" y="213372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5040" y="418680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1760" y="418680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25110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32040" y="2133720"/>
            <a:ext cx="25110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69040" y="2133720"/>
            <a:ext cx="25110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5040" y="4186800"/>
            <a:ext cx="25110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32040" y="4186800"/>
            <a:ext cx="25110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69040" y="4186800"/>
            <a:ext cx="25110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5040" y="2133720"/>
            <a:ext cx="779940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77994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380592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1760" y="2133720"/>
            <a:ext cx="380592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07640" y="507600"/>
            <a:ext cx="779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1760" y="2133720"/>
            <a:ext cx="380592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5040" y="418680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380592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1760" y="213372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1760" y="418680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1760" y="2133720"/>
            <a:ext cx="380592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5040" y="4186800"/>
            <a:ext cx="7799400" cy="18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5040" y="2133720"/>
            <a:ext cx="77994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17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4160" indent="-203400">
              <a:spcBef>
                <a:spcPts val="174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30960" indent="-203400">
              <a:spcBef>
                <a:spcPts val="17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30960" indent="-203400">
              <a:spcBef>
                <a:spcPts val="17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30960" indent="-203400">
              <a:spcBef>
                <a:spcPts val="17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11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витие рынка энергосервисных компаний (ЭСКО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России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Презентация ЕБРР на заседании рабочей группы РСПП 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по энергоэффективности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12 Июля</a:t>
            </a:r>
            <a:r>
              <a:rPr b="1" lang="en-GB" sz="2000" spc="-1" strike="noStrike">
                <a:solidFill>
                  <a:srgbClr val="ffff99"/>
                </a:solidFill>
                <a:latin typeface="Arial"/>
              </a:rPr>
              <a:t> 2007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 г.</a:t>
            </a:r>
            <a:r>
              <a:rPr b="1" lang="en-GB" sz="3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686480"/>
            <a:ext cx="64008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ЭСКО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частный сектор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77994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мышленные предприятия. Главные характеристик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нергопотребление тесно увязано с технологическими процессами и объемами производства, что затрудняет определение «базового уровн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нообразие и специфика технологических потреб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лавный подход – внедрение систем энергоменеджмен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приятия часто не хотят привлекать консультантов, концепция раздела эффекта от энергосбережения представляется им чрезмерно слож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можности для разработки специфических продуктов, например лизинг когенерационных установок, аутсорсинг энергетических объек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ЭСКО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жилищный сектор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77994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ды клиентов – товарищества собственников жилья, местные органы власти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лавные характеристик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лучшение отопления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оляция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еклопакеты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стемы температурного контроля всего зд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ы часто связаны с модернизацией систем централизованного теплоснабжения (особенно подстанций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ожность разработки схемам опл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хнологии понятны, но проекты на уровне отдельных домохозяйств малоэффектвны, а нормативы работы с ТСЖ не отработа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 на основе продажи коммунальных услуг, а не перфоманс-контрак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Модели ЭСКО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77994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ключение перфоманс-контрак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иксированная плата на основе прогнозной экономии энерг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инансирование с привлечением третьих стор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левой фонд ЭС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утсорсин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зин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Заключение перфоманс-контрактов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5400" y="2133360"/>
            <a:ext cx="80056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добная концепция, т.к. клиенту получает экономию, не инвестируя собственные средства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номию трудно прогнозировать и измерять, особенно на промпредприятиях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СКО имеют ограниченный доступ к финансированию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дель не вызывает доверия и считается чрезмерно усложненной для практического применения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ное применение – в жилищном секто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Фиксированная плата на основе прогнозной экономии энергии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6320" y="2000160"/>
            <a:ext cx="790416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много проще принципа раздела эффекта от энергосбережения, поскольку не требуется измерение и контроль за показателями фактической экономи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ще в договорном плане, поэтому привлекательней для клиентов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прос источника инвестиционных средств остается нерешенным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дель наиболее применима на промышленных предприятия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Финансирование 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с привлечением третьих сторон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77994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няется в моделях раздела эффекта энергосбережения и фиксированной платы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СКО дает гарантию исполнения, а третья сторона предоставляет финансовые средства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ычно банковский кредит клиенту с уступкой прав платежей ЭСКО в качестве залога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е ЭСКО и решение проблемы неэффективной структуры баланса и доступа ЭСКО к финансирова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99"/>
                </a:solidFill>
                <a:latin typeface="Arial"/>
              </a:rPr>
              <a:t>Целевой фонд ЭСКО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9360" y="1800360"/>
            <a:ext cx="7885080" cy="42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еднее между ЭСКО и фондом инвестици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левой фонд предоставляет средства финансирования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жет покупать дебиторку по завершенным проектам, профинансированным с помощью краткосрочных средств ЭСКО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уждается в стандартном подходе и единой системе оценки рисков проектов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бходима дополнительная поддержка (например, ЕБРР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Аутсорсинг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99640" y="2181240"/>
            <a:ext cx="7885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СКО берет на себя функции управления системами отопления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вещения и иными системами с обязательством снизить затраты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сет ответственность за техобслуживание, но клиент все равно оплачивает согласованные капитальные расходы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чаще применяется в зданиях коммерческого назначения и в определенных масштабах в госсекто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2040" y="536040"/>
            <a:ext cx="7799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Лизинг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09360" y="1819080"/>
            <a:ext cx="7885080" cy="42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настоящая модель ЭСКО, но лизинг очень эффективен для финансирования промышленных объектов типа когенерационных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СКО может предоставлять услуги «под ключ», но не отвечать за привлечение финансирования (бывают исключения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ного примеров на рынках, использующих гравным образом электричество, а не газ (например, установка когенерации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Энергоэффективность в госсекторе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римеры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6280" y="1762200"/>
            <a:ext cx="409428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грамма энергоменеджмента в госсектор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 Москвы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ниципальный кредит на цели повышения энергоэффективности в секторе здравоохран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едрение проекта на опытном муниципальном предприятии при  поддержке международных специалистов, оплачиваемых за счет средств тех. содейств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нансирование в размере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лн. долл. США на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роцессе подготов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3160" y="1742760"/>
            <a:ext cx="40957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СКО в г. Лодзь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ьша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ЧП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едит или платежная гарантия частному оператору ЭСКО, выбранному по итогам тенд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роприятия по энергоэффективности в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500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аниях, внедряемые ЭСКО и оплачиваемые за счет энергосбережения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четные потребности в инвестициях -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лн. евро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ЕБРР выдает кредит на сумму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лн. евро или платежную гарантию в объеме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овестка дня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5040" y="2133720"/>
            <a:ext cx="779940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БРР и инициатива по развитию устойчивой энерге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ынок ЭСКО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ударственный и частный секто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ели ЭС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ры и практика реализации моделей ЭС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0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Примеры проектов ЕБРР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ример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 1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. Энергоальянс</a:t>
            </a:r>
            <a:r>
              <a:rPr b="1" i="1" lang="en-GB" sz="28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Украина</a:t>
            </a:r>
            <a:r>
              <a:rPr b="1" i="1" lang="en-GB" sz="28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1" i="1" lang="en-GB" sz="29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09360" y="1652400"/>
            <a:ext cx="391788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редит на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млн. долл. США выдан первой на Украине частной ЭСКО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нтрольным пакетом акций владеет фонд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stern NIS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поддержке американского фонд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редит ЕБРР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млн. долл. США и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млн. долл. США, предоставленные банком Райффайзен (синдикация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СКО применяет схему финансового лизинга: клиент эксплуатирует оборудование без высоких первоначальных инвести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ым проектом стало строительство ТЭС мощностью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4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Вт, работающей на кожуре семян подсолнечн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5214960"/>
            <a:ext cx="3324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Arial"/>
              </a:rPr>
              <a:t>ЕБРР стал инициатором создания первой частной ЭСКО, предоставляющей  своим клиентам долгосрочные средства на условиях финансового лизинг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521320" y="2065320"/>
            <a:ext cx="2657520" cy="283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ример 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РИЭЭК</a:t>
            </a:r>
            <a:r>
              <a:rPr b="1" i="1" lang="en-GB" sz="28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Румыния</a:t>
            </a:r>
            <a:r>
              <a:rPr b="1" i="1" lang="en-GB" sz="2800" spc="-1" strike="noStrike">
                <a:solidFill>
                  <a:srgbClr val="ffff99"/>
                </a:solidFill>
                <a:latin typeface="Arial"/>
              </a:rPr>
              <a:t>)</a:t>
            </a:r>
            <a:r>
              <a:rPr b="1" i="1" lang="en-GB" sz="2900" spc="-1" strike="noStrike">
                <a:solidFill>
                  <a:srgbClr val="ffff99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47520" y="1800360"/>
            <a:ext cx="3870360" cy="42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едит на сумму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1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лн. евро румынской ЭСКО, специализирующейся на промышленном секто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ания создана Румыно-американским фондом поддержки предприятий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нд финансирует малые проекты в области коген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нансирование строится по забалансовой схеме путем заключения договоров энергоснаб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18040" y="2744640"/>
            <a:ext cx="3797280" cy="895320"/>
          </a:xfrm>
          <a:prstGeom prst="rect">
            <a:avLst/>
          </a:prstGeom>
          <a:ln w="9360">
            <a:solidFill>
              <a:srgbClr val="213795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5391000" y="4300560"/>
            <a:ext cx="3305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cc99"/>
                </a:solidFill>
                <a:latin typeface="Arial"/>
              </a:rPr>
              <a:t>ЕБРР выступил инициатором создания в Румынии одной из первых ЭСКО, предоставляющей средства финансирования на цели повышения энергоэффективности на промпредприятиях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ример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 3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УкрЭСКО</a:t>
            </a:r>
            <a:r>
              <a:rPr b="1" i="1" lang="en-GB" sz="28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Украина</a:t>
            </a:r>
            <a:r>
              <a:rPr b="1" i="1" lang="en-GB" sz="2800" spc="-1" strike="noStrike">
                <a:solidFill>
                  <a:srgbClr val="ffff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07640" y="2050920"/>
            <a:ext cx="382284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редит ЕБРР в сумме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млн. долл. США под госгаранти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зданная в 1998 году, эта государственная ЭСКО работает с промышленными и частными клиент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лиенты ЭСКО пользуются услугами и консультациями технических специалистов на протяжении всего срока действия проек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вторный кредит в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од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ффективная модель для стран, где риски считаются слишком высоки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65840" y="4811760"/>
            <a:ext cx="3692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cc99"/>
                </a:solidFill>
                <a:latin typeface="Arial"/>
              </a:rPr>
              <a:t>Благодаря своим контактам с правительством Украины ЕБРР создал новый механизм повышения энергоэффективности на Украин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952880" y="2114640"/>
            <a:ext cx="3676680" cy="2150280"/>
            <a:chOff x="4952880" y="2114640"/>
            <a:chExt cx="3676680" cy="2150280"/>
          </a:xfrm>
        </p:grpSpPr>
        <p:grpSp>
          <p:nvGrpSpPr>
            <p:cNvPr id="101" name=""/>
            <p:cNvGrpSpPr/>
            <p:nvPr/>
          </p:nvGrpSpPr>
          <p:grpSpPr>
            <a:xfrm>
              <a:off x="4971960" y="2138400"/>
              <a:ext cx="3657240" cy="2126520"/>
              <a:chOff x="4971960" y="2138400"/>
              <a:chExt cx="3657240" cy="2126520"/>
            </a:xfrm>
          </p:grpSpPr>
          <p:pic>
            <p:nvPicPr>
              <p:cNvPr id="10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971960" y="2138400"/>
                <a:ext cx="3657240" cy="88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971960" y="3015360"/>
                <a:ext cx="3657240" cy="1249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" name=""/>
            <p:cNvSpPr/>
            <p:nvPr/>
          </p:nvSpPr>
          <p:spPr>
            <a:xfrm>
              <a:off x="4952880" y="2114640"/>
              <a:ext cx="3676680" cy="2133360"/>
            </a:xfrm>
            <a:prstGeom prst="rect">
              <a:avLst/>
            </a:prstGeom>
            <a:noFill/>
            <a:ln w="9360">
              <a:solidFill>
                <a:srgbClr val="2137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ример 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Компания «Прометей»</a:t>
            </a:r>
            <a:r>
              <a:rPr b="1" i="1" lang="en-GB" sz="28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Венгрия</a:t>
            </a:r>
            <a:r>
              <a:rPr b="1" i="1" lang="en-GB" sz="2800" spc="-1" strike="noStrike">
                <a:solidFill>
                  <a:srgbClr val="ffff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08000" y="2050920"/>
            <a:ext cx="4146480" cy="39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1997 году ЕБРР приобрел пакет акций на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млн. евро и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едоставил кредит в сумме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млн. евро ведущей ЭСКО в Венгр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мпания оказывает весь комплекс энергосервисных услуг с гарантией эффекта. В ее портфеле более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350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нтрак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метей работает главным образом с предприятиями централизованного теплоснабжения и в муниципальном жилищном сектор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БРР оказал помощь компании в последующем привлечении финансиров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99040" y="4811760"/>
            <a:ext cx="3692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cc99"/>
                </a:solidFill>
                <a:latin typeface="Arial"/>
              </a:rPr>
              <a:t>После первого вложения средств ЕБРР в компанию «Прометей» рынок энергосервисных услуг в Венгрии получил значительное развити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43440" y="2016000"/>
            <a:ext cx="2189160" cy="2664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ример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 5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ТЭС в г. Познани</a:t>
            </a:r>
            <a:r>
              <a:rPr b="1" i="1" lang="en-GB" sz="2800" spc="-1" strike="noStrike">
                <a:solidFill>
                  <a:srgbClr val="ffff99"/>
                </a:solidFill>
                <a:latin typeface="Arial"/>
              </a:rPr>
              <a:t> (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Польша</a:t>
            </a:r>
            <a:r>
              <a:rPr b="1" i="1" lang="en-GB" sz="2800" spc="-1" strike="noStrike">
                <a:solidFill>
                  <a:srgbClr val="ffff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7760" y="1779480"/>
            <a:ext cx="394992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5000"/>
              </a:lnSpc>
              <a:spcBef>
                <a:spcPts val="1400"/>
              </a:spcBef>
              <a:buClr>
                <a:srgbClr val="ffff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льская компания «Далкия» получила кредит ЕББР в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34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млн. евро для приобретение сети централизованного теплоснабжения г. Познани и Познанской ТЭС,  приватизированной казначейством Польш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85000"/>
              </a:lnSpc>
              <a:spcBef>
                <a:spcPts val="1400"/>
              </a:spcBef>
              <a:buClr>
                <a:srgbClr val="ffff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ледовательное приобретение тепловой сети и ТЭС стало первым примером консолидации объектов выработки и распределения тепловой энергии в Польше и максимизации эффектив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85000"/>
              </a:lnSpc>
              <a:spcBef>
                <a:spcPts val="1400"/>
              </a:spcBef>
              <a:buClr>
                <a:srgbClr val="ffff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вестпрограмма нацелена на  расширение сети теплоснабжения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вышение ее эффективности, установление изоляции и дополнительных счетчиков теп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76840" y="2160720"/>
            <a:ext cx="3998880" cy="2835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5619600" y="5110200"/>
            <a:ext cx="3117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Arial"/>
              </a:rPr>
              <a:t>Благодаря  своим давним партнерским отношениям с ЕБРР компания «Далкия» занимается разработкой проектов повышения  энергоэффективности во многих странах регио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ример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 6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.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Фонд «Дексия</a:t>
            </a:r>
            <a:r>
              <a:rPr b="1" i="1" lang="en-GB" sz="2800" spc="-1" strike="noStrike">
                <a:solidFill>
                  <a:srgbClr val="ffff99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фонделек»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5400" y="1792440"/>
            <a:ext cx="48528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1400"/>
              </a:spcBef>
              <a:buClr>
                <a:srgbClr val="ffff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БРР вложил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млн. евро в фонд прямых инвестиций с капиталом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млн. евро. Фонд занимался инвестициями в проекты повышения энергоэффективности в странах Центральной Европ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1400"/>
              </a:spcBef>
              <a:buClr>
                <a:srgbClr val="ffff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онд оказал содействие в реализации целого ряда проектов энергоэффективности в регионе как в форме прямого участия, так и через свою ЭСКО «ЭЭТЕК»,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процентным владельцем которой он являе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1400"/>
              </a:spcBef>
              <a:buClr>
                <a:srgbClr val="ffff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ализованные инвестиционные проект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одернизация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2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едприятий централизованного теплоснабжения Польш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ект энергоаутсорсинга на крупном предприятии Венгрии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БА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становка малых когенерационных установок на промпредприятия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ект уличного освещения с участием группы муниципальных образова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02200" y="4789440"/>
            <a:ext cx="3117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Arial"/>
              </a:rPr>
              <a:t>Фонду позволил увеличить приток прямых инвестиций в компании, специализирующиеся на проектах повышения  энергоэффективности и освоения возобновляемых источников энерг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091280" y="1833480"/>
            <a:ext cx="874800" cy="285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99"/>
                </a:solidFill>
                <a:latin typeface="Arial"/>
              </a:rPr>
              <a:t>Контактная информация</a:t>
            </a:r>
            <a:endParaRPr b="1" lang="en-US" sz="2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2880" y="1887120"/>
            <a:ext cx="844092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99"/>
                </a:solidFill>
                <a:latin typeface="Arial"/>
              </a:rPr>
              <a:t>Питер Хобс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99"/>
                </a:solidFill>
                <a:latin typeface="Arial"/>
              </a:rPr>
              <a:t>Старший банкир, Отдел энергоэффективности и изменения клим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л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: +44 (0)20 7338 6737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mail: hobsonp@ebrd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99"/>
                </a:solidFill>
                <a:latin typeface="Arial"/>
              </a:rPr>
              <a:t>Павел Теремец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99"/>
                </a:solidFill>
                <a:latin typeface="Arial"/>
              </a:rPr>
              <a:t>Менеджер по развитию проектов, Отдел энергоэффективности и изменения клим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л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: + 7 495 787 1111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б. 162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mail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remetp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@ebrd.co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1" lang="ru-RU" sz="3300" spc="-1" strike="noStrike">
                <a:solidFill>
                  <a:srgbClr val="ffff99"/>
                </a:solidFill>
                <a:latin typeface="Arial"/>
              </a:rPr>
              <a:t>Информ</a:t>
            </a:r>
            <a:r>
              <a:rPr b="1" lang="ru-RU" sz="3300" spc="-1" strike="noStrike">
                <a:solidFill>
                  <a:srgbClr val="ffff99"/>
                </a:solidFill>
                <a:latin typeface="Arial"/>
              </a:rPr>
              <a:t>ация о </a:t>
            </a:r>
            <a:r>
              <a:rPr b="1" lang="ru-RU" sz="3300" spc="-1" strike="noStrike">
                <a:solidFill>
                  <a:srgbClr val="ffff99"/>
                </a:solidFill>
                <a:latin typeface="Arial"/>
              </a:rPr>
              <a:t>ЕБРР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828720" y="1773360"/>
            <a:ext cx="814860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120" bIns="42120" anchor="t">
            <a:noAutofit/>
          </a:bodyPr>
          <a:p>
            <a:pPr marL="341280" indent="-341280">
              <a:lnSpc>
                <a:spcPct val="15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ждународное финансовое учреждение с рейтингом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A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5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БРР основан в 1991 год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кционеры – 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сударство, а также Европейский Инвестиционный Банк и Евросою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5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ль ЕБРР – содействие переходу к рыночной экономик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5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упнейший частный инвестор в регионе. Объем инвестиционного портфеля в России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5.8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лрд. Е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вр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5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раструктура, муниципальный сектор и энергоэффективность – важнейшие приоритеты ЕБРР в Росс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85960" y="1373040"/>
          <a:ext cx="7772400" cy="575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1373040"/>
                    <a:ext cx="7772400" cy="575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99"/>
                </a:solidFill>
                <a:latin typeface="Arial"/>
              </a:rPr>
              <a:t>Портфель проектов ЕБРР в России по отраслям</a:t>
            </a:r>
            <a:endParaRPr b="1" lang="en-US" sz="33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99"/>
                </a:solidFill>
                <a:latin typeface="Arial"/>
              </a:rPr>
              <a:t>Финансирование ЕБРР</a:t>
            </a:r>
            <a:endParaRPr b="1" lang="en-US" sz="29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5040" y="1882440"/>
            <a:ext cx="7961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ffcc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Прямые инструменты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редиты, прямые инвестиции (в акционерный капитал), гарантии, включая средства повышения кредитного рейтинга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рантии выполнения обязательств и др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Косвенные инструменты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редиты малым и средним предприятиям, фонды прямых инвестиций, программа финансирования микро- и малого бизнеса, кредитные линии банкам, программа содействия торговле, со-финансир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Долгосрочное партнерство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лгосрочное финансирование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7-10 лет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ртнерство на ранней стад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Частный и государственный сектор</a:t>
            </a:r>
            <a:r>
              <a:rPr b="0" lang="en-GB" sz="20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вестиции в частные и государственные компании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алог с правительством в области экономической политики и реализации проек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ЕБРР и инициатива по развитию устойчивой энергетики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5040" y="1968480"/>
            <a:ext cx="814860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двоение инвестиций ЕБРР в энергоэффективность в 2007-08 до 1,7 млрд. Евро (включая промышленность, муниципальный сектор, возобновляемые источники, энергетика – «чистые технологии»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ециализированный департамент ЕБРР по энергоэффектив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сплатная техническая поддержка: проведение энергоаудитов, разработка программ по энергоэффективности, внедрение систем энергоменеджмента,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аботка инновационных механизмов (ЭСКО, финансирование энергоэффективности через банковский сектор, и т.д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глеродный фонд ЕБРР – монетизация углеродных креди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ЕБРР</a:t>
            </a: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монетизация углеродных кредитов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5400" y="2133720"/>
            <a:ext cx="75182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глеродный фонд Нидерландов под управлением ЕБР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редитель Международного фонда углеродных кредитов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CCF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с капиталом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65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млн. Евро совместно с Европейским Инвестиционным Банк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купка углеродных кредитов проектов, финансируемых ЕБР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сплатная поддержка для клиентов на всем цикле углеродного финансирования вплоть до разработки проектной документ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99"/>
                </a:solidFill>
                <a:latin typeface="Arial"/>
              </a:rPr>
              <a:t>            </a:t>
            </a:r>
            <a:r>
              <a:rPr b="1" i="1" lang="ru-RU" sz="2000" spc="-1" strike="noStrike">
                <a:solidFill>
                  <a:srgbClr val="ffcc99"/>
                </a:solidFill>
                <a:latin typeface="Arial"/>
              </a:rPr>
              <a:t>Продажа углеродных кредитов повышает рентабельность проект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Энергосервисные компании (ЭСКО)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04960" y="2133720"/>
            <a:ext cx="7989840" cy="39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и основных ры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ссектор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колы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льницы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щественные здания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фисные помещения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лищный сектор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ногоквартирные дома, нуждающиеся в модернизации и новых системах отоп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стный сектор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авным образом промышленные предприят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ждый из этих рынков требует индивидуального подх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1ac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7640" y="50760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ЭСКО – государственный сектор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90640" y="1819080"/>
            <a:ext cx="7904160" cy="42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авные характерист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оянное и поддающееся измерению потребление энерг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андартные технические реш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говоры заключаются по принципу госзака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тенциально огромный рын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зможно применение перфоманс-контрактов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дел эффекта от энергосбережения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99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сутствие опыта у местных властей осложняет маркетинг, развитие бизнеса и реализацию проек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10:25:57Z</dcterms:created>
  <dc:creator>vukovicg</dc:creator>
  <dc:description/>
  <dc:language>en-US</dc:language>
  <cp:lastModifiedBy>TeremetP</cp:lastModifiedBy>
  <dcterms:modified xsi:type="dcterms:W3CDTF">2007-07-19T13:46:15Z</dcterms:modified>
  <cp:revision>180</cp:revision>
  <dc:subject/>
  <dc:title>Guidelines for colour templates [Presentations]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77270475</vt:r8>
  </property>
  <property fmtid="{D5CDD505-2E9C-101B-9397-08002B2CF9AE}" pid="3" name="_AuthorEmail">
    <vt:lpwstr>TeremetP@ebrd.com</vt:lpwstr>
  </property>
  <property fmtid="{D5CDD505-2E9C-101B-9397-08002B2CF9AE}" pid="4" name="_AuthorEmailDisplayName">
    <vt:lpwstr>Teremetsky, Pavel</vt:lpwstr>
  </property>
  <property fmtid="{D5CDD505-2E9C-101B-9397-08002B2CF9AE}" pid="5" name="_EmailSubject">
    <vt:lpwstr>???????</vt:lpwstr>
  </property>
</Properties>
</file>