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jpeg" ContentType="image/jpeg"/>
  <Override PartName="/ppt/media/image11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9.png" ContentType="image/png"/>
  <Override PartName="/ppt/media/image12.wmf" ContentType="image/x-wmf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.wmf" ContentType="image/x-wmf"/>
  <Override PartName="/ppt/media/image8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907588" cy="6858000"/>
  <p:notesSz cx="6634163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634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7640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758760" y="-360"/>
            <a:ext cx="287676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658440" y="736200"/>
            <a:ext cx="531972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Futura XBlk BT"/>
              </a:rPr>
              <a:t>Click to move the slide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885600" y="4664160"/>
            <a:ext cx="4863960" cy="4419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327960"/>
            <a:ext cx="287640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758760" y="9327960"/>
            <a:ext cx="287676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F5D0DD25-438A-49E8-8F46-6AC68180B969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658800" y="736560"/>
            <a:ext cx="5319720" cy="36831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5600" y="4664160"/>
            <a:ext cx="4863960" cy="4419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Техника, используемая в системе поставок топливной древесины и в производстве щеп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Карелиан пуу йа металл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Кесла ои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Коперайа Антти Рана 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Ми-Пе 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. Энергетические кооператив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Энергетический кооператив Эн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Энергетический кооператив кихтелисваар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Контио Энерги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Энергетический кооператив Липер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Энергетический кооператив Нурме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Энергетический кооператив Тууповаа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3. Производители гранулированного древесного топлив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Вапо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Завод по производству гранулированного древесного топлива Ииом антс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Поставки и маркетинг биотоплив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Биоватте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Вапо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Исследования и образова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Университет Йоэнсу, Факультет лес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Университет Йоэнсу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Центр продолжения образова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Научно-исследовательский институт лес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Федерация муниципалитетов по вопросам образования Северной Карел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олитехнический институт Северной Карел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6. Производство и маркетинг гранулированного древесного топлив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охйойс-Карйалан Сахко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Мотти-Нетт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Тулипуу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Мелкие предпринимател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7. Предприниматели, осуществляющие производство щепы и транспортиров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Ми-Пе 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Мелкие предпринимател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8. Изготовители теплотехнического оборудова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Нунналахден Ууни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Туликиви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Пакеннустемро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Теквилл Грэнулэйторс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9.Переработка древесного топлив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М. Паппинен 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0. Производители оборудования для сетей централизованного теплоснабже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Фортум Ои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Иломантсин Лампо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Йоэнсуун Энергиа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Йууан Кауколамполаито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Кесалахден ламполаито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Китеен Лампо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Лие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сан Лампо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Липерин Алгэлампо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Нумексен ЛампоОутокуммун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Тохман Лампо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1. Проектировочные организац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Йоэнсу Сайэнс Парк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Экспертный центр технологии древесины и лесного хозяйств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Центр леса Северной Карел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Образовательный центр Северной Карел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2. Консультант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Байоэнержи тим Финлэнд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ФЭГ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ГигаПауэр 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М. Паппинен 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9596-74E2-466B-9F13-A1FC1DA9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33400" y="413064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DD0-B997-48FB-844E-4A984587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5208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B52-8287-4727-BD22-922049CE7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8516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03692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3340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8516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03692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0DE-E75F-4DEE-B8B2-D0BEC797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322C-AB3C-4FCD-A6DE-E77953A4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733400" y="198108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0A06-5A09-4498-8396-B765B349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77BF-E239-4E26-834E-8F303D78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F9DD-A7E3-4A54-8450-8C04E7D4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FA44-3E01-4F11-9B5D-12E4F159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733400" y="6091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2B3E-6AFE-4A28-966A-4B09B60D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2789-351B-42E8-96AE-5E291FDF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33400" y="198108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1FFF-9ED9-4F1E-9FCF-6B11FCEC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5208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186C-65E1-4D9B-BAF1-34585126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424F-2984-4E1D-A6DB-33E906A3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733400" y="413064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E11E-78DD-4C63-8EF1-A16229A1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75208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789A-0BC0-4DA3-98B0-3E0207E8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8516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036920" y="198108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73340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38516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7036920" y="4130640"/>
            <a:ext cx="2525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9590-D692-4AD8-A228-38936EB2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307-BACB-445B-8EAD-EA9FE7A3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867-878A-443D-B84B-1EE87D11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BF45-43EC-4AA5-8A74-061BA5C2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733400" y="6091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55B-A2FA-4F99-9501-94A2F108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98B-333E-400F-9E02-C439EAC0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52080" y="413064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7BA-BA25-4758-83EA-B2B73990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3340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2080" y="1981080"/>
            <a:ext cx="382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33400" y="4130640"/>
            <a:ext cx="784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3CA1-85D0-4575-97D7-00CD4276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9480"/>
            <a:ext cx="9906120" cy="4953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3340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Futura XBlk BT"/>
              </a:rPr>
              <a:t>Click to edit the title text format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733400" y="1981080"/>
            <a:ext cx="784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8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Click to edit the outline text format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1" marL="743040" indent="-285840">
              <a:spcBef>
                <a:spcPts val="751"/>
              </a:spcBef>
              <a:buClr>
                <a:srgbClr val="80008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Second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2" marL="1143000" indent="-228600">
              <a:spcBef>
                <a:spcPts val="751"/>
              </a:spcBef>
              <a:buClr>
                <a:srgbClr val="800080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Third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3" marL="1600200" indent="-228600">
              <a:spcBef>
                <a:spcPts val="751"/>
              </a:spcBef>
              <a:buClr>
                <a:srgbClr val="800080"/>
              </a:buClr>
              <a:buFont typeface="Futura Md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Fourth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4" marL="2057400" indent="-228600">
              <a:spcBef>
                <a:spcPts val="751"/>
              </a:spcBef>
              <a:buClr>
                <a:srgbClr val="800080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Fifth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5" marL="2057400" indent="-228600">
              <a:spcBef>
                <a:spcPts val="751"/>
              </a:spcBef>
              <a:buClr>
                <a:srgbClr val="660066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Sixth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  <a:p>
            <a:pPr lvl="6" marL="2057400" indent="-228600">
              <a:spcBef>
                <a:spcPts val="751"/>
              </a:spcBef>
              <a:buClr>
                <a:srgbClr val="660066"/>
              </a:buClr>
              <a:buFont typeface="Futura Md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Futura Md BT"/>
              </a:rPr>
              <a:t>Seventh Outline Level</a:t>
            </a:r>
            <a:endParaRPr b="0" lang="en-US" sz="3000" spc="-1" strike="noStrike">
              <a:solidFill>
                <a:srgbClr val="80008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65060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0066"/>
                </a:solidFill>
                <a:latin typeface="Futura Bk BT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32EA-AC73-4F66-9562-A64B7FCF27C6}" type="slidenum">
              <a:rPr b="0" lang="en-US" sz="1200" spc="-1" strike="noStrike">
                <a:solidFill>
                  <a:srgbClr val="660066"/>
                </a:solidFill>
                <a:latin typeface="Futura Bk BT"/>
              </a:rPr>
              <a:t>&lt;number&gt;</a:t>
            </a:fld>
            <a:r>
              <a:rPr b="0" lang="en-US" sz="1200" spc="-1" strike="noStrike">
                <a:solidFill>
                  <a:srgbClr val="660066"/>
                </a:solidFill>
                <a:latin typeface="Futura Bk BT"/>
              </a:rPr>
              <a:t> (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714480" y="6095880"/>
            <a:ext cx="3600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660066"/>
                </a:solidFill>
                <a:latin typeface="Futura Lt BT"/>
              </a:rPr>
              <a:t>Oy FEG - Forest and Environment Group Lt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7598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CA30-5CD3-4FA7-92D8-C3E45142BE6B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8458200" y="6019920"/>
          <a:ext cx="641520" cy="61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019920"/>
                    <a:ext cx="64152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19320" cy="624852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1066680" y="0"/>
            <a:ext cx="15264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57200"/>
            <a:ext cx="2819520" cy="152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9905400" cy="6858000"/>
            <a:chOff x="0" y="0"/>
            <a:chExt cx="9905400" cy="6858000"/>
          </a:xfrm>
        </p:grpSpPr>
        <p:grpSp>
          <p:nvGrpSpPr>
            <p:cNvPr id="49" name=""/>
            <p:cNvGrpSpPr/>
            <p:nvPr/>
          </p:nvGrpSpPr>
          <p:grpSpPr>
            <a:xfrm>
              <a:off x="0" y="0"/>
              <a:ext cx="9905400" cy="6858000"/>
              <a:chOff x="0" y="0"/>
              <a:chExt cx="9905400" cy="6858000"/>
            </a:xfrm>
          </p:grpSpPr>
          <p:sp>
            <p:nvSpPr>
              <p:cNvPr id="50" name=""/>
              <p:cNvSpPr/>
              <p:nvPr/>
            </p:nvSpPr>
            <p:spPr>
              <a:xfrm>
                <a:off x="0" y="0"/>
                <a:ext cx="99054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2540160"/>
                <a:ext cx="99054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280080" y="0"/>
              <a:ext cx="116892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" name=""/>
            <p:cNvGrpSpPr/>
            <p:nvPr/>
          </p:nvGrpSpPr>
          <p:grpSpPr>
            <a:xfrm>
              <a:off x="1114560" y="0"/>
              <a:ext cx="165960" cy="5735520"/>
              <a:chOff x="1114560" y="0"/>
              <a:chExt cx="165960" cy="5735520"/>
            </a:xfrm>
          </p:grpSpPr>
          <p:sp>
            <p:nvSpPr>
              <p:cNvPr id="54" name=""/>
              <p:cNvSpPr/>
              <p:nvPr/>
            </p:nvSpPr>
            <p:spPr>
              <a:xfrm>
                <a:off x="1114560" y="0"/>
                <a:ext cx="1659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14560" y="1333440"/>
                <a:ext cx="1659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438280"/>
              <a:ext cx="738468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85720" y="10998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Futura XBlk BT"/>
              </a:rPr>
              <a:t>Click to edit the title text format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F0A1-F592-4371-814D-AAB436BF5EDE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Выработка энергии из древесины в Северной Карелии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920" y="1219320"/>
            <a:ext cx="78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Добро пожаловать в Йоэнсу -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 algn="ctr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Futura Md BT"/>
              </a:rPr>
              <a:t>“</a:t>
            </a:r>
            <a:r>
              <a:rPr b="0" lang="ru-RU" sz="2000" spc="-1" strike="noStrike">
                <a:solidFill>
                  <a:srgbClr val="660066"/>
                </a:solidFill>
                <a:latin typeface="Futura Md BT"/>
              </a:rPr>
              <a:t>Лесную столицу Европы</a:t>
            </a:r>
            <a:r>
              <a:rPr b="0" lang="en-GB" sz="2000" spc="-1" strike="noStrike">
                <a:solidFill>
                  <a:srgbClr val="660066"/>
                </a:solidFill>
                <a:latin typeface="Futura Md BT"/>
              </a:rPr>
              <a:t>”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spcBef>
                <a:spcPts val="524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spcBef>
                <a:spcPts val="524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spcBef>
                <a:spcPts val="524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spcBef>
                <a:spcPts val="524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spcBef>
                <a:spcPts val="524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spcBef>
                <a:spcPts val="524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spcBef>
                <a:spcPts val="524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spcBef>
                <a:spcPts val="34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66"/>
                </a:solidFill>
                <a:latin typeface="Futura Md BT"/>
              </a:rPr>
              <a:t>	</a:t>
            </a:r>
            <a:r>
              <a:rPr b="1" lang="en-GB" sz="2000" spc="-1" strike="noStrike">
                <a:solidFill>
                  <a:srgbClr val="660066"/>
                </a:solidFill>
                <a:latin typeface="Futura Md BT"/>
              </a:rPr>
              <a:t>	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spcBef>
                <a:spcPts val="326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66"/>
                </a:solidFill>
                <a:latin typeface="Futura Md BT"/>
              </a:rPr>
              <a:t>	</a:t>
            </a:r>
            <a:r>
              <a:rPr b="1" lang="en-GB" sz="1400" spc="-1" strike="noStrike">
                <a:solidFill>
                  <a:srgbClr val="660066"/>
                </a:solidFill>
                <a:latin typeface="Futura Md BT"/>
              </a:rPr>
              <a:t>	</a:t>
            </a:r>
            <a:r>
              <a:rPr b="1" lang="en-GB" sz="1400" spc="-1" strike="noStrike">
                <a:solidFill>
                  <a:srgbClr val="660066"/>
                </a:solidFill>
                <a:latin typeface="Futura Md BT"/>
              </a:rPr>
              <a:t>   </a:t>
            </a:r>
            <a:r>
              <a:rPr b="0" lang="ru-RU" sz="1300" spc="-1" strike="noStrike">
                <a:solidFill>
                  <a:srgbClr val="660066"/>
                </a:solidFill>
                <a:latin typeface="Futura Lt BT"/>
              </a:rPr>
              <a:t>Тимо Хартикайнен </a:t>
            </a:r>
            <a:endParaRPr b="0" lang="en-US" sz="1300" spc="-1" strike="noStrike">
              <a:solidFill>
                <a:srgbClr val="800080"/>
              </a:solidFill>
              <a:latin typeface="Futura Md BT"/>
            </a:endParaRPr>
          </a:p>
          <a:p>
            <a:pPr marL="2880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660066"/>
                </a:solidFill>
                <a:latin typeface="Futura Lt BT"/>
              </a:rPr>
              <a:t>	</a:t>
            </a:r>
            <a:r>
              <a:rPr b="0" lang="en-GB" sz="1300" spc="-1" strike="noStrike">
                <a:solidFill>
                  <a:srgbClr val="660066"/>
                </a:solidFill>
                <a:latin typeface="Futura Lt BT"/>
              </a:rPr>
              <a:t>	</a:t>
            </a:r>
            <a:r>
              <a:rPr b="0" lang="en-GB" sz="1300" spc="-1" strike="noStrike">
                <a:solidFill>
                  <a:srgbClr val="660066"/>
                </a:solidFill>
                <a:latin typeface="Futura Lt BT"/>
              </a:rPr>
              <a:t>   </a:t>
            </a:r>
            <a:r>
              <a:rPr b="0" lang="en-GB" sz="1300" spc="-1" strike="noStrike">
                <a:solidFill>
                  <a:srgbClr val="660066"/>
                </a:solidFill>
                <a:latin typeface="Futura Lt BT"/>
              </a:rPr>
              <a:t>24.10.2005</a:t>
            </a:r>
            <a:endParaRPr b="0" lang="en-US" sz="13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352680" y="2438280"/>
            <a:ext cx="3961080" cy="3068640"/>
          </a:xfrm>
          <a:prstGeom prst="rect">
            <a:avLst/>
          </a:prstGeom>
          <a:ln w="3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81240" y="188640"/>
            <a:ext cx="86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 </a:t>
            </a:r>
            <a:r>
              <a:rPr b="0" lang="ru-RU" sz="2200" spc="-1" strike="noStrike">
                <a:solidFill>
                  <a:srgbClr val="008080"/>
                </a:solidFill>
                <a:latin typeface="Futura XBlk BT"/>
              </a:rPr>
              <a:t>ИНФРАСТРУКТУРА ПРОИЗВОДСТВА БИОЭНЕРГИИ В СЕВЕРНОЙ КАРЕЛИИ 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38080" y="5589360"/>
            <a:ext cx="7343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66"/>
                </a:solidFill>
                <a:latin typeface="Futura Md BT"/>
              </a:rPr>
              <a:t>Рисунки</a:t>
            </a:r>
            <a:r>
              <a:rPr b="0" lang="en-GB" sz="1000" spc="-1" strike="noStrike">
                <a:solidFill>
                  <a:srgbClr val="660066"/>
                </a:solidFill>
                <a:latin typeface="Futura Md BT"/>
              </a:rPr>
              <a:t>: </a:t>
            </a:r>
            <a:r>
              <a:rPr b="0" lang="ru-RU" sz="1000" spc="-1" strike="noStrike">
                <a:solidFill>
                  <a:srgbClr val="660066"/>
                </a:solidFill>
                <a:latin typeface="Futura Md BT"/>
              </a:rPr>
              <a:t>печи и камин, Нуннанлахти, Центр лесного хозяйства Северной Карелии; комбинированная машина, Кесла; рубительная машина, Конепайа Антти Ранта; щеоповоз с рубителльной машиной, Ракеннустемпо Ой; котельная установка, Теквилл Грэнулэйторс Ой; установка гранулирования золы, Похиойс-Кариалан сахко/Моттинетти</a:t>
            </a:r>
            <a:endParaRPr b="0" lang="en-US" sz="1000" spc="-1" strike="noStrike">
              <a:solidFill>
                <a:srgbClr val="800080"/>
              </a:solidFill>
              <a:latin typeface="Futura Md BT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en-GB" sz="1000" spc="-1" strike="noStrike">
                <a:solidFill>
                  <a:srgbClr val="660066"/>
                </a:solidFill>
                <a:latin typeface="Futura Md BT"/>
              </a:rPr>
              <a:t>, </a:t>
            </a:r>
            <a:r>
              <a:rPr b="0" lang="ru-RU" sz="10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10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962520" y="3886200"/>
            <a:ext cx="990360" cy="665280"/>
          </a:xfrm>
          <a:prstGeom prst="rect">
            <a:avLst/>
          </a:prstGeom>
          <a:ln w="6480">
            <a:solidFill>
              <a:srgbClr val="660066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174760" y="3886200"/>
            <a:ext cx="1406520" cy="1447920"/>
          </a:xfrm>
          <a:prstGeom prst="rect">
            <a:avLst/>
          </a:prstGeom>
          <a:ln w="6480">
            <a:solidFill>
              <a:srgbClr val="660066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513240" y="2060640"/>
            <a:ext cx="1568520" cy="1600200"/>
          </a:xfrm>
          <a:prstGeom prst="rect">
            <a:avLst/>
          </a:prstGeom>
          <a:ln w="6480">
            <a:solidFill>
              <a:srgbClr val="660066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4"/>
          <a:srcRect l="0" t="10012" r="-685" b="10012"/>
          <a:stretch/>
        </p:blipFill>
        <p:spPr>
          <a:xfrm>
            <a:off x="7532640" y="3505320"/>
            <a:ext cx="1535040" cy="1828800"/>
          </a:xfrm>
          <a:prstGeom prst="rect">
            <a:avLst/>
          </a:prstGeom>
          <a:ln w="6480">
            <a:solidFill>
              <a:srgbClr val="660066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7515360" y="1523880"/>
            <a:ext cx="1552320" cy="1828800"/>
          </a:xfrm>
          <a:prstGeom prst="rect">
            <a:avLst/>
          </a:prstGeom>
          <a:ln w="6480">
            <a:solidFill>
              <a:srgbClr val="660066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5313240" y="2997360"/>
            <a:ext cx="1905120" cy="1376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3886200" y="4800600"/>
            <a:ext cx="1143000" cy="476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1496880" y="1484280"/>
            <a:ext cx="1776600" cy="1333440"/>
          </a:xfrm>
          <a:prstGeom prst="rect">
            <a:avLst/>
          </a:prstGeom>
          <a:ln w="648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52160" y="609120"/>
            <a:ext cx="824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0"/>
                </a:solidFill>
                <a:latin typeface="Futura XBlk BT"/>
              </a:rPr>
              <a:t>Oy FEG - Forest and</a:t>
            </a: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 </a:t>
            </a:r>
            <a:r>
              <a:rPr b="0" lang="en-GB" sz="2800" spc="-1" strike="noStrike">
                <a:solidFill>
                  <a:srgbClr val="008080"/>
                </a:solidFill>
                <a:latin typeface="Futura XBlk BT"/>
              </a:rPr>
              <a:t>Environment Group Ltd.</a:t>
            </a:r>
            <a:br>
              <a:rPr sz="2800"/>
            </a:b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(Ой-ФЭГ – Форест энд Энвайэрмент Груп Лтд.)</a:t>
            </a:r>
            <a:endParaRPr b="0" lang="en-US" sz="28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33040" y="1981080"/>
            <a:ext cx="786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Направления деятельности: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Оказание консультационных услуг в лесохозяйственном секторе РФ; </a:t>
            </a:r>
            <a:r>
              <a:rPr b="0" lang="fi-FI" sz="22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Оказание консультационных услуг и обучение в сфере биоэнергии;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660066"/>
                </a:solidFill>
                <a:latin typeface="Futura Md BT"/>
              </a:rPr>
              <a:t>Управление природопользованием</a:t>
            </a: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.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Дата учреждения: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60066"/>
                </a:solidFill>
                <a:latin typeface="Futura Md BT"/>
              </a:rPr>
              <a:t>1993</a:t>
            </a: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 г.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Оборот: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60066"/>
                </a:solidFill>
                <a:latin typeface="Futura Md BT"/>
              </a:rPr>
              <a:t>400.000 - 600.000 </a:t>
            </a: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Евро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Численность персонала: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60066"/>
                </a:solidFill>
                <a:latin typeface="Futura Md BT"/>
              </a:rPr>
              <a:t>4 </a:t>
            </a: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человека – на условиях полной занятости;  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60066"/>
                </a:solidFill>
                <a:latin typeface="Futura Md BT"/>
              </a:rPr>
              <a:t>5 - 10 </a:t>
            </a: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экспертов  - реализация различных проектов.</a:t>
            </a:r>
            <a:r>
              <a:rPr b="0" lang="en-GB" sz="22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2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008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52480" y="-243000"/>
            <a:ext cx="74678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Основные проекты по использованию биоэнергии, реализуемые</a:t>
            </a:r>
            <a:r>
              <a:rPr b="0" lang="en-GB" sz="3200" spc="-1" strike="noStrike">
                <a:solidFill>
                  <a:srgbClr val="008080"/>
                </a:solidFill>
                <a:latin typeface="Futura XBlk BT"/>
              </a:rPr>
              <a:t> FEG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24160" y="764640"/>
            <a:ext cx="8208720" cy="45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utura Md BT"/>
              </a:rPr>
              <a:t>Программа развития биоэнергии в Северной Карелии МИИЛУ на 1999-2001 гг., Финляндия.</a:t>
            </a: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utura Md BT"/>
              </a:rPr>
              <a:t>Проектирование машин, предназначенных для комбинированной транспортировки лесосечных отходов и подготовки лесосек, 1999-2001 гг. Финляндия.     </a:t>
            </a: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utura Md BT"/>
              </a:rPr>
              <a:t>Устранение препятствий для снижения уровня выбросов парниковых газов посредством использования древесины в качестве топлива в муниципальных системах тепло- и водоснабжения в Беларуси, 2001 г.</a:t>
            </a: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utura Md BT"/>
              </a:rPr>
              <a:t>Исследование процесса развития использования биоэнергии в регионе Балтийского моря, северо-западная Россия, 2002 г.</a:t>
            </a: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-24336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utura Md BT"/>
              </a:rPr>
              <a:t>Оказание содействия производству и использованию энергии из древесины в северо-западной России, 2003-2004 гг.</a:t>
            </a: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fi-FI" sz="24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2400" spc="-1" strike="noStrike">
                <a:solidFill>
                  <a:srgbClr val="660066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24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0"/>
                </a:solidFill>
                <a:latin typeface="Futura XBlk BT"/>
              </a:rPr>
              <a:t>Oy FEG - Forest and</a:t>
            </a: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 </a:t>
            </a:r>
            <a:r>
              <a:rPr b="0" lang="en-GB" sz="2800" spc="-1" strike="noStrike">
                <a:solidFill>
                  <a:srgbClr val="008080"/>
                </a:solidFill>
                <a:latin typeface="Futura XBlk BT"/>
              </a:rPr>
              <a:t>Environment Group Ltd.</a:t>
            </a:r>
            <a:br>
              <a:rPr sz="2800"/>
            </a:b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(Ой-ФЭГ – Форест энд Энвайэрмент Груп Лтд.)</a:t>
            </a:r>
            <a:endParaRPr b="0" lang="en-US" sz="28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33040" y="1981080"/>
            <a:ext cx="786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Futura Md BT"/>
              </a:rPr>
              <a:t>Контактная информация</a:t>
            </a:r>
            <a:endParaRPr b="0" lang="en-US" sz="24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Oy FEG - Forest and Environment Group Ltd.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Sirkkalantie 17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FIN-80100 Joensuu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Finland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Futura Md BT"/>
              </a:rPr>
              <a:t>Тел</a:t>
            </a: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.</a:t>
            </a:r>
            <a:r>
              <a:rPr b="0" lang="ru-RU" sz="1600" spc="-1" strike="noStrike">
                <a:solidFill>
                  <a:srgbClr val="660066"/>
                </a:solidFill>
                <a:latin typeface="Futura Md BT"/>
              </a:rPr>
              <a:t>:</a:t>
            </a: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 +358 13 2637447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Fax.</a:t>
            </a:r>
            <a:r>
              <a:rPr b="0" lang="ru-RU" sz="1600" spc="-1" strike="noStrike">
                <a:solidFill>
                  <a:srgbClr val="660066"/>
                </a:solidFill>
                <a:latin typeface="Futura Md BT"/>
              </a:rPr>
              <a:t>:</a:t>
            </a: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 +358 13 2637449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Email.</a:t>
            </a:r>
            <a:r>
              <a:rPr b="0" lang="ru-RU" sz="1600" spc="-1" strike="noStrike">
                <a:solidFill>
                  <a:srgbClr val="660066"/>
                </a:solidFill>
                <a:latin typeface="Futura Md BT"/>
              </a:rPr>
              <a:t>:</a:t>
            </a: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 feg@feg.fi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66"/>
                </a:solidFill>
                <a:latin typeface="Futura Md BT"/>
              </a:rPr>
              <a:t>www.feg.fi</a:t>
            </a:r>
            <a:endParaRPr b="0" lang="en-US" sz="16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753240" y="1916280"/>
            <a:ext cx="23814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728880" y="6381720"/>
            <a:ext cx="3672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39800" y="2599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8080"/>
                </a:solidFill>
                <a:latin typeface="Futura XBlk BT"/>
              </a:rPr>
              <a:t> </a:t>
            </a:r>
            <a:r>
              <a:rPr b="0" lang="ru-RU" sz="3000" spc="-1" strike="noStrike">
                <a:solidFill>
                  <a:srgbClr val="008080"/>
                </a:solidFill>
                <a:latin typeface="Futura XBlk BT"/>
              </a:rPr>
              <a:t>Северная Карелия – основные факты</a:t>
            </a:r>
            <a:endParaRPr b="0" lang="en-US" sz="30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57800" y="14475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Futura Lt BT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170 000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жителей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Futura Lt BT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Наиболее крупный город –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Йоэнсу 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(56000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жителей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)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Futura Lt BT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Общая площадь суши: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 1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 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778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 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000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га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Futura Lt BT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Площадь лесов: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 1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 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491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 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000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га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Futura Lt BT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Запас растущего древостоя: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 156,7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млн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м</a:t>
            </a:r>
            <a:r>
              <a:rPr b="0" lang="en-GB" sz="2000" spc="-1" strike="noStrike" baseline="30000">
                <a:solidFill>
                  <a:srgbClr val="660066"/>
                </a:solidFill>
                <a:latin typeface="Futura Lt BT"/>
              </a:rPr>
              <a:t>3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Futura Lt BT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Наиболее важные отрасли промышленности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: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лесная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,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формование пластмасс,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камнедобыча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Futura Lt BT"/>
              <a:buChar char="•"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Климат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: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холодная зима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,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продолжительность отопительного сезона:</a:t>
            </a:r>
            <a:r>
              <a:rPr b="0" lang="en-GB" sz="2000" spc="-1" strike="noStrike">
                <a:solidFill>
                  <a:srgbClr val="660066"/>
                </a:solidFill>
                <a:latin typeface="Futura Lt BT"/>
              </a:rPr>
              <a:t> 9-10 </a:t>
            </a:r>
            <a:r>
              <a:rPr b="0" lang="ru-RU" sz="2000" spc="-1" strike="noStrike">
                <a:solidFill>
                  <a:srgbClr val="660066"/>
                </a:solidFill>
                <a:latin typeface="Futura Lt BT"/>
              </a:rPr>
              <a:t>месяцев</a:t>
            </a:r>
            <a:r>
              <a:rPr b="1" lang="en-GB" sz="2000" spc="-1" strike="noStrike">
                <a:solidFill>
                  <a:srgbClr val="660066"/>
                </a:solidFill>
                <a:latin typeface="Futura Lt BT"/>
              </a:rPr>
              <a:t> </a:t>
            </a: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7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7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  <a:p>
            <a:pPr marL="27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80"/>
              </a:solidFill>
              <a:latin typeface="Futura Md B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2568600" cy="449604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886200" y="4343400"/>
            <a:ext cx="609480" cy="762120"/>
          </a:xfrm>
          <a:prstGeom prst="ellipse">
            <a:avLst/>
          </a:prstGeom>
          <a:noFill/>
          <a:ln w="22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9080" y="-36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8080"/>
                </a:solidFill>
                <a:latin typeface="Futura XBlk BT"/>
              </a:rPr>
              <a:t>Энергетический баланс Северной Карелии</a:t>
            </a:r>
            <a:endParaRPr b="0" lang="en-US" sz="31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13" name=""/>
          <p:cNvSpPr/>
          <p:nvPr/>
        </p:nvSpPr>
        <p:spPr>
          <a:xfrm>
            <a:off x="1846080" y="5799960"/>
            <a:ext cx="8163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Futura Md BT"/>
              </a:rPr>
              <a:t>Энергетический баланс производства тепловой и электрической энергии в Северной Карелии в </a:t>
            </a:r>
            <a:r>
              <a:rPr b="0" lang="en-GB" sz="1200" spc="-1" strike="noStrike">
                <a:solidFill>
                  <a:srgbClr val="660066"/>
                </a:solidFill>
                <a:latin typeface="Futura Md BT"/>
              </a:rPr>
              <a:t> </a:t>
            </a:r>
            <a:r>
              <a:rPr b="0" lang="ru-RU" sz="1200" spc="-1" strike="noStrike">
                <a:solidFill>
                  <a:srgbClr val="660066"/>
                </a:solidFill>
                <a:latin typeface="Futura Md BT"/>
              </a:rPr>
              <a:t>в</a:t>
            </a:r>
            <a:r>
              <a:rPr b="0" lang="en-GB" sz="1200" spc="-1" strike="noStrike">
                <a:solidFill>
                  <a:srgbClr val="660066"/>
                </a:solidFill>
                <a:latin typeface="Futura Md BT"/>
              </a:rPr>
              <a:t> 1999</a:t>
            </a:r>
            <a:r>
              <a:rPr b="0" lang="ru-RU" sz="1200" spc="-1" strike="noStrike">
                <a:solidFill>
                  <a:srgbClr val="660066"/>
                </a:solidFill>
                <a:latin typeface="Futura Md BT"/>
              </a:rPr>
              <a:t> г.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Источник</a:t>
            </a: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: Itä-Suomen Puuvoimaohjelma vuoteen 2010 (</a:t>
            </a: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Программа развития производства энергии из древесины в Восточной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 </a:t>
            </a: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Финляндии до</a:t>
            </a: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 2010</a:t>
            </a: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 г.</a:t>
            </a: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), 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Electrowatt-Ekono 2001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67120" y="162864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660066"/>
                </a:solidFill>
                <a:latin typeface="Arial Black"/>
              </a:rPr>
              <a:t>North Karelia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00160" y="1052640"/>
            <a:ext cx="1293840" cy="676080"/>
          </a:xfrm>
          <a:prstGeom prst="rightArrow">
            <a:avLst>
              <a:gd name="adj1" fmla="val 50000"/>
              <a:gd name="adj2" fmla="val 478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17440" y="1187280"/>
            <a:ext cx="951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Древесина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1570 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ГВтч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00160" y="1725480"/>
            <a:ext cx="1293840" cy="676440"/>
          </a:xfrm>
          <a:prstGeom prst="rightArrow">
            <a:avLst>
              <a:gd name="adj1" fmla="val 50000"/>
              <a:gd name="adj2" fmla="val 478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21880" y="1860480"/>
            <a:ext cx="1547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Щелок из отходов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3030 ГВтч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00160" y="2397240"/>
            <a:ext cx="1293840" cy="674640"/>
          </a:xfrm>
          <a:prstGeom prst="rightArrow">
            <a:avLst>
              <a:gd name="adj1" fmla="val 50000"/>
              <a:gd name="adj2" fmla="val 479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44080" y="2532240"/>
            <a:ext cx="898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Торф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1010 ГВтч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00160" y="3070080"/>
            <a:ext cx="1293840" cy="675000"/>
          </a:xfrm>
          <a:prstGeom prst="rightArrow">
            <a:avLst>
              <a:gd name="adj1" fmla="val 50000"/>
              <a:gd name="adj2" fmla="val 479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70800" y="3205080"/>
            <a:ext cx="642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Уголь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0 ГВтч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00160" y="3741840"/>
            <a:ext cx="1293840" cy="676080"/>
          </a:xfrm>
          <a:prstGeom prst="rightArrow">
            <a:avLst>
              <a:gd name="adj1" fmla="val 50000"/>
              <a:gd name="adj2" fmla="val 478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85840" y="3876840"/>
            <a:ext cx="813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Нефть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650 ГВтч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000160" y="4413240"/>
            <a:ext cx="1293840" cy="676440"/>
            <a:chOff x="2000160" y="4413240"/>
            <a:chExt cx="1293840" cy="676440"/>
          </a:xfrm>
        </p:grpSpPr>
        <p:sp>
          <p:nvSpPr>
            <p:cNvPr id="126" name=""/>
            <p:cNvSpPr/>
            <p:nvPr/>
          </p:nvSpPr>
          <p:spPr>
            <a:xfrm>
              <a:off x="2000160" y="4413240"/>
              <a:ext cx="1293840" cy="676440"/>
            </a:xfrm>
            <a:prstGeom prst="rightArrow">
              <a:avLst>
                <a:gd name="adj1" fmla="val 50000"/>
                <a:gd name="adj2" fmla="val 4781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85840" y="4548240"/>
              <a:ext cx="813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60066"/>
                  </a:solidFill>
                  <a:latin typeface="Arial"/>
                </a:rPr>
                <a:t>Другие</a:t>
              </a:r>
              <a:endParaRPr b="0" lang="en-US" sz="1200" spc="-1" strike="noStrike">
                <a:solidFill>
                  <a:srgbClr val="66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200" spc="-1" strike="noStrike">
                  <a:solidFill>
                    <a:srgbClr val="660066"/>
                  </a:solidFill>
                  <a:latin typeface="Arial"/>
                </a:rPr>
                <a:t>120 ГВтч</a:t>
              </a:r>
              <a:endParaRPr b="0" lang="en-US" sz="1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728880" y="47242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000160" y="5084640"/>
            <a:ext cx="6984360" cy="360360"/>
            <a:chOff x="2000160" y="5084640"/>
            <a:chExt cx="6984360" cy="360360"/>
          </a:xfrm>
        </p:grpSpPr>
        <p:sp>
          <p:nvSpPr>
            <p:cNvPr id="130" name=""/>
            <p:cNvSpPr/>
            <p:nvPr/>
          </p:nvSpPr>
          <p:spPr>
            <a:xfrm>
              <a:off x="2000160" y="5084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00160" y="5445000"/>
              <a:ext cx="67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709120" y="5229000"/>
              <a:ext cx="2754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8708760" y="5084640"/>
              <a:ext cx="2754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000160" y="5084640"/>
              <a:ext cx="67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000160" y="5445000"/>
            <a:ext cx="6984360" cy="360360"/>
            <a:chOff x="2000160" y="5445000"/>
            <a:chExt cx="6984360" cy="360360"/>
          </a:xfrm>
        </p:grpSpPr>
        <p:sp>
          <p:nvSpPr>
            <p:cNvPr id="136" name=""/>
            <p:cNvSpPr/>
            <p:nvPr/>
          </p:nvSpPr>
          <p:spPr>
            <a:xfrm>
              <a:off x="2000160" y="5445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00160" y="5805360"/>
              <a:ext cx="67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8709120" y="5589360"/>
              <a:ext cx="27540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8708760" y="5445000"/>
              <a:ext cx="2754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000160" y="5445000"/>
              <a:ext cx="67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334040" y="508464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Гидроэнергия:</a:t>
            </a:r>
            <a:r>
              <a:rPr b="0" lang="fi-FI" sz="1600" spc="-1" strike="noStrike">
                <a:solidFill>
                  <a:srgbClr val="660066"/>
                </a:solidFill>
                <a:latin typeface="Arial"/>
              </a:rPr>
              <a:t> 590 ГВтч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39640" y="5445000"/>
            <a:ext cx="62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Нетто-импорт электроэнергии</a:t>
            </a:r>
            <a:r>
              <a:rPr b="0" lang="fi-FI" sz="1600" spc="-1" strike="noStrike">
                <a:solidFill>
                  <a:srgbClr val="660066"/>
                </a:solidFill>
                <a:latin typeface="Arial"/>
              </a:rPr>
              <a:t> + 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потери при передаче:</a:t>
            </a:r>
            <a:r>
              <a:rPr b="0" lang="fi-FI" sz="1600" spc="-1" strike="noStrike">
                <a:solidFill>
                  <a:srgbClr val="660066"/>
                </a:solidFill>
                <a:latin typeface="Arial"/>
              </a:rPr>
              <a:t> 330 ГВтч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176880" y="4177800"/>
            <a:ext cx="2808000" cy="360720"/>
            <a:chOff x="6176880" y="4177800"/>
            <a:chExt cx="2808000" cy="360720"/>
          </a:xfrm>
        </p:grpSpPr>
        <p:sp>
          <p:nvSpPr>
            <p:cNvPr id="144" name=""/>
            <p:cNvSpPr/>
            <p:nvPr/>
          </p:nvSpPr>
          <p:spPr>
            <a:xfrm>
              <a:off x="6176880" y="41781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6880" y="4538520"/>
              <a:ext cx="254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8723520" y="4393800"/>
              <a:ext cx="261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8723520" y="4177800"/>
              <a:ext cx="261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6176880" y="4178160"/>
              <a:ext cx="254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424920" y="4221000"/>
            <a:ext cx="212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Электроэнергия:</a:t>
            </a: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 1000 ГВтч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178320" y="3530160"/>
            <a:ext cx="2808000" cy="360720"/>
            <a:chOff x="6178320" y="3530160"/>
            <a:chExt cx="2808000" cy="360720"/>
          </a:xfrm>
        </p:grpSpPr>
        <p:sp>
          <p:nvSpPr>
            <p:cNvPr id="151" name=""/>
            <p:cNvSpPr/>
            <p:nvPr/>
          </p:nvSpPr>
          <p:spPr>
            <a:xfrm>
              <a:off x="6178680" y="35305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78680" y="3890880"/>
              <a:ext cx="254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8724960" y="3746160"/>
              <a:ext cx="2613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8724960" y="3530160"/>
              <a:ext cx="26136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6178320" y="3530520"/>
              <a:ext cx="254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401520" y="357336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Теплоснабжение:</a:t>
            </a: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 3850 ГВтч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24680" y="1413000"/>
            <a:ext cx="2808360" cy="180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6880" y="1484280"/>
            <a:ext cx="352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Потребление электроэнергии</a:t>
            </a:r>
            <a:r>
              <a:rPr b="1" lang="fi-FI" sz="1200" spc="-1" strike="noStrike">
                <a:solidFill>
                  <a:srgbClr val="660066"/>
                </a:solidFill>
                <a:latin typeface="Arial"/>
              </a:rPr>
              <a:t>: 1920 ГВтч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Производство электроэнергии</a:t>
            </a:r>
            <a:r>
              <a:rPr b="1" lang="fi-FI" sz="1200" spc="-1" strike="noStrike">
                <a:solidFill>
                  <a:srgbClr val="660066"/>
                </a:solidFill>
                <a:latin typeface="Arial"/>
              </a:rPr>
              <a:t>: 1600 ГВтч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Из возобновляемых источников энергии</a:t>
            </a: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1310 ГВтч (82%)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Из топлива на основе древесины</a:t>
            </a: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710 ГВтч (45%)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Из древесины</a:t>
            </a:r>
            <a:r>
              <a:rPr b="0" lang="fi-FI" sz="1200" spc="-1" strike="noStrike">
                <a:solidFill>
                  <a:srgbClr val="660066"/>
                </a:solidFill>
                <a:latin typeface="Arial"/>
              </a:rPr>
              <a:t>: 220 ГВтч (14%)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94680" y="909720"/>
            <a:ext cx="719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96120" y="981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660066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79480" y="3933720"/>
            <a:ext cx="236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660066"/>
                </a:solidFill>
                <a:latin typeface="Arial"/>
              </a:rPr>
              <a:t>– </a:t>
            </a:r>
            <a:r>
              <a:rPr b="1" lang="fi-FI" sz="1400" spc="-1" strike="noStrike">
                <a:solidFill>
                  <a:srgbClr val="660066"/>
                </a:solidFill>
                <a:latin typeface="Arial"/>
              </a:rPr>
              <a:t>Electric power 173 MWe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660066"/>
                </a:solidFill>
                <a:latin typeface="Arial"/>
              </a:rPr>
              <a:t>– </a:t>
            </a:r>
            <a:r>
              <a:rPr b="1" lang="fi-FI" sz="1400" spc="-1" strike="noStrike">
                <a:solidFill>
                  <a:srgbClr val="660066"/>
                </a:solidFill>
                <a:latin typeface="Arial"/>
              </a:rPr>
              <a:t>Heat power 847 MWth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584520" y="2852640"/>
            <a:ext cx="2087640" cy="879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368520" y="1413000"/>
            <a:ext cx="266400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Производство древесного топлива, торфа и нефти в Северной Карелии </a:t>
            </a:r>
            <a:r>
              <a:rPr b="0" lang="fi-FI" sz="2800" spc="-1" strike="noStrike">
                <a:solidFill>
                  <a:srgbClr val="008080"/>
                </a:solidFill>
                <a:latin typeface="Futura XBlk BT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 </a:t>
            </a:r>
            <a:endParaRPr b="0" lang="en-US" sz="2800" spc="-1" strike="noStrike">
              <a:solidFill>
                <a:srgbClr val="008080"/>
              </a:solidFill>
              <a:latin typeface="Futura XBlk B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24160" y="1844640"/>
            <a:ext cx="4038480" cy="331164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2892240" y="5409360"/>
            <a:ext cx="293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0066"/>
                </a:solidFill>
                <a:latin typeface="Futura Lt BT"/>
              </a:rPr>
              <a:t> </a:t>
            </a: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Источник</a:t>
            </a: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: www.miilu.com/Juha-Pekka Snäkin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35800" y="1928520"/>
            <a:ext cx="1561320" cy="10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0066"/>
                </a:solidFill>
                <a:latin typeface="Arial"/>
              </a:rPr>
              <a:t>Нефть</a:t>
            </a:r>
            <a:endParaRPr b="0" lang="en-US" sz="11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0066"/>
                </a:solidFill>
                <a:latin typeface="Arial"/>
              </a:rPr>
              <a:t>Торф</a:t>
            </a:r>
            <a:endParaRPr b="0" lang="en-US" sz="11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0066"/>
                </a:solidFill>
                <a:latin typeface="Arial"/>
              </a:rPr>
              <a:t>Древесное топливо</a:t>
            </a:r>
            <a:endParaRPr b="0" lang="en-US" sz="11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69240" y="494172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Тдж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4160" y="45684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80"/>
                </a:solidFill>
                <a:latin typeface="Futura XBlk BT"/>
              </a:rPr>
              <a:t>Производство древесного топлива  в Северной Карелии</a:t>
            </a:r>
            <a:endParaRPr b="0" lang="en-US" sz="2800" spc="-1" strike="noStrike">
              <a:solidFill>
                <a:srgbClr val="008080"/>
              </a:solidFill>
              <a:latin typeface="Futura XBlk BT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4038480" cy="321804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2872080" y="5257080"/>
            <a:ext cx="293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 </a:t>
            </a: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Источник</a:t>
            </a: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: www.miilu.com/Juha-Pekka Snäkin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20880" y="1922400"/>
            <a:ext cx="1154160" cy="106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Щелок из отходов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Кора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Щепа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48160" y="1834200"/>
            <a:ext cx="1419120" cy="12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Другие виды топлива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Опилки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33240" y="4795920"/>
            <a:ext cx="5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Тдж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9240" y="333000"/>
            <a:ext cx="636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utura XBlk BT"/>
              </a:rPr>
              <a:t>Доля местного топлива</a:t>
            </a:r>
            <a:endParaRPr b="0" lang="en-US" sz="3200" spc="-1" strike="noStrike">
              <a:solidFill>
                <a:srgbClr val="008080"/>
              </a:solidFill>
              <a:latin typeface="Futura XBlk BT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4343400" cy="296712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2757240" y="4952160"/>
            <a:ext cx="289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Источник</a:t>
            </a: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: www.miilu.com/Juha-Pekka Snäkin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76520" y="1843200"/>
            <a:ext cx="1538280" cy="72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Импорт топлива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Местное топливо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26040" y="450684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Тдж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971800" y="-360"/>
            <a:ext cx="5943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Futura XBlk BT"/>
              </a:rPr>
              <a:t>Запасы топливной древесины</a:t>
            </a:r>
            <a:endParaRPr b="0" lang="en-US" sz="3000" spc="-1" strike="noStrike">
              <a:solidFill>
                <a:srgbClr val="008080"/>
              </a:solidFill>
              <a:latin typeface="Futura XBlk B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971440" y="54097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66"/>
                </a:solidFill>
                <a:latin typeface="Futura Md BT"/>
              </a:rPr>
              <a:t>Объемы заготовки лесосечных отходов на рубках главного пользования</a:t>
            </a:r>
            <a:r>
              <a:rPr b="0" lang="en-GB" sz="1200" spc="-1" strike="noStrike">
                <a:solidFill>
                  <a:srgbClr val="660066"/>
                </a:solidFill>
                <a:latin typeface="Futura Md BT"/>
              </a:rPr>
              <a:t>, </a:t>
            </a:r>
            <a:r>
              <a:rPr b="0" lang="ru-RU" sz="1200" spc="-1" strike="noStrike">
                <a:solidFill>
                  <a:srgbClr val="660066"/>
                </a:solidFill>
                <a:latin typeface="Futura Md BT"/>
              </a:rPr>
              <a:t>м</a:t>
            </a:r>
            <a:r>
              <a:rPr b="0" lang="en-GB" sz="1200" spc="-1" strike="noStrike" baseline="30000">
                <a:solidFill>
                  <a:srgbClr val="660066"/>
                </a:solidFill>
                <a:latin typeface="Futura Md BT"/>
              </a:rPr>
              <a:t>3</a:t>
            </a:r>
            <a:endParaRPr b="0" lang="en-US" sz="1200" spc="-1" strike="noStrike">
              <a:solidFill>
                <a:srgbClr val="800080"/>
              </a:solidFill>
              <a:latin typeface="Futura Md BT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800080"/>
              </a:solidFill>
              <a:latin typeface="Futura Md BT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Источник</a:t>
            </a: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: </a:t>
            </a: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Университет Йоэнсу и</a:t>
            </a: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 VTT Energy, 1999.</a:t>
            </a:r>
            <a:endParaRPr b="0" lang="en-US" sz="1000" spc="-1" strike="noStrike">
              <a:solidFill>
                <a:srgbClr val="800080"/>
              </a:solidFill>
              <a:latin typeface="Futura Md BT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80"/>
              </a:solidFill>
              <a:latin typeface="Futura Md BT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124080" y="914400"/>
          <a:ext cx="35751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914400"/>
                    <a:ext cx="35751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4737240" y="1052640"/>
            <a:ext cx="187164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66"/>
                </a:solidFill>
                <a:latin typeface="Futura Md BT"/>
              </a:rPr>
              <a:t>Потенциальные запасы лесосечных отходов</a:t>
            </a:r>
            <a:endParaRPr b="0" lang="en-US" sz="11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660066"/>
                </a:solidFill>
                <a:latin typeface="Futura Md BT"/>
              </a:rPr>
              <a:t>Общий объем</a:t>
            </a:r>
            <a:r>
              <a:rPr b="0" lang="en-GB" sz="1100" spc="-1" strike="noStrike">
                <a:solidFill>
                  <a:srgbClr val="660066"/>
                </a:solidFill>
                <a:latin typeface="Futura Md BT"/>
              </a:rPr>
              <a:t>: 343 000 m</a:t>
            </a:r>
            <a:r>
              <a:rPr b="0" lang="en-GB" sz="1100" spc="-1" strike="noStrike" baseline="30000">
                <a:solidFill>
                  <a:srgbClr val="660066"/>
                </a:solidFill>
                <a:latin typeface="Futura Md BT"/>
              </a:rPr>
              <a:t>3</a:t>
            </a:r>
            <a:endParaRPr b="0" lang="en-US" sz="11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8080"/>
                </a:solidFill>
                <a:latin typeface="Futura XBlk BT"/>
              </a:rPr>
              <a:t>Выбросы </a:t>
            </a:r>
            <a:r>
              <a:rPr b="0" lang="en-GB" sz="3000" spc="-1" strike="noStrike">
                <a:solidFill>
                  <a:srgbClr val="008080"/>
                </a:solidFill>
                <a:latin typeface="Futura XBlk BT"/>
              </a:rPr>
              <a:t>CO</a:t>
            </a:r>
            <a:r>
              <a:rPr b="0" lang="en-GB" sz="3000" spc="-1" strike="noStrike" baseline="-25000">
                <a:solidFill>
                  <a:srgbClr val="008080"/>
                </a:solidFill>
                <a:latin typeface="Futura XBlk BT"/>
              </a:rPr>
              <a:t>2</a:t>
            </a:r>
            <a:r>
              <a:rPr b="0" lang="ru-RU" sz="3000" spc="-1" strike="noStrike">
                <a:solidFill>
                  <a:srgbClr val="008080"/>
                </a:solidFill>
                <a:latin typeface="Futura XBlk BT"/>
              </a:rPr>
              <a:t> в Северной Карелии</a:t>
            </a:r>
            <a:endParaRPr b="0" lang="en-US" sz="3000" spc="-1" strike="noStrike">
              <a:solidFill>
                <a:srgbClr val="008080"/>
              </a:solidFill>
              <a:latin typeface="Futura XBlk BT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476440" y="1628640"/>
            <a:ext cx="5867640" cy="3300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376000" y="5180760"/>
            <a:ext cx="289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Источник</a:t>
            </a: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: www.miilu.com/Juha-Pekka Snäkin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2160" y="1970640"/>
            <a:ext cx="2016000" cy="32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Теплоснабжение зданий</a:t>
            </a:r>
            <a:r>
              <a:rPr b="1" lang="en-GB" sz="1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Дорожное движение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Потребление электроэнергии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Установки, обязанные представлять данные об объемах потребления топлива</a:t>
            </a:r>
            <a:r>
              <a:rPr b="1" lang="en-GB" sz="1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660066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2160" y="1319040"/>
            <a:ext cx="5905440" cy="12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Общее количество выбросов</a:t>
            </a:r>
            <a:r>
              <a:rPr b="0" lang="en-GB" sz="1600" spc="-1" strike="noStrike">
                <a:solidFill>
                  <a:srgbClr val="660066"/>
                </a:solidFill>
                <a:latin typeface="Arial"/>
              </a:rPr>
              <a:t> CO</a:t>
            </a:r>
            <a:r>
              <a:rPr b="0" lang="en-GB" sz="1600" spc="-1" strike="noStrike" baseline="-25000">
                <a:solidFill>
                  <a:srgbClr val="660066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660066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 выбросы</a:t>
            </a:r>
            <a:r>
              <a:rPr b="0" lang="en-GB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в количестве  </a:t>
            </a:r>
            <a:r>
              <a:rPr b="0" lang="en-GB" sz="1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660066"/>
                </a:solidFill>
                <a:latin typeface="Arial"/>
              </a:rPr>
              <a:t>649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 тонн в пересчете на</a:t>
            </a:r>
            <a:r>
              <a:rPr b="0" lang="en-GB" sz="1600" spc="-1" strike="noStrike">
                <a:solidFill>
                  <a:srgbClr val="660066"/>
                </a:solidFill>
                <a:latin typeface="Arial"/>
              </a:rPr>
              <a:t> CO</a:t>
            </a:r>
            <a:r>
              <a:rPr b="0" lang="en-GB" sz="1600" spc="-1" strike="noStrike" baseline="-25000">
                <a:solidFill>
                  <a:srgbClr val="660066"/>
                </a:solidFill>
                <a:latin typeface="Arial"/>
              </a:rPr>
              <a:t>2</a:t>
            </a:r>
            <a:r>
              <a:rPr b="0" lang="en-GB" sz="1600" spc="-1" strike="noStrike">
                <a:solidFill>
                  <a:srgbClr val="660066"/>
                </a:solidFill>
                <a:latin typeface="Arial"/>
              </a:rPr>
              <a:t>, 1999</a:t>
            </a:r>
            <a:r>
              <a:rPr b="0" lang="ru-RU" sz="1600" spc="-1" strike="noStrike">
                <a:solidFill>
                  <a:srgbClr val="660066"/>
                </a:solidFill>
                <a:latin typeface="Arial"/>
              </a:rPr>
              <a:t> г.</a:t>
            </a: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052520" y="6247800"/>
            <a:ext cx="289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660066"/>
                </a:solidFill>
                <a:latin typeface="Futura Lt BT"/>
              </a:rPr>
              <a:t>Источник</a:t>
            </a:r>
            <a:r>
              <a:rPr b="0" lang="en-GB" sz="1000" spc="-1" strike="noStrike">
                <a:solidFill>
                  <a:srgbClr val="660066"/>
                </a:solidFill>
                <a:latin typeface="Futura Lt BT"/>
              </a:rPr>
              <a:t>: www.miilu.com/Juha-Pekka Snäkin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38680" y="2039760"/>
            <a:ext cx="1440" cy="12960"/>
          </a:xfrm>
          <a:custGeom>
            <a:avLst/>
            <a:gdLst/>
            <a:ahLst/>
            <a:rect l="l" t="t" r="r" b="b"/>
            <a:pathLst>
              <a:path w="0" h="16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8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44880" y="189000"/>
            <a:ext cx="5776920" cy="6048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872800" y="187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64800" y="11955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93520" y="2347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47720" y="2995560"/>
            <a:ext cx="49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93520" y="3571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65520" y="187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57520" y="1339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048520" y="18432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057520" y="27068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12520" y="3139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84880" y="5083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29600" y="5084640"/>
            <a:ext cx="4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16760" y="1747800"/>
            <a:ext cx="1567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0066"/>
                </a:solidFill>
                <a:latin typeface="Times New Roman"/>
              </a:rPr>
              <a:t>ИНФРАСТРУКТУРА 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0066"/>
                </a:solidFill>
                <a:latin typeface="Times New Roman"/>
              </a:rPr>
              <a:t>ПРОИЗВОДСТВА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0066"/>
                </a:solidFill>
                <a:latin typeface="Times New Roman"/>
              </a:rPr>
              <a:t>БИОЭНЕРГИИ В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60066"/>
                </a:solidFill>
                <a:latin typeface="Times New Roman"/>
              </a:rPr>
              <a:t>СЕВЕРНОЙ КАРЕЛИИ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05:59:19Z</dcterms:created>
  <dc:creator>Feg Oy</dc:creator>
  <dc:description/>
  <dc:language>en-US</dc:language>
  <cp:lastModifiedBy>Sv</cp:lastModifiedBy>
  <cp:lastPrinted>2003-03-19T15:01:57Z</cp:lastPrinted>
  <dcterms:modified xsi:type="dcterms:W3CDTF">2005-11-27T00:23:58Z</dcterms:modified>
  <cp:revision>182</cp:revision>
  <dc:subject/>
  <dc:title>No Slide Title</dc:title>
</cp:coreProperties>
</file>