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1.wmf" ContentType="image/x-wmf"/>
  <Override PartName="/ppt/media/image2.jpeg" ContentType="image/jpeg"/>
  <Override PartName="/ppt/media/image3.png" ContentType="image/pn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907588" cy="6858000"/>
  <p:notesSz cx="6634163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7144-0F21-4E45-9C88-CF2A34E49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78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733400" y="4130640"/>
            <a:ext cx="78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0947-6A93-4DA0-BB5D-7E88795D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752080" y="198108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733400" y="413064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752080" y="413064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0AF0-BA1C-434C-85A9-E283AA827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25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385160" y="1981080"/>
            <a:ext cx="25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036920" y="1981080"/>
            <a:ext cx="25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733400" y="4130640"/>
            <a:ext cx="25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385160" y="4130640"/>
            <a:ext cx="25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036920" y="4130640"/>
            <a:ext cx="25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18ED-0B55-4060-BA9C-E998CCC4F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8093-39A3-45AB-BECC-503ADA913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733400" y="1981080"/>
            <a:ext cx="7842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5A07-8A87-4C1C-99ED-2E14C547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784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BFDE-C504-4B90-AC05-EF05BEB2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382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52080" y="1981080"/>
            <a:ext cx="382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98F3-86D5-4B8D-93C3-5694D91C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FB75-AAB6-4A37-A643-690923B3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733400" y="6091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9ACA-CF85-46A2-9B5E-6B5737D5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52080" y="1981080"/>
            <a:ext cx="382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33400" y="413064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6531-771B-4DA3-ACCF-D8C0DEBC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733400" y="1981080"/>
            <a:ext cx="7842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C7C8-4FE7-4029-B38A-8A3AB988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382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52080" y="198108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52080" y="413064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12DF-19D9-4608-8FA1-12471FB2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752080" y="198108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33400" y="4130640"/>
            <a:ext cx="78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897E-7423-4346-9BBD-D7CA0498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78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733400" y="4130640"/>
            <a:ext cx="78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C001-D9A2-4158-BD76-B166563C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752080" y="198108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733400" y="413064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752080" y="413064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B368-E733-488F-9BAE-D5FDE530C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25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385160" y="1981080"/>
            <a:ext cx="25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036920" y="1981080"/>
            <a:ext cx="25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733400" y="4130640"/>
            <a:ext cx="25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4385160" y="4130640"/>
            <a:ext cx="25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7036920" y="4130640"/>
            <a:ext cx="25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3797-12E6-40AC-9CBD-A0FC22EE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784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1F5A-A4EA-4128-AD97-C79013A9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382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752080" y="1981080"/>
            <a:ext cx="382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D1E4-141A-40DB-8FC1-0D6FB5CC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F718-A748-4A45-B303-9DE5CB00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733400" y="6091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527E-65BB-4806-8B00-E832D4D6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52080" y="1981080"/>
            <a:ext cx="382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33400" y="413064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0B49-98FC-4C41-99C9-26B76CDA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382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52080" y="198108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752080" y="413064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2995-C3CB-43A3-A144-10176E98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52080" y="198108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33400" y="4130640"/>
            <a:ext cx="78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5D59-7442-4279-B9D8-17C1E23F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60948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9480"/>
            <a:ext cx="9906120" cy="49532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Futura XBlk BT"/>
              </a:rPr>
              <a:t>Click to edit the title text format</a:t>
            </a: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733400" y="1981080"/>
            <a:ext cx="784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008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80"/>
                </a:solidFill>
                <a:latin typeface="Futura Md BT"/>
              </a:rPr>
              <a:t>Click to edit the outline text format</a:t>
            </a: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  <a:p>
            <a:pPr lvl="1" marL="743040" indent="-285840">
              <a:spcBef>
                <a:spcPts val="751"/>
              </a:spcBef>
              <a:buClr>
                <a:srgbClr val="80008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80"/>
                </a:solidFill>
                <a:latin typeface="Futura Md BT"/>
              </a:rPr>
              <a:t>Second Outline Level</a:t>
            </a: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  <a:p>
            <a:pPr lvl="2" marL="1143000" indent="-228600">
              <a:spcBef>
                <a:spcPts val="751"/>
              </a:spcBef>
              <a:buClr>
                <a:srgbClr val="80008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80"/>
                </a:solidFill>
                <a:latin typeface="Futura Md BT"/>
              </a:rPr>
              <a:t>Third Outline Level</a:t>
            </a: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  <a:p>
            <a:pPr lvl="3" marL="1600200" indent="-228600">
              <a:spcBef>
                <a:spcPts val="751"/>
              </a:spcBef>
              <a:buClr>
                <a:srgbClr val="80008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80"/>
                </a:solidFill>
                <a:latin typeface="Futura Md BT"/>
              </a:rPr>
              <a:t>Fourth Outline Level</a:t>
            </a: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  <a:p>
            <a:pPr lvl="4" marL="2057400" indent="-228600">
              <a:spcBef>
                <a:spcPts val="751"/>
              </a:spcBef>
              <a:buClr>
                <a:srgbClr val="800080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80"/>
                </a:solidFill>
                <a:latin typeface="Futura Md BT"/>
              </a:rPr>
              <a:t>Fifth Outline Level</a:t>
            </a: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  <a:p>
            <a:pPr lvl="5" marL="2057400" indent="-228600">
              <a:spcBef>
                <a:spcPts val="751"/>
              </a:spcBef>
              <a:buClr>
                <a:srgbClr val="660066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80"/>
                </a:solidFill>
                <a:latin typeface="Futura Md BT"/>
              </a:rPr>
              <a:t>Sixth Outline Level</a:t>
            </a: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  <a:p>
            <a:pPr lvl="6" marL="2057400" indent="-228600">
              <a:spcBef>
                <a:spcPts val="751"/>
              </a:spcBef>
              <a:buClr>
                <a:srgbClr val="660066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80"/>
                </a:solidFill>
                <a:latin typeface="Futura Md BT"/>
              </a:rPr>
              <a:t>Seventh Outline Level</a:t>
            </a: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6506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0066"/>
                </a:solidFill>
                <a:latin typeface="Futura Bk BT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483A-067C-43CE-90BA-40CAC434A6E8}" type="slidenum">
              <a:rPr b="0" lang="en-US" sz="1200" spc="-1" strike="noStrike">
                <a:solidFill>
                  <a:srgbClr val="660066"/>
                </a:solidFill>
                <a:latin typeface="Futura Bk BT"/>
              </a:rPr>
              <a:t>&lt;number&gt;</a:t>
            </a:fld>
            <a:r>
              <a:rPr b="0" lang="en-US" sz="1200" spc="-1" strike="noStrike">
                <a:solidFill>
                  <a:srgbClr val="660066"/>
                </a:solidFill>
                <a:latin typeface="Futura Bk BT"/>
              </a:rPr>
              <a:t> (1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714480" y="6095880"/>
            <a:ext cx="3600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660066"/>
                </a:solidFill>
                <a:latin typeface="Futura Lt BT"/>
              </a:rPr>
              <a:t>Oy FEG - Forest and Environment Group Ltd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75980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E7F6-D7F9-4A96-BC33-56B8285EE68F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8458200" y="6019920"/>
          <a:ext cx="641520" cy="61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6019920"/>
                    <a:ext cx="64152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19320" cy="624852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1066680" y="0"/>
            <a:ext cx="15264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57200"/>
            <a:ext cx="2819520" cy="152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905400" cy="6858000"/>
            <a:chOff x="0" y="0"/>
            <a:chExt cx="9905400" cy="6858000"/>
          </a:xfrm>
        </p:grpSpPr>
        <p:grpSp>
          <p:nvGrpSpPr>
            <p:cNvPr id="49" name=""/>
            <p:cNvGrpSpPr/>
            <p:nvPr/>
          </p:nvGrpSpPr>
          <p:grpSpPr>
            <a:xfrm>
              <a:off x="0" y="0"/>
              <a:ext cx="9905400" cy="6858000"/>
              <a:chOff x="0" y="0"/>
              <a:chExt cx="9905400" cy="6858000"/>
            </a:xfrm>
          </p:grpSpPr>
          <p:sp>
            <p:nvSpPr>
              <p:cNvPr id="50" name=""/>
              <p:cNvSpPr/>
              <p:nvPr/>
            </p:nvSpPr>
            <p:spPr>
              <a:xfrm>
                <a:off x="0" y="0"/>
                <a:ext cx="99054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2540160"/>
                <a:ext cx="99054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280080" y="0"/>
              <a:ext cx="116892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" name=""/>
            <p:cNvGrpSpPr/>
            <p:nvPr/>
          </p:nvGrpSpPr>
          <p:grpSpPr>
            <a:xfrm>
              <a:off x="1114560" y="0"/>
              <a:ext cx="165960" cy="5735520"/>
              <a:chOff x="1114560" y="0"/>
              <a:chExt cx="165960" cy="5735520"/>
            </a:xfrm>
          </p:grpSpPr>
          <p:sp>
            <p:nvSpPr>
              <p:cNvPr id="54" name=""/>
              <p:cNvSpPr/>
              <p:nvPr/>
            </p:nvSpPr>
            <p:spPr>
              <a:xfrm>
                <a:off x="1114560" y="0"/>
                <a:ext cx="1659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14560" y="1333440"/>
                <a:ext cx="1659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438280"/>
              <a:ext cx="738468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85720" y="10998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Futura XBlk BT"/>
              </a:rPr>
              <a:t>Click to edit the title text format</a:t>
            </a: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F334-D28F-44A1-AD40-1C4861B754F0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Futura XBlk BT"/>
              </a:rPr>
              <a:t>ПРООН</a:t>
            </a:r>
            <a:r>
              <a:rPr b="0" lang="en-GB" sz="3200" spc="-1" strike="noStrike">
                <a:solidFill>
                  <a:srgbClr val="008080"/>
                </a:solidFill>
                <a:latin typeface="Futura XBlk BT"/>
              </a:rPr>
              <a:t>/</a:t>
            </a:r>
            <a:r>
              <a:rPr b="0" lang="ru-RU" sz="3200" spc="-1" strike="noStrike">
                <a:solidFill>
                  <a:srgbClr val="008080"/>
                </a:solidFill>
                <a:latin typeface="Futura XBlk BT"/>
              </a:rPr>
              <a:t>Учебная программа для Беларуси  </a:t>
            </a: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47920" y="1219320"/>
            <a:ext cx="78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marL="157680" indent="0" algn="ctr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157680" indent="0" algn="ctr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157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Futura XBlk BT"/>
              </a:rPr>
              <a:t>Хранение топливной древесины</a:t>
            </a:r>
            <a:endParaRPr b="0" lang="en-US" sz="3200" spc="-1" strike="noStrike">
              <a:solidFill>
                <a:srgbClr val="800080"/>
              </a:solidFill>
              <a:latin typeface="Futura Md BT"/>
            </a:endParaRPr>
          </a:p>
          <a:p>
            <a:pPr marL="157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Futura Md BT"/>
            </a:endParaRPr>
          </a:p>
          <a:p>
            <a:pPr marL="157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Futura XBlk BT"/>
              </a:rPr>
              <a:t>Измерение количества и оценка качества топливной древесины</a:t>
            </a:r>
            <a:endParaRPr b="0" lang="en-US" sz="3200" spc="-1" strike="noStrike">
              <a:solidFill>
                <a:srgbClr val="800080"/>
              </a:solidFill>
              <a:latin typeface="Futura Md BT"/>
            </a:endParaRPr>
          </a:p>
          <a:p>
            <a:pPr marL="157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Futura XBlk BT"/>
              </a:rPr>
              <a:t> </a:t>
            </a:r>
            <a:endParaRPr b="0" lang="en-US" sz="3200" spc="-1" strike="noStrike">
              <a:solidFill>
                <a:srgbClr val="800080"/>
              </a:solidFill>
              <a:latin typeface="Futura Md BT"/>
            </a:endParaRPr>
          </a:p>
          <a:p>
            <a:pPr marL="157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Futura Md BT"/>
            </a:endParaRPr>
          </a:p>
          <a:p>
            <a:pPr marL="1576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Futura XBlk BT"/>
              </a:rPr>
              <a:t>Тимо Хартикайнен</a:t>
            </a: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1576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66"/>
                </a:solidFill>
                <a:latin typeface="Futura XBlk BT"/>
              </a:rPr>
              <a:t>26 </a:t>
            </a:r>
            <a:r>
              <a:rPr b="0" lang="ru-RU" sz="2000" spc="-1" strike="noStrike">
                <a:solidFill>
                  <a:srgbClr val="660066"/>
                </a:solidFill>
                <a:latin typeface="Futura XBlk BT"/>
              </a:rPr>
              <a:t>октября</a:t>
            </a:r>
            <a:r>
              <a:rPr b="0" lang="en-GB" sz="2000" spc="-1" strike="noStrike">
                <a:solidFill>
                  <a:srgbClr val="660066"/>
                </a:solidFill>
                <a:latin typeface="Futura XBlk BT"/>
              </a:rPr>
              <a:t> 2005</a:t>
            </a:r>
            <a:r>
              <a:rPr b="0" lang="ru-RU" sz="2000" spc="-1" strike="noStrike">
                <a:solidFill>
                  <a:srgbClr val="660066"/>
                </a:solidFill>
                <a:latin typeface="Futura XBlk BT"/>
              </a:rPr>
              <a:t> г.</a:t>
            </a: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157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Futura Md BT"/>
            </a:endParaRPr>
          </a:p>
          <a:p>
            <a:pPr marL="157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Futura Md BT"/>
            </a:endParaRPr>
          </a:p>
          <a:p>
            <a:pPr marL="157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Futura Md BT"/>
            </a:endParaRPr>
          </a:p>
          <a:p>
            <a:pPr marL="157680" indent="0">
              <a:spcBef>
                <a:spcPts val="524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800080"/>
              </a:solidFill>
              <a:latin typeface="Futura Md BT"/>
            </a:endParaRPr>
          </a:p>
          <a:p>
            <a:pPr marL="157680" indent="0">
              <a:spcBef>
                <a:spcPts val="524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800080"/>
              </a:solidFill>
              <a:latin typeface="Futura Md BT"/>
            </a:endParaRPr>
          </a:p>
          <a:p>
            <a:pPr marL="157680" indent="0">
              <a:spcBef>
                <a:spcPts val="524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800080"/>
              </a:solidFill>
              <a:latin typeface="Futura Md BT"/>
            </a:endParaRPr>
          </a:p>
          <a:p>
            <a:pPr marL="157680" indent="0">
              <a:spcBef>
                <a:spcPts val="34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Futura Md BT"/>
            </a:endParaRPr>
          </a:p>
          <a:p>
            <a:pPr marL="157680" indent="0">
              <a:spcBef>
                <a:spcPts val="34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Futura Md BT"/>
            </a:endParaRPr>
          </a:p>
          <a:p>
            <a:pPr marL="15768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66"/>
                </a:solidFill>
                <a:latin typeface="Futura Md BT"/>
              </a:rPr>
              <a:t>	</a:t>
            </a:r>
            <a:r>
              <a:rPr b="1" lang="en-GB" sz="2000" spc="-1" strike="noStrike">
                <a:solidFill>
                  <a:srgbClr val="660066"/>
                </a:solidFill>
                <a:latin typeface="Futura Md BT"/>
              </a:rPr>
              <a:t>	</a:t>
            </a: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157680" indent="0">
              <a:spcBef>
                <a:spcPts val="326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66"/>
                </a:solidFill>
                <a:latin typeface="Futura Md BT"/>
              </a:rPr>
              <a:t>	</a:t>
            </a:r>
            <a:r>
              <a:rPr b="1" lang="en-GB" sz="1400" spc="-1" strike="noStrike">
                <a:solidFill>
                  <a:srgbClr val="660066"/>
                </a:solidFill>
                <a:latin typeface="Futura Md BT"/>
              </a:rPr>
              <a:t>	</a:t>
            </a:r>
            <a:r>
              <a:rPr b="1" lang="en-GB" sz="1400" spc="-1" strike="noStrike">
                <a:solidFill>
                  <a:srgbClr val="660066"/>
                </a:solidFill>
                <a:latin typeface="Futura Md BT"/>
              </a:rPr>
              <a:t>   </a:t>
            </a:r>
            <a:r>
              <a:rPr b="0" lang="en-GB" sz="1300" spc="-1" strike="noStrike">
                <a:solidFill>
                  <a:srgbClr val="660066"/>
                </a:solidFill>
                <a:latin typeface="Futura Lt BT"/>
              </a:rPr>
              <a:t>Timo Hartikainen</a:t>
            </a:r>
            <a:endParaRPr b="0" lang="en-US" sz="1300" spc="-1" strike="noStrike">
              <a:solidFill>
                <a:srgbClr val="800080"/>
              </a:solidFill>
              <a:latin typeface="Futura Md BT"/>
            </a:endParaRPr>
          </a:p>
          <a:p>
            <a:pPr marL="1576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660066"/>
                </a:solidFill>
                <a:latin typeface="Futura Lt BT"/>
              </a:rPr>
              <a:t>	</a:t>
            </a:r>
            <a:r>
              <a:rPr b="0" lang="en-GB" sz="1300" spc="-1" strike="noStrike">
                <a:solidFill>
                  <a:srgbClr val="660066"/>
                </a:solidFill>
                <a:latin typeface="Futura Lt BT"/>
              </a:rPr>
              <a:t>	</a:t>
            </a:r>
            <a:r>
              <a:rPr b="0" lang="en-GB" sz="1300" spc="-1" strike="noStrike">
                <a:solidFill>
                  <a:srgbClr val="660066"/>
                </a:solidFill>
                <a:latin typeface="Futura Lt BT"/>
              </a:rPr>
              <a:t>   </a:t>
            </a:r>
            <a:r>
              <a:rPr b="0" lang="en-GB" sz="1300" spc="-1" strike="noStrike">
                <a:solidFill>
                  <a:srgbClr val="660066"/>
                </a:solidFill>
                <a:latin typeface="Futura Lt BT"/>
              </a:rPr>
              <a:t>24.10.2005</a:t>
            </a:r>
            <a:endParaRPr b="0" lang="en-US" sz="1300" spc="-1" strike="noStrike">
              <a:solidFill>
                <a:srgbClr val="800080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Futura XBlk BT"/>
              </a:rPr>
              <a:t>Качество/влажность</a:t>
            </a: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52120" y="1844640"/>
            <a:ext cx="7086600" cy="37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Влажность является наиболее важным фактором качества: </a:t>
            </a:r>
            <a:r>
              <a:rPr b="0" lang="fi-FI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Futura Md B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является прямым фактором стоимости и учитывается при определении цены на топливо; </a:t>
            </a: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 </a:t>
            </a: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Futura Md B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оказывает влияние на величину теплоты сгорания</a:t>
            </a: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,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 характеристики изменения качества при хранении и величину транспортных издержек. </a:t>
            </a: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 </a:t>
            </a: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Топливо с высоким содержанием влаги</a:t>
            </a:r>
            <a:r>
              <a:rPr b="0" lang="fi-FI" sz="2000" spc="-1" strike="noStrike">
                <a:solidFill>
                  <a:srgbClr val="660066"/>
                </a:solidFill>
                <a:latin typeface="Futura Md BT"/>
              </a:rPr>
              <a:t>:</a:t>
            </a: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495360" indent="-49536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меньшая низшая теплота сгорания</a:t>
            </a: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,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кВтч</a:t>
            </a: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/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кг топлива или</a:t>
            </a: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МВтч</a:t>
            </a: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/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т</a:t>
            </a: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топлива;</a:t>
            </a: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  <a:p>
            <a:pPr marL="495360" indent="-49536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снижается полнота сгорания;</a:t>
            </a: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  <a:p>
            <a:pPr marL="495360" indent="-49536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повышается уровень выбросов</a:t>
            </a: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  <a:p>
            <a:pPr marL="495360" indent="-49536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усложняется выполнение погрузочно-разгрузочных операций.</a:t>
            </a: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  <a:p>
            <a:pPr marL="49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  <a:p>
            <a:pPr marL="49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Futura XBlk BT"/>
              </a:rPr>
              <a:t>Качество/влажность</a:t>
            </a: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33040" y="1981080"/>
            <a:ext cx="384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2600" spc="-1" strike="noStrike">
              <a:solidFill>
                <a:srgbClr val="800080"/>
              </a:solidFill>
              <a:latin typeface="Futura Md BT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39800" y="1557360"/>
            <a:ext cx="4896000" cy="4896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969240" y="1484280"/>
            <a:ext cx="293688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0808"/>
                </a:solidFill>
                <a:latin typeface="Arial"/>
              </a:rPr>
              <a:t>Месячные колебания влажности лесной щепы в 2001 г. Средние значения по 4 крупным энергетическим установкам и 7 котельным установкам малой мощности (Финляндия). 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39800" y="122076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Влажность,%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0240" y="1552680"/>
            <a:ext cx="33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Крупные энергетические установки, %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57600" y="2805120"/>
            <a:ext cx="273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Малые котельные установки, %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44880" y="357336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                                             </a:t>
            </a: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Содержание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влаги   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кг/м</a:t>
            </a:r>
            <a:r>
              <a:rPr b="0" lang="ru-RU" sz="1200" spc="-1" strike="noStrike" baseline="30000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24160" y="3716280"/>
            <a:ext cx="93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Влажность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84520" y="4076640"/>
            <a:ext cx="288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Крупные энергетические установки, %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4520" y="5516640"/>
            <a:ext cx="298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Малые котельные установки, %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6189840"/>
            <a:ext cx="183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Месяц/2001 г.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Futura XBlk BT"/>
              </a:rPr>
              <a:t>Качество/влажность</a:t>
            </a: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33040" y="1981080"/>
            <a:ext cx="384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2600" spc="-1" strike="noStrike">
              <a:solidFill>
                <a:srgbClr val="800080"/>
              </a:solidFill>
              <a:latin typeface="Futura Md BT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639800" y="1700280"/>
            <a:ext cx="7705800" cy="4419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917880" y="5973840"/>
            <a:ext cx="197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Влажность, %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84120" y="1508040"/>
            <a:ext cx="24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Низшая теплота сгорания, МДж/кг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57960" y="3357720"/>
            <a:ext cx="2158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Низшая теплота сгорания  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на сухую массу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37240" y="1557360"/>
            <a:ext cx="336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Высшая теплота сгорания 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на сухую массу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81720" y="4508640"/>
            <a:ext cx="2135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Низшая теплота сгорания  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на рабочую массу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64120" y="1341360"/>
            <a:ext cx="982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Сухая 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лесная щепа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1341360"/>
            <a:ext cx="98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Зеленая 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лесная щепа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32520" y="1341360"/>
            <a:ext cx="7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Влажная 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кора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Futura XBlk BT"/>
              </a:rPr>
              <a:t>Качество/плотность энергии</a:t>
            </a: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33040" y="1981080"/>
            <a:ext cx="384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2600" spc="-1" strike="noStrike">
              <a:solidFill>
                <a:srgbClr val="800080"/>
              </a:solidFill>
              <a:latin typeface="Futura Md BT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12880" y="1916280"/>
            <a:ext cx="7416720" cy="41767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281240" y="1652760"/>
            <a:ext cx="50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Занимаемый объем, м</a:t>
            </a:r>
            <a:r>
              <a:rPr b="0" lang="ru-RU" sz="1200" spc="-1" strike="noStrike" baseline="30000">
                <a:solidFill>
                  <a:srgbClr val="660066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/тонна условного топлива в пересчете на нефть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44800" y="5589720"/>
            <a:ext cx="6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Нефть 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49600" y="558972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Уголь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35160" y="5734080"/>
            <a:ext cx="81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Дерновой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торф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68520" y="5734080"/>
            <a:ext cx="136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Фрезерный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торф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85080" y="5829480"/>
            <a:ext cx="92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Древесные 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гранулы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81600" y="5867280"/>
            <a:ext cx="107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Березовая кора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8120" y="5900760"/>
            <a:ext cx="9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Щепа из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лесосечных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отходов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12520" y="5829480"/>
            <a:ext cx="9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Бревна из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лесосечных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отходов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43600" y="5757840"/>
            <a:ext cx="83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Сосновая 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кора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69240" y="5950080"/>
            <a:ext cx="20872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Щепа из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лесосечных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отходов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798040" y="5397480"/>
            <a:ext cx="110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Рыхлые 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Лесосечные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отходы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73040" y="4100400"/>
            <a:ext cx="68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Зеленая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47040" y="374184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Сухая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23040" y="3668760"/>
            <a:ext cx="71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Зеленые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39400" y="2228760"/>
            <a:ext cx="71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Зеленые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86160" y="3597120"/>
            <a:ext cx="68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Зеленая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4280" y="2660760"/>
            <a:ext cx="75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Влажная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Futura XBlk BT"/>
              </a:rPr>
              <a:t>Измерение количества лесного древесного топлива на энергетической установке  </a:t>
            </a:r>
            <a:r>
              <a:rPr b="0" lang="en-GB" sz="2800" spc="-1" strike="noStrike">
                <a:solidFill>
                  <a:srgbClr val="008080"/>
                </a:solidFill>
                <a:latin typeface="Futura XBlk BT"/>
              </a:rPr>
              <a:t> (</a:t>
            </a:r>
            <a:r>
              <a:rPr b="0" lang="ru-RU" sz="2800" spc="-1" strike="noStrike">
                <a:solidFill>
                  <a:srgbClr val="008080"/>
                </a:solidFill>
                <a:latin typeface="Futura XBlk BT"/>
              </a:rPr>
              <a:t>метод по </a:t>
            </a:r>
            <a:r>
              <a:rPr b="0" lang="en-GB" sz="2800" spc="-1" strike="noStrike">
                <a:solidFill>
                  <a:srgbClr val="008080"/>
                </a:solidFill>
                <a:latin typeface="Futura XBlk BT"/>
              </a:rPr>
              <a:t>ISO 589)</a:t>
            </a:r>
            <a:endParaRPr b="0" lang="en-US" sz="28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52120" y="1844640"/>
            <a:ext cx="7086600" cy="37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49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49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176" name=""/>
          <p:cNvSpPr/>
          <p:nvPr/>
        </p:nvSpPr>
        <p:spPr>
          <a:xfrm>
            <a:off x="1857240" y="1916280"/>
            <a:ext cx="684072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Взвешивание груза.</a:t>
            </a:r>
            <a:r>
              <a:rPr b="0" lang="fi-FI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Отбор общей пробы для определения влажности: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2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пробы весом</a:t>
            </a: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 30 – 100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 г, если погрешность весов</a:t>
            </a: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составляет</a:t>
            </a: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 0,01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г,</a:t>
            </a: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или</a:t>
            </a: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 2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пробы, весом</a:t>
            </a: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  200 – 400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г, если погрешность весов</a:t>
            </a: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составляет</a:t>
            </a:r>
            <a:r>
              <a:rPr b="0" lang="fi-FI" sz="1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0,1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г.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сушка в инкубаторе с кондиционированием воздуха при температуре 105 градусов, как правило, продолжительность сушки составляет 16 часов, но не должна превышать 24 часа.  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Futura XBlk BT"/>
              </a:rPr>
              <a:t>Некоторые основные формулы</a:t>
            </a: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33040" y="1981080"/>
            <a:ext cx="384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49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49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857240" y="1628640"/>
            <a:ext cx="2016360" cy="559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857240" y="191628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857240" y="2349360"/>
            <a:ext cx="2303640" cy="522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1857240" y="3068640"/>
            <a:ext cx="2808360" cy="3254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681960" y="1700280"/>
            <a:ext cx="26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Futura Md BT"/>
              </a:rPr>
              <a:t>влажность пробы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81960" y="2421000"/>
            <a:ext cx="25923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Futura Md BT"/>
              </a:rPr>
              <a:t>высшая теплота сгорания</a:t>
            </a:r>
            <a:r>
              <a:rPr b="1" lang="fi-FI" sz="1400" spc="-1" strike="noStrike">
                <a:solidFill>
                  <a:srgbClr val="660066"/>
                </a:solidFill>
                <a:latin typeface="Futura Md BT"/>
              </a:rPr>
              <a:t>, (</a:t>
            </a:r>
            <a:r>
              <a:rPr b="1" lang="fi-FI" sz="1200" spc="-1" strike="noStrike">
                <a:solidFill>
                  <a:srgbClr val="660066"/>
                </a:solidFill>
                <a:latin typeface="Futura Md BT"/>
              </a:rPr>
              <a:t>Mad=</a:t>
            </a:r>
            <a:r>
              <a:rPr b="1" lang="ru-RU" sz="1200" spc="-1" strike="noStrike">
                <a:solidFill>
                  <a:srgbClr val="660066"/>
                </a:solidFill>
                <a:latin typeface="Futura Md BT"/>
              </a:rPr>
              <a:t>сухая масса</a:t>
            </a:r>
            <a:r>
              <a:rPr b="1" lang="fi-FI" sz="1200" spc="-1" strike="noStrike">
                <a:solidFill>
                  <a:srgbClr val="660066"/>
                </a:solidFill>
                <a:latin typeface="Futura Md BT"/>
              </a:rPr>
              <a:t>)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81960" y="2997360"/>
            <a:ext cx="259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Futura Md BT"/>
              </a:rPr>
              <a:t>низшая теплота сгорания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1857240" y="3645000"/>
            <a:ext cx="3095640" cy="4395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1928880" y="4292640"/>
            <a:ext cx="2087640" cy="477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1928880" y="4941720"/>
            <a:ext cx="1295280" cy="4986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681960" y="3573360"/>
            <a:ext cx="251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Futura Md BT"/>
              </a:rPr>
              <a:t>низшая теплота сгорания при получении материала</a:t>
            </a:r>
            <a:r>
              <a:rPr b="1" lang="fi-FI" sz="14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Futura Md BT"/>
              </a:rPr>
              <a:t> 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61240" y="4365720"/>
            <a:ext cx="33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Futura Md BT"/>
              </a:rPr>
              <a:t>плотность энергии</a:t>
            </a:r>
            <a:r>
              <a:rPr b="1" lang="fi-FI" sz="1400" spc="-1" strike="noStrike">
                <a:solidFill>
                  <a:srgbClr val="660066"/>
                </a:solidFill>
                <a:latin typeface="Futura Md BT"/>
              </a:rPr>
              <a:t>, </a:t>
            </a:r>
            <a:r>
              <a:rPr b="1" lang="ru-RU" sz="1400" spc="-1" strike="noStrike">
                <a:solidFill>
                  <a:srgbClr val="660066"/>
                </a:solidFill>
                <a:latin typeface="Futura Md BT"/>
              </a:rPr>
              <a:t>МВтч</a:t>
            </a:r>
            <a:r>
              <a:rPr b="1" lang="fi-FI" sz="1400" spc="-1" strike="noStrike">
                <a:solidFill>
                  <a:srgbClr val="660066"/>
                </a:solidFill>
                <a:latin typeface="Futura Md BT"/>
              </a:rPr>
              <a:t>/i-</a:t>
            </a:r>
            <a:r>
              <a:rPr b="1" lang="ru-RU" sz="1400" spc="-1" strike="noStrike">
                <a:solidFill>
                  <a:srgbClr val="660066"/>
                </a:solidFill>
                <a:latin typeface="Futura Md BT"/>
              </a:rPr>
              <a:t>м</a:t>
            </a:r>
            <a:r>
              <a:rPr b="1" lang="fi-FI" sz="1400" spc="-1" strike="noStrike" baseline="30000">
                <a:solidFill>
                  <a:srgbClr val="660066"/>
                </a:solidFill>
                <a:latin typeface="Futura Md BT"/>
              </a:rPr>
              <a:t>3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81960" y="5013360"/>
            <a:ext cx="273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Futura Md BT"/>
              </a:rPr>
              <a:t>поставленное количество энергии</a:t>
            </a:r>
            <a:r>
              <a:rPr b="1" lang="fi-FI" sz="1400" spc="-1" strike="noStrike">
                <a:solidFill>
                  <a:srgbClr val="660066"/>
                </a:solidFill>
                <a:latin typeface="Futura Md BT"/>
              </a:rPr>
              <a:t>, </a:t>
            </a:r>
            <a:r>
              <a:rPr b="1" lang="ru-RU" sz="1400" spc="-1" strike="noStrike">
                <a:solidFill>
                  <a:srgbClr val="660066"/>
                </a:solidFill>
                <a:latin typeface="Futura Md BT"/>
              </a:rPr>
              <a:t>МВтч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Futura XBlk BT"/>
              </a:rPr>
              <a:t>Значения низшей теплоты сгорания</a:t>
            </a:r>
            <a:r>
              <a:rPr b="0" lang="en-GB" sz="2800" spc="-1" strike="noStrike">
                <a:solidFill>
                  <a:srgbClr val="008080"/>
                </a:solidFill>
                <a:latin typeface="Futura XBlk BT"/>
              </a:rPr>
              <a:t> (Q</a:t>
            </a:r>
            <a:r>
              <a:rPr b="0" lang="en-GB" sz="2800" spc="-1" strike="noStrike" baseline="-25000">
                <a:solidFill>
                  <a:srgbClr val="008080"/>
                </a:solidFill>
                <a:latin typeface="Futura XBlk BT"/>
              </a:rPr>
              <a:t>netd</a:t>
            </a:r>
            <a:r>
              <a:rPr b="0" lang="en-GB" sz="2800" spc="-1" strike="noStrike">
                <a:solidFill>
                  <a:srgbClr val="008080"/>
                </a:solidFill>
                <a:latin typeface="Futura XBlk BT"/>
              </a:rPr>
              <a:t>) </a:t>
            </a:r>
            <a:r>
              <a:rPr b="0" lang="ru-RU" sz="2800" spc="-1" strike="noStrike">
                <a:solidFill>
                  <a:srgbClr val="008080"/>
                </a:solidFill>
                <a:latin typeface="Futura XBlk BT"/>
              </a:rPr>
              <a:t>некоторых пород деревьев</a:t>
            </a:r>
            <a:r>
              <a:rPr b="0" lang="en-GB" sz="2800" spc="-1" strike="noStrike">
                <a:solidFill>
                  <a:srgbClr val="008080"/>
                </a:solidFill>
                <a:latin typeface="Futura XBlk BT"/>
              </a:rPr>
              <a:t> (Nurmi 1993, 2000)</a:t>
            </a:r>
            <a:endParaRPr b="0" lang="en-US" sz="28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33040" y="1981080"/>
            <a:ext cx="384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49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49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194" name=""/>
          <p:cNvSpPr/>
          <p:nvPr/>
        </p:nvSpPr>
        <p:spPr>
          <a:xfrm>
            <a:off x="1857240" y="191628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784520" y="2205000"/>
            <a:ext cx="6984720" cy="15858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254680" y="2419200"/>
            <a:ext cx="50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Ель 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98680" y="270684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Сосна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80320" y="2924280"/>
            <a:ext cx="68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Береза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87720" y="3427560"/>
            <a:ext cx="20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Тополь дрожащий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92520" y="321156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Ольха серая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68520" y="1843200"/>
            <a:ext cx="212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Стволовая древесина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10280" y="1844640"/>
            <a:ext cx="136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Стволовая кора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602400" y="1844640"/>
            <a:ext cx="87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Вершина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808760" y="1844640"/>
            <a:ext cx="12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Целое дерево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841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Futura XBlk BT"/>
              </a:rPr>
              <a:t>Измерение количества топливной древесины на различных этапах цепочки поставки  </a:t>
            </a:r>
            <a:endParaRPr b="0" lang="en-US" sz="28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52120" y="1844640"/>
            <a:ext cx="7086600" cy="37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49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49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207" name=""/>
          <p:cNvSpPr/>
          <p:nvPr/>
        </p:nvSpPr>
        <p:spPr>
          <a:xfrm>
            <a:off x="1857240" y="1197000"/>
            <a:ext cx="684072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Платежи владельцу леса: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лесосечные отходы, заготовляемые на лесосеке,</a:t>
            </a: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 –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по количеству топливной древесины на гектар;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тонкомерные деревья, заготовляемые при проведении первых прореживаний, измерение в кучах на верхнем складе, например, измерение объема типичных лесоматериалов; проблемы: низкая точность и высокая стоимость измерений; также возможно осуществление платежей по количеству поставленной щепы.  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Трелевка лесосечных отходов или целых деревьев: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стандартный метод</a:t>
            </a: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: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первый платеж (например, 90%) по средним размерам партии груза и числу партий;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окончательный платеж по количеству щепы, </a:t>
            </a:r>
            <a:r>
              <a:rPr b="0" lang="en-US" sz="1800" spc="-1" strike="noStrike">
                <a:solidFill>
                  <a:srgbClr val="660066"/>
                </a:solidFill>
                <a:latin typeface="Futura Md BT"/>
              </a:rPr>
              <a:t>i-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м</a:t>
            </a:r>
            <a:r>
              <a:rPr b="0" lang="ru-RU" sz="1800" spc="-1" strike="noStrike" baseline="30000">
                <a:solidFill>
                  <a:srgbClr val="660066"/>
                </a:solidFill>
                <a:latin typeface="Futura Md BT"/>
              </a:rPr>
              <a:t>3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;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проблемы: задержка платежа на период между временем окончания производства работ и совершением платежа, потери материала в процессе хранения.     </a:t>
            </a: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 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Futura XBlk BT"/>
              </a:rPr>
              <a:t>Измерение количества топливной древесины на различных этапах цепочки поставки</a:t>
            </a:r>
            <a:endParaRPr b="0" lang="en-US" sz="28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752120" y="1844640"/>
            <a:ext cx="7086600" cy="37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49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49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210" name=""/>
          <p:cNvSpPr/>
          <p:nvPr/>
        </p:nvSpPr>
        <p:spPr>
          <a:xfrm>
            <a:off x="1857240" y="1916280"/>
            <a:ext cx="6840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Платежи предпринимателям, осуществляющим переработку древесины в щепу: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по произведенному количеству щепы. </a:t>
            </a:r>
            <a:r>
              <a:rPr b="0" lang="fi-FI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Платежи предпринимателям, осуществляющим транспортировку груза на грузовых автомобилях: 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по объему щепы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по весу груза;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660066"/>
              </a:buClr>
              <a:buFont typeface="Futura Md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проблемы</a:t>
            </a:r>
            <a:r>
              <a:rPr b="0" lang="fi-FI" sz="2000" spc="-1" strike="noStrike">
                <a:solidFill>
                  <a:srgbClr val="660066"/>
                </a:solidFill>
                <a:latin typeface="Futura Md BT"/>
              </a:rPr>
              <a:t>: </a:t>
            </a: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если при транспортировке сухой щепы вес груза щепы меньше максимально возможного веса груза, уменьшается размер платежа предпринимателю. </a:t>
            </a:r>
            <a:r>
              <a:rPr b="0" lang="fi-FI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Платежи поставщику щепы на энергетическую установку: </a:t>
            </a:r>
            <a:r>
              <a:rPr b="0" lang="fi-FI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по энергосодержанию поставленной щепы.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81240" y="620280"/>
            <a:ext cx="8624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80"/>
                </a:solidFill>
                <a:latin typeface="Futura XBlk BT"/>
              </a:rPr>
              <a:t>Oy FEG - Forest and</a:t>
            </a:r>
            <a:r>
              <a:rPr b="0" lang="ru-RU" sz="2800" spc="-1" strike="noStrike">
                <a:solidFill>
                  <a:srgbClr val="008080"/>
                </a:solidFill>
                <a:latin typeface="Futura XBlk BT"/>
              </a:rPr>
              <a:t> </a:t>
            </a:r>
            <a:r>
              <a:rPr b="0" lang="en-GB" sz="2800" spc="-1" strike="noStrike">
                <a:solidFill>
                  <a:srgbClr val="008080"/>
                </a:solidFill>
                <a:latin typeface="Futura XBlk BT"/>
              </a:rPr>
              <a:t>Environment Group Ltd.</a:t>
            </a:r>
            <a:br>
              <a:rPr sz="2800"/>
            </a:br>
            <a:r>
              <a:rPr b="0" lang="ru-RU" sz="2800" spc="-1" strike="noStrike">
                <a:solidFill>
                  <a:srgbClr val="008080"/>
                </a:solidFill>
                <a:latin typeface="Futura XBlk BT"/>
              </a:rPr>
              <a:t>(Ой-ФЭГ – Форест энд Энвайэрмент Груп Лтд.)</a:t>
            </a:r>
            <a:endParaRPr b="0" lang="en-US" sz="28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733040" y="1981080"/>
            <a:ext cx="786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Futura Md BT"/>
              </a:rPr>
              <a:t>Контактная информация</a:t>
            </a:r>
            <a:endParaRPr b="0" lang="en-US" sz="24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Futura Md BT"/>
              </a:rPr>
              <a:t>Oy FEG - Forest and Environment Group Ltd.</a:t>
            </a:r>
            <a:endParaRPr b="0" lang="en-US" sz="16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Futura Md BT"/>
              </a:rPr>
              <a:t>Sirkkalantie 17</a:t>
            </a:r>
            <a:endParaRPr b="0" lang="en-US" sz="16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Futura Md BT"/>
              </a:rPr>
              <a:t>FIN-80100 Joensuu</a:t>
            </a:r>
            <a:endParaRPr b="0" lang="en-US" sz="16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Futura Md BT"/>
              </a:rPr>
              <a:t>Finland</a:t>
            </a:r>
            <a:endParaRPr b="0" lang="en-US" sz="16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Futura Md BT"/>
              </a:rPr>
              <a:t>Тел</a:t>
            </a:r>
            <a:r>
              <a:rPr b="0" lang="en-GB" sz="1600" spc="-1" strike="noStrike">
                <a:solidFill>
                  <a:srgbClr val="660066"/>
                </a:solidFill>
                <a:latin typeface="Futura Md BT"/>
              </a:rPr>
              <a:t>.</a:t>
            </a:r>
            <a:r>
              <a:rPr b="0" lang="ru-RU" sz="1600" spc="-1" strike="noStrike">
                <a:solidFill>
                  <a:srgbClr val="660066"/>
                </a:solidFill>
                <a:latin typeface="Futura Md BT"/>
              </a:rPr>
              <a:t>:</a:t>
            </a:r>
            <a:r>
              <a:rPr b="0" lang="en-GB" sz="1600" spc="-1" strike="noStrike">
                <a:solidFill>
                  <a:srgbClr val="660066"/>
                </a:solidFill>
                <a:latin typeface="Futura Md BT"/>
              </a:rPr>
              <a:t> +358 13 2637447</a:t>
            </a:r>
            <a:endParaRPr b="0" lang="en-US" sz="16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Futura Md BT"/>
              </a:rPr>
              <a:t>Fax.</a:t>
            </a:r>
            <a:r>
              <a:rPr b="0" lang="ru-RU" sz="1600" spc="-1" strike="noStrike">
                <a:solidFill>
                  <a:srgbClr val="660066"/>
                </a:solidFill>
                <a:latin typeface="Futura Md BT"/>
              </a:rPr>
              <a:t>:</a:t>
            </a:r>
            <a:r>
              <a:rPr b="0" lang="en-GB" sz="1600" spc="-1" strike="noStrike">
                <a:solidFill>
                  <a:srgbClr val="660066"/>
                </a:solidFill>
                <a:latin typeface="Futura Md BT"/>
              </a:rPr>
              <a:t> +358 13 2637449</a:t>
            </a:r>
            <a:endParaRPr b="0" lang="en-US" sz="16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Futura Md BT"/>
              </a:rPr>
              <a:t>Email.</a:t>
            </a:r>
            <a:r>
              <a:rPr b="0" lang="ru-RU" sz="1600" spc="-1" strike="noStrike">
                <a:solidFill>
                  <a:srgbClr val="660066"/>
                </a:solidFill>
                <a:latin typeface="Futura Md BT"/>
              </a:rPr>
              <a:t>:</a:t>
            </a:r>
            <a:r>
              <a:rPr b="0" lang="en-GB" sz="1600" spc="-1" strike="noStrike">
                <a:solidFill>
                  <a:srgbClr val="660066"/>
                </a:solidFill>
                <a:latin typeface="Futura Md BT"/>
              </a:rPr>
              <a:t> feg@feg.fi</a:t>
            </a:r>
            <a:endParaRPr b="0" lang="en-US" sz="16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Futura Md BT"/>
              </a:rPr>
              <a:t>www.feg.fi</a:t>
            </a:r>
            <a:endParaRPr b="0" lang="en-US" sz="1600" spc="-1" strike="noStrike">
              <a:solidFill>
                <a:srgbClr val="800080"/>
              </a:solidFill>
              <a:latin typeface="Futura Md BT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753240" y="1916280"/>
            <a:ext cx="23814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Futura XBlk BT"/>
              </a:rPr>
              <a:t>Хранение топливной древесины</a:t>
            </a: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84160" y="1628280"/>
            <a:ext cx="7086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660066"/>
                </a:solidFill>
                <a:latin typeface="Futura Md BT"/>
              </a:rPr>
              <a:t>Получение энергии из древесины является более сложным процессом по сравнению с выработкой энергии из газа, нефти или угля </a:t>
            </a:r>
            <a:r>
              <a:rPr b="0" lang="fi-FI" sz="1900" spc="-1" strike="noStrike">
                <a:solidFill>
                  <a:srgbClr val="660066"/>
                </a:solidFill>
                <a:latin typeface="Futura Md BT"/>
              </a:rPr>
              <a:t>-&gt;</a:t>
            </a:r>
            <a:r>
              <a:rPr b="0" lang="ru-RU" sz="1900" spc="-1" strike="noStrike">
                <a:solidFill>
                  <a:srgbClr val="660066"/>
                </a:solidFill>
                <a:latin typeface="Futura Md BT"/>
              </a:rPr>
              <a:t> требует хранения больших запасов древесины, гарантирующих производство энергии в любых условиях, а также получение высококачественного топлива.</a:t>
            </a:r>
            <a:endParaRPr b="0" lang="en-US" sz="19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1900" spc="-1" strike="noStrike">
                <a:solidFill>
                  <a:srgbClr val="660066"/>
                </a:solidFill>
                <a:latin typeface="Futura Md BT"/>
              </a:rPr>
              <a:t>Лесное древесное топливо: минимальный объем запасов топлива должен быть достаточным для производства энергии в течение отопительного сезона.  </a:t>
            </a:r>
            <a:endParaRPr b="0" lang="en-US" sz="19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1900" spc="-1" strike="noStrike">
                <a:solidFill>
                  <a:srgbClr val="660066"/>
                </a:solidFill>
                <a:latin typeface="Futura Md BT"/>
              </a:rPr>
              <a:t>С тем, чтобы обеспечить производство энергии в любых погодных условиях и независимо от других переменных условий, необходимо иметь значительные объемы запасов топлива, например, в 1,5 раз превышающие расчетные запасы, требуемые для одного отопительного сезона. </a:t>
            </a:r>
            <a:endParaRPr b="0" lang="en-US" sz="19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800080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480" y="188640"/>
            <a:ext cx="746784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Futura XBlk BT"/>
              </a:rPr>
              <a:t>Хранение на верхнем складе (у лесовозной дороги)</a:t>
            </a: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52120" y="1412640"/>
            <a:ext cx="7086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Хранение на верхнем складе (у магистральной лесовозной дороги):</a:t>
            </a: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lvl="1" marL="743040" indent="-285840">
              <a:spcBef>
                <a:spcPts val="451"/>
              </a:spcBef>
              <a:buClr>
                <a:srgbClr val="660066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наиболее широко распространенный метод хранения;</a:t>
            </a: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  <a:p>
            <a:pPr lvl="1" marL="743040" indent="-285840">
              <a:spcBef>
                <a:spcPts val="451"/>
              </a:spcBef>
              <a:buClr>
                <a:srgbClr val="660066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порубочные остатки, бревна из лесосечных отходов</a:t>
            </a: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,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пни и целые деревья, заготовляемые при проведении первых прореживаний;  </a:t>
            </a: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 </a:t>
            </a: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  <a:p>
            <a:pPr lvl="1" marL="743040" indent="-285840">
              <a:spcBef>
                <a:spcPts val="451"/>
              </a:spcBef>
              <a:buClr>
                <a:srgbClr val="660066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улучшение качества при хранении, низкие потери сухой массы. </a:t>
            </a: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44880" y="3933720"/>
            <a:ext cx="360036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480" y="404640"/>
            <a:ext cx="746784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Futura XBlk BT"/>
              </a:rPr>
              <a:t>Хранение на верхнем складе (у лесовозной дороги)</a:t>
            </a: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57240" y="1557360"/>
            <a:ext cx="766152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Технологическая цепочка "рубительная машина-щеповоз", представляющая собой так называемую "горячую цепочку", </a:t>
            </a:r>
            <a:r>
              <a:rPr b="0" lang="fi-FI" sz="2000" spc="-1" strike="noStrike">
                <a:solidFill>
                  <a:srgbClr val="660066"/>
                </a:solidFill>
                <a:latin typeface="Futura Md BT"/>
              </a:rPr>
              <a:t>-&gt;</a:t>
            </a: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 проблемы, возникающие в процессе работы одной из машин, немедленно отражаются на эффективности работы всей цепочки </a:t>
            </a: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тщательное планирование хранения и производства щепы имеет чрезвычайно важное значение  </a:t>
            </a: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На территории склада используются тяжелые машины больших размеров</a:t>
            </a:r>
            <a:r>
              <a:rPr b="0" lang="fi-FI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склад должен  иметь достаточную площадь и размещаться на участке с твердым грунтом </a:t>
            </a:r>
            <a:r>
              <a:rPr b="0" lang="fi-FI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длина щеповоза с рубительной машиной может достигать 10-12 м, а вес – 30 тонн </a:t>
            </a:r>
            <a:r>
              <a:rPr b="0" lang="fi-FI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длина щеповоза с прицепом может превышать 20 м, а максимальный вес груза может составлять</a:t>
            </a:r>
            <a:r>
              <a:rPr b="0" lang="fi-FI" sz="2000" spc="-1" strike="noStrike">
                <a:solidFill>
                  <a:srgbClr val="660066"/>
                </a:solidFill>
                <a:latin typeface="Futura Md BT"/>
              </a:rPr>
              <a:t> 60 </a:t>
            </a: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тонн</a:t>
            </a: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Futura XBlk BT"/>
              </a:rPr>
              <a:t>Хранение на верхнем складе (у лесовозной дороги)</a:t>
            </a: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52120" y="1844640"/>
            <a:ext cx="7086600" cy="37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66"/>
                </a:solidFill>
                <a:latin typeface="Futura Md BT"/>
              </a:rPr>
              <a:t>Кучи должны иметь максимальные размеры</a:t>
            </a:r>
            <a:r>
              <a:rPr b="0" lang="fi-FI" sz="2200" spc="-1" strike="noStrike">
                <a:solidFill>
                  <a:srgbClr val="660066"/>
                </a:solidFill>
                <a:latin typeface="Futura Md BT"/>
              </a:rPr>
              <a:t> -&gt; </a:t>
            </a:r>
            <a:r>
              <a:rPr b="0" lang="ru-RU" sz="2200" spc="-1" strike="noStrike">
                <a:solidFill>
                  <a:srgbClr val="660066"/>
                </a:solidFill>
                <a:latin typeface="Futura Md BT"/>
              </a:rPr>
              <a:t>в большой кипе лесоматериалы меньше намокают во время дождя. </a:t>
            </a:r>
            <a:r>
              <a:rPr b="0" lang="fi-FI" sz="22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2200" spc="-1" strike="noStrike">
                <a:solidFill>
                  <a:srgbClr val="660066"/>
                </a:solidFill>
                <a:latin typeface="Futura Md BT"/>
              </a:rPr>
              <a:t> </a:t>
            </a:r>
            <a:endParaRPr b="0" lang="en-US" sz="2200" spc="-1" strike="noStrike">
              <a:solidFill>
                <a:srgbClr val="800080"/>
              </a:solidFill>
              <a:latin typeface="Futura Md BT"/>
            </a:endParaRPr>
          </a:p>
          <a:p>
            <a:pPr marL="335880" indent="-335880">
              <a:spcBef>
                <a:spcPts val="550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66"/>
                </a:solidFill>
                <a:latin typeface="Futura Md BT"/>
              </a:rPr>
              <a:t>Величина потерь сухого вещества зависит от продолжительности хранения и размера кучи: </a:t>
            </a:r>
            <a:endParaRPr b="0" lang="en-US" sz="2200" spc="-1" strike="noStrike">
              <a:solidFill>
                <a:srgbClr val="800080"/>
              </a:solidFill>
              <a:latin typeface="Futura Md BT"/>
            </a:endParaRPr>
          </a:p>
          <a:p>
            <a:pPr lvl="1" marL="727920" indent="-280080">
              <a:spcBef>
                <a:spcPts val="451"/>
              </a:spcBef>
              <a:buClr>
                <a:srgbClr val="660066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потери выше в куче малых размеров</a:t>
            </a: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  <a:p>
            <a:pPr lvl="1" marL="727920" indent="-280080">
              <a:spcBef>
                <a:spcPts val="451"/>
              </a:spcBef>
              <a:buClr>
                <a:srgbClr val="660066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наибольшая потеря сухого вещества лесосечных отходов происходит на лесосеке – почти половина сухого вещества </a:t>
            </a: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разлагается в течение года.</a:t>
            </a: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  <a:p>
            <a:pPr marL="335880" indent="-335880">
              <a:spcBef>
                <a:spcPts val="550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66"/>
                </a:solidFill>
                <a:latin typeface="Futura Md BT"/>
              </a:rPr>
              <a:t>Не сгребайте снег (+камни) с дороги в кучи лесоматериалов! </a:t>
            </a:r>
            <a:r>
              <a:rPr b="0" lang="fi-FI" sz="22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2200" spc="-1" strike="noStrike">
                <a:solidFill>
                  <a:srgbClr val="660066"/>
                </a:solidFill>
                <a:latin typeface="Futura Md BT"/>
              </a:rPr>
              <a:t> </a:t>
            </a:r>
            <a:endParaRPr b="0" lang="en-US" sz="2200" spc="-1" strike="noStrike">
              <a:solidFill>
                <a:srgbClr val="800080"/>
              </a:solidFill>
              <a:latin typeface="Futura Md BT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Futura Md BT"/>
            </a:endParaRPr>
          </a:p>
          <a:p>
            <a:pPr marL="3358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Futura Md BT"/>
            </a:endParaRPr>
          </a:p>
          <a:p>
            <a:pPr marL="3358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Futura XBlk BT"/>
              </a:rPr>
              <a:t>Повышение влажности лесосечных отходов в процессе хранения</a:t>
            </a: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52120" y="1844640"/>
            <a:ext cx="7086600" cy="37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Futura Md BT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60520" y="1916280"/>
            <a:ext cx="5545080" cy="3697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857240" y="5661000"/>
            <a:ext cx="24480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0808"/>
                </a:solidFill>
                <a:latin typeface="Arial"/>
              </a:rPr>
              <a:t>зима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0808"/>
                </a:solidFill>
                <a:latin typeface="Arial"/>
              </a:rPr>
              <a:t>свежезаготовленные лесосечные отходы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65600" y="566100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0808"/>
                </a:solidFill>
                <a:latin typeface="Arial"/>
              </a:rPr>
              <a:t>лето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81960" y="5734080"/>
            <a:ext cx="14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0808"/>
                </a:solidFill>
                <a:latin typeface="Arial"/>
              </a:rPr>
              <a:t>осень и зима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28880" y="429264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80808"/>
                </a:solidFill>
                <a:latin typeface="Arial"/>
              </a:rPr>
              <a:t>на лесосеке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16520" y="458136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80808"/>
                </a:solidFill>
                <a:latin typeface="Arial"/>
              </a:rPr>
              <a:t>в куче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0520" y="479736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80808"/>
                </a:solidFill>
                <a:latin typeface="Arial"/>
              </a:rPr>
              <a:t>щепа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965160" y="3526920"/>
            <a:ext cx="23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80808"/>
                </a:solidFill>
                <a:latin typeface="Times New Roman"/>
              </a:rPr>
              <a:t>Влажность</a:t>
            </a:r>
            <a:r>
              <a:rPr b="0" lang="fi-FI" sz="1400" spc="-1" strike="noStrike">
                <a:solidFill>
                  <a:srgbClr val="080808"/>
                </a:solidFill>
                <a:latin typeface="Times New Roman"/>
              </a:rPr>
              <a:t>, %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52120" y="259920"/>
            <a:ext cx="802476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Futura XBlk BT"/>
              </a:rPr>
              <a:t>Размещение кучи лесосечных отходов</a:t>
            </a: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52120" y="1844640"/>
            <a:ext cx="7086600" cy="37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на продуваемом ровном участке без камней </a:t>
            </a: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не следует размещать кучи рядом с линиями электропередач или телефонной связи  </a:t>
            </a:r>
            <a:r>
              <a:rPr b="0" lang="fi-FI" sz="18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 </a:t>
            </a: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кучи должны размещаться в пределах радиуса действия погрузчика рубительной машины  </a:t>
            </a: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перед укладкой в основание кучи следует положить несколько целых деревьев в поперечном направлении  </a:t>
            </a: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укладку кучи следует осуществлять таким образом, чтобы в первую очередь производилась переработка в щепу лесосечных отходов, которые были  загружены последними</a:t>
            </a: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с учетом характеристик рубительной машины загрузка может производиться с одной из сторон или с обеих сторон дороги</a:t>
            </a: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800080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07800" y="609120"/>
            <a:ext cx="869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Futura XBlk BT"/>
              </a:rPr>
              <a:t>Размещение и форма куч лесосечных отходов</a:t>
            </a:r>
            <a:endParaRPr b="0" lang="en-US" sz="28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52120" y="1844640"/>
            <a:ext cx="7086600" cy="37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0080"/>
              </a:solidFill>
              <a:latin typeface="Futura Md BT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Futura Md BT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84520" y="1700280"/>
            <a:ext cx="5457600" cy="4081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928880" y="5229360"/>
            <a:ext cx="1439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80808"/>
                </a:solidFill>
                <a:latin typeface="Arial"/>
              </a:rPr>
              <a:t>Дорога на территории склада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3295080" y="273924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80808"/>
                </a:solidFill>
                <a:latin typeface="Arial"/>
              </a:rPr>
              <a:t>Автомобильная дорога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357336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80808"/>
                </a:solidFill>
                <a:latin typeface="Arial"/>
              </a:rPr>
              <a:t>Форма кучи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Futura XBlk BT"/>
              </a:rPr>
              <a:t>Качество древесной щепы</a:t>
            </a: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52120" y="1844640"/>
            <a:ext cx="7086600" cy="37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Качество древесной щепы зависит от</a:t>
            </a:r>
            <a:r>
              <a:rPr b="0" lang="fi-FI" sz="2000" spc="-1" strike="noStrike">
                <a:solidFill>
                  <a:srgbClr val="660066"/>
                </a:solidFill>
                <a:latin typeface="Futura Md BT"/>
              </a:rPr>
              <a:t>:</a:t>
            </a: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lvl="1" marL="743040" indent="-285840">
              <a:spcBef>
                <a:spcPts val="451"/>
              </a:spcBef>
              <a:buClr>
                <a:srgbClr val="660066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источника биомассы;</a:t>
            </a: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  <a:p>
            <a:pPr lvl="1" marL="743040" indent="-285840">
              <a:spcBef>
                <a:spcPts val="451"/>
              </a:spcBef>
              <a:buClr>
                <a:srgbClr val="660066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66"/>
                </a:solidFill>
                <a:latin typeface="Futura Md BT"/>
              </a:rPr>
              <a:t>методов измельчения, погрузочно-разгрузочных операций и хранения.</a:t>
            </a: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Однородность размеров частиц,  </a:t>
            </a:r>
            <a:r>
              <a:rPr b="0" lang="fi-FI" sz="20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низкое содержание влаги и листвы, и низкая зольность повышают производительность энергетической установки и эффективность и экономичность сжигания топлива. </a:t>
            </a: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Различные котлоагрегаты требуют использования топлива с различными характеристиками. </a:t>
            </a: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80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9T05:59:19Z</dcterms:created>
  <dc:creator>Feg Oy</dc:creator>
  <dc:description/>
  <dc:language>en-US</dc:language>
  <cp:lastModifiedBy>Sv</cp:lastModifiedBy>
  <cp:lastPrinted>2003-03-19T15:01:57Z</cp:lastPrinted>
  <dcterms:modified xsi:type="dcterms:W3CDTF">2005-11-27T00:25:25Z</dcterms:modified>
  <cp:revision>197</cp:revision>
  <dc:subject/>
  <dc:title>No Slide Title</dc:title>
</cp:coreProperties>
</file>