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634163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2BF-B208-4194-8989-101ED938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03A-6E5D-4FA2-85A8-F590873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712-E629-4EFB-95C0-2EDD3CCF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1A1-3084-4B7F-9DCA-6992DD7E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7B4B-D3AE-4BE7-81A3-9A745E46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B4C4-AA7D-4C0E-ABD1-BB3C6D5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B238-DF6C-4C04-A3CC-9A99AF77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01A-1E80-4A8E-8DB8-14151F99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FCF-61B5-464D-8F91-6E51D303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2395-EC82-4676-9811-3393B3B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B85D-B418-46AA-88D6-259C12D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990-EFFD-4431-8ECB-92F1EC5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2B7-9DB1-495B-B16D-EEE525D7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C3A9-894D-45CA-A7C3-A4D1A10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468-38B0-4387-8CC4-A3D7870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5510-EEDD-454D-847E-09E8F017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5B3-3E32-456C-9F50-99AAC05E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DFA-CDAB-4BA3-BE29-97D1725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1AE-0C23-4EE0-918D-891C11E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941-7AD3-410F-AF36-F30B201B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8BF-07BE-414C-81A8-5772917D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9C9-19BC-4743-9E1F-D946820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F16-FC2D-4058-8AD2-0ADC33B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15C-FC6F-4764-A692-7133555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906120" cy="4953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Click to edit the outline text format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con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2" marL="11430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Thir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3" marL="16002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our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4" marL="20574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if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5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ix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6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ven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650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66"/>
                </a:solidFill>
                <a:latin typeface="Futura Bk BT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4BB-6ABA-45BF-9EC2-339BCD0621AD}" type="slidenum">
              <a:rPr b="0" lang="en-US" sz="1200" spc="-1" strike="noStrike">
                <a:solidFill>
                  <a:srgbClr val="660066"/>
                </a:solidFill>
                <a:latin typeface="Futura Bk BT"/>
              </a:rPr>
              <a:t>&lt;number&gt;</a:t>
            </a:fld>
            <a:r>
              <a:rPr b="0" lang="en-US" sz="1200" spc="-1" strike="noStrike">
                <a:solidFill>
                  <a:srgbClr val="660066"/>
                </a:solidFill>
                <a:latin typeface="Futura Bk BT"/>
              </a:rPr>
              <a:t> (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60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Futura Lt BT"/>
              </a:rPr>
              <a:t>Oy FEG - Forest and Environment Group Lt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3E68-25F4-4ABB-85BE-9354F2C6FF9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458200" y="6019920"/>
          <a:ext cx="64152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019920"/>
                    <a:ext cx="6415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62485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066680" y="0"/>
            <a:ext cx="15264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7200"/>
            <a:ext cx="2819520" cy="15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99054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2540160"/>
                <a:ext cx="99054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80080" y="0"/>
              <a:ext cx="116892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114560" y="0"/>
              <a:ext cx="165960" cy="5735520"/>
              <a:chOff x="1114560" y="0"/>
              <a:chExt cx="165960" cy="5735520"/>
            </a:xfrm>
          </p:grpSpPr>
          <p:sp>
            <p:nvSpPr>
              <p:cNvPr id="54" name=""/>
              <p:cNvSpPr/>
              <p:nvPr/>
            </p:nvSpPr>
            <p:spPr>
              <a:xfrm>
                <a:off x="1114560" y="0"/>
                <a:ext cx="1659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560" y="1333440"/>
                <a:ext cx="1659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438280"/>
              <a:ext cx="738468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10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8603-D543-49C8-90A4-E55308D8B18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ПРООН</a:t>
            </a:r>
            <a:r>
              <a:rPr b="0" lang="en-GB" sz="3200" spc="-1" strike="noStrike">
                <a:solidFill>
                  <a:srgbClr val="008080"/>
                </a:solidFill>
                <a:latin typeface="Futura XBlk BT"/>
              </a:rPr>
              <a:t>/</a:t>
            </a: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Учебная программа для Беларуси  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8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Хранение топливной древесины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Измерение количества и оценка качества топливной древесины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Тимо Хартикайнен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XBlk BT"/>
              </a:rPr>
              <a:t>26 </a:t>
            </a: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октября</a:t>
            </a:r>
            <a:r>
              <a:rPr b="0" lang="en-GB" sz="2000" spc="-1" strike="noStrike">
                <a:solidFill>
                  <a:srgbClr val="660066"/>
                </a:solidFill>
                <a:latin typeface="Futura XBlk BT"/>
              </a:rPr>
              <a:t> 2005</a:t>
            </a: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 г.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Timo Hartikainen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24.10.2005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Влажность является наиболее важным фактором качества: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является прямым фактором стоимости и учитывается при определении цены на топливо;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оказывает влияние на величину теплоты сгорания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характеристики изменения качества при хранении и величину транспортных издержек.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опливо с высоким содержанием влаги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еньшая низшая теплота сгорания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Втч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/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г топлива или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Втч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/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оплива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нижается полнота сгорания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вышается уровень выбросов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сложняется выполнение погрузочно-разгрузочных операций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3980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69240" y="1484280"/>
            <a:ext cx="29368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Месячные колебания влажности лесной щепы в 2001 г. Средние значения по 4 крупным энергетическим установкам и 7 котельным установкам малой мощности (Финляндия).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9800" y="12207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,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0240" y="1552680"/>
            <a:ext cx="33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рупные энергетически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80512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алые котельны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44880" y="357336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                                     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одержани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ги 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г/м</a:t>
            </a:r>
            <a:r>
              <a:rPr b="0" lang="ru-RU" sz="1200" spc="-1" strike="noStrike" baseline="30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4160" y="371628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4520" y="407664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рупные энергетически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4520" y="5516640"/>
            <a:ext cx="298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алые котельны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618984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есяц/2001 г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39800" y="1700280"/>
            <a:ext cx="7705800" cy="4419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17880" y="5973840"/>
            <a:ext cx="19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4120" y="150804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, МДж/кг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57960" y="33577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сух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37240" y="1557360"/>
            <a:ext cx="33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ысшая теплота сгорани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сух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81720" y="4508640"/>
            <a:ext cx="213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рабоч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64120" y="134136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ух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ная 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341360"/>
            <a:ext cx="98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ная 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134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плотность энергии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12880" y="1916280"/>
            <a:ext cx="7416720" cy="417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81240" y="165276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анимаемый объем, м</a:t>
            </a:r>
            <a:r>
              <a:rPr b="0" lang="ru-RU" sz="1200" spc="-1" strike="noStrike" baseline="30000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/тонна условного топлива в пересчете на неф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4800" y="5589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ефть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9600" y="55897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Угол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5160" y="5734080"/>
            <a:ext cx="8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Дерновой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68520" y="5734080"/>
            <a:ext cx="13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Фрезерный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85080" y="5829480"/>
            <a:ext cx="92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Древесные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гранулы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1600" y="5867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Березовая 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8120" y="590076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Щеп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12520" y="582948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Бревн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0" y="575784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основ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69240" y="5950080"/>
            <a:ext cx="2087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Щеп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98040" y="5397480"/>
            <a:ext cx="110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Рыхлые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ы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3040" y="410040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7040" y="37418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ух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3040" y="36687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39400" y="22287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86160" y="359712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4280" y="26607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лесного древесного топлива на энергетической установке 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метод по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ISO 589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76" name=""/>
          <p:cNvSpPr/>
          <p:nvPr/>
        </p:nvSpPr>
        <p:spPr>
          <a:xfrm>
            <a:off x="1857240" y="1916280"/>
            <a:ext cx="684072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Взвешивание груза.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Отбор общей пробы для определения влажности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2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ы весом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30 – 100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г, если погрешность вес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оставляет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0,01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,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или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2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ы, весом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 200 – 400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, если погрешность вес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оставляет</a:t>
            </a:r>
            <a:r>
              <a:rPr b="0" lang="fi-FI" sz="1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0,1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ушка в инкубаторе с кондиционированием воздуха при температуре 105 градусов, как правило, продолжительность сушки составляет 16 часов, но не должна превышать 24 часа.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Некоторые основные формул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57240" y="1628640"/>
            <a:ext cx="2016360" cy="55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57240" y="1916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57240" y="2349360"/>
            <a:ext cx="2303640" cy="52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857240" y="3068640"/>
            <a:ext cx="2808360" cy="325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681960" y="1700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влажность пробы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1960" y="2421000"/>
            <a:ext cx="2592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высшая теплота сгорания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(</a:t>
            </a:r>
            <a:r>
              <a:rPr b="1" lang="fi-FI" sz="1200" spc="-1" strike="noStrike">
                <a:solidFill>
                  <a:srgbClr val="660066"/>
                </a:solidFill>
                <a:latin typeface="Futura Md BT"/>
              </a:rPr>
              <a:t>Mad=</a:t>
            </a:r>
            <a:r>
              <a:rPr b="1" lang="ru-RU" sz="1200" spc="-1" strike="noStrike">
                <a:solidFill>
                  <a:srgbClr val="660066"/>
                </a:solidFill>
                <a:latin typeface="Futura Md BT"/>
              </a:rPr>
              <a:t>сухая масса</a:t>
            </a:r>
            <a:r>
              <a:rPr b="1" lang="fi-FI" sz="1200" spc="-1" strike="noStrike">
                <a:solidFill>
                  <a:srgbClr val="660066"/>
                </a:solidFill>
                <a:latin typeface="Futura Md BT"/>
              </a:rPr>
              <a:t>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1960" y="299736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низшая теплота сгорания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857240" y="3645000"/>
            <a:ext cx="3095640" cy="439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928880" y="4292640"/>
            <a:ext cx="2087640" cy="477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928880" y="4941720"/>
            <a:ext cx="1295280" cy="49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681960" y="357336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низшая теплота сгорания при получении материала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61240" y="4365720"/>
            <a:ext cx="33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плотность энергии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Втч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/i-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1" lang="fi-FI" sz="14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5013360"/>
            <a:ext cx="27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поставленное количество энергии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Втч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Значения низшей теплоты сгорания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Q</a:t>
            </a:r>
            <a:r>
              <a:rPr b="0" lang="en-GB" sz="2800" spc="-1" strike="noStrike" baseline="-25000">
                <a:solidFill>
                  <a:srgbClr val="008080"/>
                </a:solidFill>
                <a:latin typeface="Futura XBlk BT"/>
              </a:rPr>
              <a:t>netd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) 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некоторых пород деревьев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Nurmi 1993, 2000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94" name=""/>
          <p:cNvSpPr/>
          <p:nvPr/>
        </p:nvSpPr>
        <p:spPr>
          <a:xfrm>
            <a:off x="1857240" y="1916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84520" y="2205000"/>
            <a:ext cx="6984720" cy="15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54680" y="2419200"/>
            <a:ext cx="5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Ель 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8680" y="27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ос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0320" y="292428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Берез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87720" y="342756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ополь дрожащий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2520" y="321156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Ольха серая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68520" y="184320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тволовая древеси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0280" y="1844640"/>
            <a:ext cx="13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тволовая кор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02400" y="1844640"/>
            <a:ext cx="8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Верши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08760" y="18446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Целое дерево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4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топливной древесины на различных этапах цепочки поставки  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07" name=""/>
          <p:cNvSpPr/>
          <p:nvPr/>
        </p:nvSpPr>
        <p:spPr>
          <a:xfrm>
            <a:off x="1857240" y="1197000"/>
            <a:ext cx="6840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латежи владельцу леса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лесосечные отходы, заготовляемые на лесосеке,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–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 количеству топливной древесины на гектар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онкомерные деревья, заготовляемые при проведении первых прореживаний, измерение в кучах на верхнем складе, например, измерение объема типичных лесоматериалов; проблемы: низкая точность и высокая стоимость измерений; также возможно осуществление платежей по количеству поставленной щепы.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релевка лесосечных отходов или целых деревьев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тандартный метод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ервый платеж (например, 90%) по средним размерам партии груза и числу партий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окончательный платеж по количеству щепы, </a:t>
            </a:r>
            <a:r>
              <a:rPr b="0" lang="en-US" sz="1800" spc="-1" strike="noStrike">
                <a:solidFill>
                  <a:srgbClr val="660066"/>
                </a:solidFill>
                <a:latin typeface="Futura Md BT"/>
              </a:rPr>
              <a:t>i-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0" lang="ru-RU" sz="18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лемы: задержка платежа на период между временем окончания производства работ и совершением платежа, потери материала в процессе хранения.   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топливной древесины на различных этапах цепочки поставки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10" name=""/>
          <p:cNvSpPr/>
          <p:nvPr/>
        </p:nvSpPr>
        <p:spPr>
          <a:xfrm>
            <a:off x="1857240" y="1916280"/>
            <a:ext cx="68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редпринимателям, осуществляющим переработку древесины в щепу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произведенному количеству щепы.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редпринимателям, осуществляющим транспортировку груза на грузовых автомобилях: 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объему щепы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весу груза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роблемы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если при транспортировке сухой щепы вес груза щепы меньше максимально возможного веса груза, уменьшается размер платежа предпринимателю.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оставщику щепы на энергетическую установку: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энергосодержанию поставленной щеп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1240" y="62028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Контактная информация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Oy FEG - Forest and Environment Group Ltd.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Sirkkalantie 1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-80100 Joensuu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land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Тел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ax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9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Email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feg@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www.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81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топливной древесин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4160" y="162828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Получение энергии из древесины является более сложным процессом по сравнению с выработкой энергии из газа, нефти или угля </a:t>
            </a:r>
            <a:r>
              <a:rPr b="0" lang="fi-FI" sz="1900" spc="-1" strike="noStrike">
                <a:solidFill>
                  <a:srgbClr val="660066"/>
                </a:solidFill>
                <a:latin typeface="Futura Md BT"/>
              </a:rPr>
              <a:t>-&gt;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требует хранения больших запасов древесины, гарантирующих производство энергии в любых условиях, а также получение высококачественного топлива.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Лесное древесное топливо: минимальный объем запасов топлива должен быть достаточным для производства энергии в течение отопительного сезона.  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С тем, чтобы обеспечить производство энергии в любых погодных условиях и независимо от других переменных условий, необходимо иметь значительные объемы запасов топлива, например, в 1,5 раз превышающие расчетные запасы, требуемые для одного отопительного сезона. 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188640"/>
            <a:ext cx="7467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1412640"/>
            <a:ext cx="7086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Хранение на верхнем складе (у магистральной лесовозной дороги)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иболее широко распространенный метод хранения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рубочные остатки, бревна из лесосечных отход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ни и целые деревья, заготовляемые при проведении первых прореживаний;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лучшение качества при хранении, низкие потери сухой массы.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44880" y="3933720"/>
            <a:ext cx="3600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404640"/>
            <a:ext cx="74678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7240" y="1557360"/>
            <a:ext cx="76615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ехнологическая цепочка "рубительная машина-щеповоз", представляющая собой так называемую "горячую цепочку",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-&gt;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проблемы, возникающие в процессе работы одной из машин, немедленно отражаются на эффективности работы всей цепочки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щательное планирование хранения и производства щепы имеет чрезвычайно важное значение 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На территории склада используются тяжелые машины больших размеров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склад должен  иметь достаточную площадь и размещаться на участке с твердым грунтом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лина щеповоза с рубительной машиной может достигать 10-12 м, а вес – 30 тонн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лина щеповоза с прицепом может превышать 20 м, а максимальный вес груза может составлять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60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онн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Кучи должны иметь максимальные размеры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-&gt;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в большой кипе лесоматериалы меньше намокают во время дождя.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Величина потерь сухого вещества зависит от продолжительности хранения и размера кучи: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-28008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тери выше в куче малых размеров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-28008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ибольшая потеря сухого вещества лесосечных отходов происходит на лесосеке – почти половина сухого вещества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разлагается в течение года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Не сгребайте снег (+камни) с дороги в кучи лесоматериалов!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Повышение влажности лесосечных отходов в процессе хранения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60520" y="1916280"/>
            <a:ext cx="5545080" cy="3697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57240" y="5661000"/>
            <a:ext cx="2448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зима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свежезаготовленные лесосечные отходы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5661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лето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81960" y="5734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осень и зима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8880" y="4292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на лесосеке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6520" y="4581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в куче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0520" y="4797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щеп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965160" y="35269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Влажность</a:t>
            </a:r>
            <a:r>
              <a:rPr b="0" lang="fi-FI" sz="1400" spc="-1" strike="noStrike">
                <a:solidFill>
                  <a:srgbClr val="080808"/>
                </a:solidFill>
                <a:latin typeface="Times New Roman"/>
              </a:rPr>
              <a:t>, %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59920"/>
            <a:ext cx="80247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Размещение кучи лесосечных отходов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 продуваемом ровном участке без камней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е следует размещать кучи рядом с линиями электропередач или телефонной связи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учи должны размещаться в пределах радиуса действия погрузчика рубительной машины 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еред укладкой в основание кучи следует положить несколько целых деревьев в поперечном направлении 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кладку кучи следует осуществлять таким образом, чтобы в первую очередь производилась переработка в щепу лесосечных отходов, которые были  загружены последними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 учетом характеристик рубительной машины загрузка может производиться с одной из сторон или с обеих сторон дороги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7800" y="6091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Размещение и форма куч лесосечных отходов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84520" y="1700280"/>
            <a:ext cx="5457600" cy="40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28880" y="5229360"/>
            <a:ext cx="14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Дорога на территории склад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295080" y="27392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Автомобильная дорог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5733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Форма куч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 древесной щеп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Качество древесной щепы зависит от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источника биомассы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етодов измельчения, погрузочно-разгрузочных операций и хранения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Однородность размеров частиц, 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низкое содержание влаги и листвы, и низкая зольность повышают производительность энергетической установки и эффективность и экономичность сжигания топлива.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Различные котлоагрегаты требуют использования топлива с различными характеристиками.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59:19Z</dcterms:created>
  <dc:creator>Feg Oy</dc:creator>
  <dc:description/>
  <dc:language>en-US</dc:language>
  <cp:lastModifiedBy>Sv</cp:lastModifiedBy>
  <cp:lastPrinted>2003-03-19T15:01:57Z</cp:lastPrinted>
  <dcterms:modified xsi:type="dcterms:W3CDTF">2005-11-27T00:25:25Z</dcterms:modified>
  <cp:revision>197</cp:revision>
  <dc:subject/>
  <dc:title>No Slide Title</dc:title>
</cp:coreProperties>
</file>