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35.jpeg" ContentType="image/jpeg"/>
  <Override PartName="/ppt/media/image10.jpeg" ContentType="image/jpeg"/>
  <Override PartName="/ppt/media/image36.png" ContentType="image/png"/>
  <Override PartName="/ppt/media/image44.jpeg" ContentType="image/jpeg"/>
  <Override PartName="/ppt/media/image34.wmf" ContentType="image/x-wmf"/>
  <Override PartName="/ppt/media/image45.jpeg" ContentType="image/jpeg"/>
  <Override PartName="/ppt/media/image46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3.jpeg" ContentType="image/jpeg"/>
  <Override PartName="/ppt/media/image30.wmf" ContentType="image/x-wmf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41.wmf" ContentType="image/x-wmf"/>
  <Override PartName="/ppt/media/image29.jpeg" ContentType="image/jpeg"/>
  <Override PartName="/ppt/media/image52.jpeg" ContentType="image/jpeg"/>
  <Override PartName="/ppt/media/image12.jpeg" ContentType="image/jpeg"/>
  <Override PartName="/ppt/media/image38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271D-03D2-4DBB-A167-76412E02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2570-0412-4C7D-BEE8-91DFA83F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B12DA-043B-4F6F-A62B-BA38EFF1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08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380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08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380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A509-E751-4C3A-9E43-F288F4D7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485280"/>
            <a:ext cx="7162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2443-6931-4B3A-82F8-85052816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208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33800" y="15109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208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33800" y="3370320"/>
            <a:ext cx="230580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527E5-AF40-4E03-AD56-30CCD828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F45E2-8B6B-45DD-8E5C-680779C7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B1E8-8CC9-43EF-A35C-E4A12E8F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485280"/>
            <a:ext cx="716256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91E9-3542-4373-86D6-F9536387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C49C-0AC6-4B65-A302-8282FBD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3703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0F6E-43F2-4FEF-AB30-5CCD34B4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510920"/>
            <a:ext cx="34945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370320"/>
            <a:ext cx="7161120" cy="16977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7B17D-F821-4C87-8E12-33C5CF83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510920"/>
            <a:ext cx="7161120" cy="3559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06560" y="6081840"/>
            <a:ext cx="356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360" y="608184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267-801B-491C-9EAF-EF63ADDEEE73}" type="slidenum">
              <a:rPr b="0" lang="de-AT" sz="10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0" y="608184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5400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510920"/>
            <a:ext cx="7161120" cy="1515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1006560" y="6081840"/>
            <a:ext cx="356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5"/>
          </p:nvPr>
        </p:nvSpPr>
        <p:spPr>
          <a:xfrm>
            <a:off x="4572000" y="608184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7200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66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package" Target="../embeddings/oleObject1.pptx"/><Relationship Id="rId4" Type="http://schemas.openxmlformats.org/officeDocument/2006/relationships/image" Target="../media/image34.wmf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510920"/>
            <a:ext cx="7161120" cy="1515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Добро пожаловать!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720" y="3657240"/>
            <a:ext cx="7161120" cy="438120"/>
          </a:xfrm>
          <a:prstGeom prst="rect">
            <a:avLst/>
          </a:prstGeom>
          <a:solidFill>
            <a:srgbClr val="eeeeee">
              <a:alpha val="50000"/>
            </a:srgbClr>
          </a:solidFill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пло из биомас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Переталкивающая решетк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21200" cy="44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пло из биомассы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ретортная топка для пелетца; загрузка с помощью шнека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14440" y="2209680"/>
            <a:ext cx="487692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древесного пеле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4724280"/>
            <a:ext cx="7315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етц подаётся с помощью загрузочного шнека снизу на неподвижный топочный ковш (реторта). Передняя или боковая загруз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90720" y="1538280"/>
            <a:ext cx="332568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485280"/>
            <a:ext cx="73911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SR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топка с переталкивающей решеткой для пелетца; загрузка с помощью шнек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87692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древесного пеле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4572000"/>
            <a:ext cx="731520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летц подаётся с помощью загрузочного шнека на камеру сгорания и распределяется с помощью передвижных элементов решетки по всей длине. Передняя или боковая загруз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33480" y="1492200"/>
            <a:ext cx="3386160" cy="30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выгрузка пелетца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62160" y="1899720"/>
            <a:ext cx="4267080" cy="244764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регулируемой компенсацией давления для длинных бункерны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ранспортировки и загрузки из бункерных устройств (для пелет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65160" y="3200400"/>
            <a:ext cx="2844720" cy="1614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8191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выгрузка с помощью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ычага с изгибом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62520" y="1828800"/>
            <a:ext cx="487656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61401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выгрузка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клонног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нека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1907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бункерных емкостей до 7 м Ø с доступом сн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нулированного топлив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ая высота слоя засыпки* до 2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110040" cy="1757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8191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ыгрузка с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ризонтального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шнека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1907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бункерных емкостей до 10 м 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нулированного топлив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ксимальная высота слоя засыпки* до 3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105360" cy="1754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8191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ыгрузка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талкивающих балок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1907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рупного материала до G150* (макс. длина отдельных частей вне большинства 35 cм), полученного с помощью шред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3809880"/>
            <a:ext cx="2847960" cy="1608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2819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B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выгрузка с помощью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талкивающих балок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62160" y="2057400"/>
            <a:ext cx="4190760" cy="473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07400" cy="39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25-й летний опыт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4800600" cy="2746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 fontScale="59000"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438960" cy="41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886200" cy="32576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Котёл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19360" y="1511280"/>
            <a:ext cx="3886200" cy="24321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Камера сгорания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ностью облицована шамотными камнями и охлаждается с помощью водяной рубашки кот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9540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ешетки и реторта изготовлены из жаростойкого и окалиностойкого хром-чугунного материала, они продуваются первичным воздухом с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495680"/>
            <a:ext cx="3886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Зона турболентно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ƒ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о зона самая горячая в камере сгорания. Она обеспечивает полную оксидацию CO во CO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3505320"/>
            <a:ext cx="3886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Зона вращения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‚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есь происходит оптимальное перемешивание сгорающих га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4800600"/>
            <a:ext cx="32004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Зона релаксаци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„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5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десь успокаиваются газы сгорания. Большинство золы оседа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Теплообменник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4587840" cy="3441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4280" y="17524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енн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124080" y="1295280"/>
            <a:ext cx="20145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Шамотирование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717880" cy="42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правление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3170160" cy="42256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3170160" cy="42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-15228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762120" y="1523880"/>
            <a:ext cx="4746600" cy="38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Моноциклон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178000" cy="45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Мультициклон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440160" cy="4384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07052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втоматическая система очистки теплообменнтк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4648320"/>
            <a:ext cx="7086600" cy="1095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циальный поток выхлопного газа вдувается с высокой скоростью и уносит частицы с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31496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419360" y="2209680"/>
            <a:ext cx="4189320" cy="1535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ображет существующее состоя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ступ через сеть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326700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553080" y="304920"/>
          <a:ext cx="2371680" cy="69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04920"/>
                    <a:ext cx="23716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600200" y="1447920"/>
            <a:ext cx="5823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изуализация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8344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Сделано в Австрии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62160" y="1510920"/>
            <a:ext cx="4189320" cy="39877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двух площадках, которые совместно охватывают 11 га промышленной площади и 6.200 кв.м. производственных помещений, ежегодно выпускаются больше 200 у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сное сотрудничество с вышими учебными заведениями, а также знание 100 квалифицированных сотрудников обеспечивает высокий технолигический уров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81916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Управление буфером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14800" y="1511280"/>
            <a:ext cx="4037040" cy="9018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иковые нагруз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нимальные нагруз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33692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7779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оммуналь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становка, Гнас, Австрия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879640" cy="4319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962520" y="2489040"/>
            <a:ext cx="4876560" cy="32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1120" cy="10112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 Narrow"/>
              </a:rPr>
              <a:t>Blizzard –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горные лыжи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3440160" cy="2743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432108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1120" cy="998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«Передвижные» установки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216320" cy="3373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954600" cy="31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Райнбов», Канад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4704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2193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Фан дер Мейлен»,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анада (5 мВт)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8496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Доступный энергоноситель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62160" y="1511280"/>
            <a:ext cx="4189320" cy="25243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туация в центральной Европ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сходы на топливо примерно 30-40 % ниже чем у соответствующих установок для дизел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819160" cy="281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0720" y="4572000"/>
            <a:ext cx="281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на за энергоноситель в центах (€)/кВт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66440" y="17524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Дизель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00280" y="373392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32ff00"/>
                </a:solidFill>
                <a:latin typeface="Arial"/>
              </a:rPr>
              <a:t>Щепа (ель) W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Экологические преимуществ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80920" y="1511280"/>
            <a:ext cx="4800600" cy="43531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ывая весь производственый процесс биомасса значительно уменьшает выбросы углекислого газа; они составляют только 1 % эмиссий сгораем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масса является востанавливающим носителем энергии, который растет фактически рядом. Она не знает кризисы, не требует длительную перевозку и не приводит к экологичекским катастроф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масса обеспечивает рабочие места для местного населения, повышает покупательную способность Вашего региона и уменьшает ее зависимость от им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омасса является носителем эенергии буду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2514600" cy="25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356680" cy="9144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Ключевые компоненты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641240"/>
            <a:ext cx="7161120" cy="228636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опк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Система выгрузк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Котел </a:t>
            </a:r>
            <a:r>
              <a:rPr b="1" lang="de-DE" sz="3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еплообмен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Топлива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7480" y="3162240"/>
            <a:ext cx="920520" cy="647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8200" y="410364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8200" y="2762280"/>
            <a:ext cx="2519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ые опил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87480" y="2438280"/>
            <a:ext cx="920520" cy="6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987480" y="3887640"/>
            <a:ext cx="920520" cy="64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645080" y="2438280"/>
            <a:ext cx="92052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645080" y="3162240"/>
            <a:ext cx="92052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45080" y="3887640"/>
            <a:ext cx="920520" cy="64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973160" y="243828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ая пыль (от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шлифовального станк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73160" y="316224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рогальная и фрезерная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труж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73160" y="3887640"/>
            <a:ext cx="2519640" cy="216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ая ще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73160" y="4319640"/>
            <a:ext cx="2519640" cy="216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Технологическая ще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0760" y="316224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Зерно (целые растения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лученны из сечки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0760" y="2438280"/>
            <a:ext cx="2519640" cy="324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0760" y="3887640"/>
            <a:ext cx="2519640" cy="648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ный пелет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95680" y="2438280"/>
            <a:ext cx="896760" cy="2098800"/>
            <a:chOff x="3595680" y="2438280"/>
            <a:chExt cx="896760" cy="2098800"/>
          </a:xfrm>
        </p:grpSpPr>
        <p:sp>
          <p:nvSpPr>
            <p:cNvPr id="110" name=""/>
            <p:cNvSpPr/>
            <p:nvPr/>
          </p:nvSpPr>
          <p:spPr>
            <a:xfrm>
              <a:off x="359568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1960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4316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708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2440" y="2438280"/>
              <a:ext cx="0" cy="209880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253280" y="2440080"/>
            <a:ext cx="896760" cy="2098440"/>
            <a:chOff x="7253280" y="2440080"/>
            <a:chExt cx="896760" cy="2098440"/>
          </a:xfrm>
        </p:grpSpPr>
        <p:sp>
          <p:nvSpPr>
            <p:cNvPr id="116" name=""/>
            <p:cNvSpPr/>
            <p:nvPr/>
          </p:nvSpPr>
          <p:spPr>
            <a:xfrm>
              <a:off x="725328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7720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0076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468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50040" y="2440080"/>
              <a:ext cx="0" cy="2098440"/>
            </a:xfrm>
            <a:prstGeom prst="line">
              <a:avLst/>
            </a:prstGeom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540560" y="254484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5800" y="3486240"/>
            <a:ext cx="2519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5800" y="2762280"/>
            <a:ext cx="2519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78200" y="3486240"/>
            <a:ext cx="2519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СП, ДВП и плиты МДФ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78200" y="4103640"/>
            <a:ext cx="251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Щепа из кустарни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5800" y="2762280"/>
            <a:ext cx="2519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Древесина, полученная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т шредд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5800" y="3486240"/>
            <a:ext cx="2519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жимки, отходы производства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руктового сока и т.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16000" y="1744920"/>
            <a:ext cx="436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B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471800" y="1743120"/>
            <a:ext cx="43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4360" y="254484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2960" y="286848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1560" y="286848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2960" y="32688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1560" y="32688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2960" y="35924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1560" y="35924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2960" y="394020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1560" y="394020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01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1560" y="43718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0160" y="43718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0560" y="286848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1960" y="32688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11960" y="3592440"/>
            <a:ext cx="111240" cy="111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691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97760" y="4156200"/>
            <a:ext cx="111240" cy="110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топка с вдуванием топлива; загрузка с помощью шнек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113360" cy="16074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пылеобразного топли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1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я золы ≤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286080" cy="24652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4343400"/>
            <a:ext cx="716256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лифовальная пыль выгружается в зависимости от мощности из дозирующего бункера и турбулизируется с помощью высоконапорного вентилятора и форсунки в камере сгор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R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ретортно-колосниковая топка; загрузка с помощью шнек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43400" y="1600200"/>
            <a:ext cx="4113360" cy="233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топлива с низким содержанием з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3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я золы ≤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гранулированног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материал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336840" cy="2641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14400" y="4572000"/>
            <a:ext cx="716292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о подаётся с помощью загрузочного шнека снизу на неподвижный топочный ковш (реторта). Передняя или боковая загруз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R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топка с переталкивающей решеткой; загрузка с помощью шнек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19360" y="1523520"/>
            <a:ext cx="4113000" cy="2338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ля влажного топлива с высокой долей з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о 5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оля золы &gt;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для гранулированного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  материала до G10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4419720"/>
            <a:ext cx="7315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о подаётся с помощью шнеков с большими диаметрами спереди в камеру сгорания и распределяется с помощью передвижных элементов переталкивающей решетки по всей дл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462480" cy="27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485280"/>
            <a:ext cx="7162560" cy="97164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SR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топка с переталкивающей решеткой и гидравлической загрузкой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876560" cy="21186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72000" bIns="720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влажного топлива с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ой долей зол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 55% (макс.) вла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ние золы &gt;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крупного материала до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G150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-8287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4495680"/>
            <a:ext cx="7315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пливо подаётся с помощью шнеков с большими диаметрами спереди в камеру сгорания и распределяется с помощью передвижных элементов переталкивающей решетки по всей дл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333216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06:53:58Z</dcterms:created>
  <dc:creator>hschoenmaier</dc:creator>
  <dc:description/>
  <dc:language>en-US</dc:language>
  <cp:lastModifiedBy>SN</cp:lastModifiedBy>
  <dcterms:modified xsi:type="dcterms:W3CDTF">2005-02-12T17:50:59Z</dcterms:modified>
  <cp:revision>19</cp:revision>
  <dc:subject/>
  <dc:title>Тепло из биомассы </dc:title>
</cp:coreProperties>
</file>