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42.png" ContentType="image/pn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35.jpeg" ContentType="image/jpeg"/>
  <Override PartName="/ppt/media/image10.jpeg" ContentType="image/jpeg"/>
  <Override PartName="/ppt/media/image36.png" ContentType="image/png"/>
  <Override PartName="/ppt/media/image44.jpeg" ContentType="image/jpeg"/>
  <Override PartName="/ppt/media/image34.wmf" ContentType="image/x-wmf"/>
  <Override PartName="/ppt/media/image45.jpeg" ContentType="image/jpeg"/>
  <Override PartName="/ppt/media/image46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1.jpeg" ContentType="image/jpeg"/>
  <Override PartName="/ppt/media/image33.jpeg" ContentType="image/jpeg"/>
  <Override PartName="/ppt/media/image30.wmf" ContentType="image/x-wmf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39.jpeg" ContentType="image/jpeg"/>
  <Override PartName="/ppt/media/image41.wmf" ContentType="image/x-wmf"/>
  <Override PartName="/ppt/media/image29.jpeg" ContentType="image/jpeg"/>
  <Override PartName="/ppt/media/image52.jpeg" ContentType="image/jpeg"/>
  <Override PartName="/ppt/media/image12.jpeg" ContentType="image/jpeg"/>
  <Override PartName="/ppt/media/image38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C2F52-7B8F-4E43-9CF3-0F5372B91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510920"/>
            <a:ext cx="71611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720" y="3370320"/>
            <a:ext cx="71611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3C503-FCB0-4E6B-A820-0795FF71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510920"/>
            <a:ext cx="34945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200" y="1510920"/>
            <a:ext cx="34945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3370320"/>
            <a:ext cx="34945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200" y="3370320"/>
            <a:ext cx="34945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B9AD6-A9DE-4BCB-AA25-B9ED03E7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510920"/>
            <a:ext cx="230580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2080" y="1510920"/>
            <a:ext cx="230580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33800" y="1510920"/>
            <a:ext cx="230580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720" y="3370320"/>
            <a:ext cx="230580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2080" y="3370320"/>
            <a:ext cx="230580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33800" y="3370320"/>
            <a:ext cx="230580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67B55-F32C-4DAE-BFC8-D1ED90B5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90720" y="1510920"/>
            <a:ext cx="7161120" cy="35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510920"/>
            <a:ext cx="7161120" cy="3559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510920"/>
            <a:ext cx="3494520" cy="3559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0200" y="1510920"/>
            <a:ext cx="3494520" cy="3559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720" y="485280"/>
            <a:ext cx="716256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510920"/>
            <a:ext cx="34945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200" y="1510920"/>
            <a:ext cx="3494520" cy="3559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90720" y="3370320"/>
            <a:ext cx="34945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720" y="1510920"/>
            <a:ext cx="7161120" cy="35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0FB1C-915C-4B6C-AB3D-5A0060D1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510920"/>
            <a:ext cx="3494520" cy="3559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0200" y="1510920"/>
            <a:ext cx="34945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0200" y="3370320"/>
            <a:ext cx="34945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510920"/>
            <a:ext cx="34945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0200" y="1510920"/>
            <a:ext cx="34945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370320"/>
            <a:ext cx="71611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510920"/>
            <a:ext cx="71611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90720" y="3370320"/>
            <a:ext cx="71611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510920"/>
            <a:ext cx="34945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200" y="1510920"/>
            <a:ext cx="34945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3370320"/>
            <a:ext cx="34945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0200" y="3370320"/>
            <a:ext cx="34945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510920"/>
            <a:ext cx="230580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2080" y="1510920"/>
            <a:ext cx="230580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33800" y="1510920"/>
            <a:ext cx="230580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90720" y="3370320"/>
            <a:ext cx="230580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2080" y="3370320"/>
            <a:ext cx="230580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33800" y="3370320"/>
            <a:ext cx="230580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510920"/>
            <a:ext cx="7161120" cy="3559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C4706-7489-43C5-990A-14EE32B5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1510920"/>
            <a:ext cx="3494520" cy="3559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200" y="1510920"/>
            <a:ext cx="3494520" cy="3559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04ABB-DB5D-4EDF-B67A-B63AB88D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72915-2786-4849-AD4F-E11403D0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485280"/>
            <a:ext cx="716256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B6324-6B6E-4CD0-84DF-4C4CBF8A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510920"/>
            <a:ext cx="34945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200" y="1510920"/>
            <a:ext cx="3494520" cy="3559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720" y="3370320"/>
            <a:ext cx="34945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66876-E0CE-4D55-8F0E-8395B567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510920"/>
            <a:ext cx="3494520" cy="3559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200" y="1510920"/>
            <a:ext cx="34945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200" y="3370320"/>
            <a:ext cx="34945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A08E5-2925-471A-B57E-2ABED2FA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510920"/>
            <a:ext cx="34945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200" y="1510920"/>
            <a:ext cx="34945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3370320"/>
            <a:ext cx="71611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9C6DF-6399-4840-93A4-9CBAD444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510920"/>
            <a:ext cx="7161120" cy="3559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006560" y="6081840"/>
            <a:ext cx="356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66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-360" y="608184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6B39-4852-40BF-9CDB-DFD8B1E16F03}" type="slidenum">
              <a:rPr b="0" lang="de-AT" sz="10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0" y="608184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5400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66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510920"/>
            <a:ext cx="7161120" cy="15159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1006560" y="6081840"/>
            <a:ext cx="356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66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5"/>
          </p:nvPr>
        </p:nvSpPr>
        <p:spPr>
          <a:xfrm>
            <a:off x="4572000" y="608184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66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package" Target="../embeddings/oleObject1.pptx"/><Relationship Id="rId4" Type="http://schemas.openxmlformats.org/officeDocument/2006/relationships/image" Target="../media/image34.wmf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510920"/>
            <a:ext cx="7161120" cy="15159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Добро пожаловать!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90720" y="3657240"/>
            <a:ext cx="7161120" cy="438120"/>
          </a:xfrm>
          <a:prstGeom prst="rect">
            <a:avLst/>
          </a:prstGeom>
          <a:solidFill>
            <a:srgbClr val="eeeeee">
              <a:alpha val="50000"/>
            </a:srgbClr>
          </a:solidFill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епло из биомасс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Переталкивающая решетка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721200" cy="443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Тепло из биомассы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571500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ретортная топка для пелетца; загрузка с помощью шнека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14440" y="2209680"/>
            <a:ext cx="4876920" cy="473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90000"/>
              </a:lnSpc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древесного пелет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0" y="-8287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4724280"/>
            <a:ext cx="731520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720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летц подаётся с помощью загрузочного шнека снизу на неподвижный топочный ковш (реторта). Передняя или боковая загруз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90720" y="1538280"/>
            <a:ext cx="3325680" cy="28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485280"/>
            <a:ext cx="73911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R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топка с переталкивающей решеткой для пелетца; загрузка с помощью шнека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266720" y="1981080"/>
            <a:ext cx="4876920" cy="473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90000"/>
              </a:lnSpc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древесного пелет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0" y="-8287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4572000"/>
            <a:ext cx="731520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720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летц подаётся с помощью загрузочного шнека на камеру сгорания и распределяется с помощью передвижных элементов решетки по всей длине. Передняя или боковая загруз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33480" y="1492200"/>
            <a:ext cx="3386160" cy="307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выгрузка пелетца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62160" y="1899720"/>
            <a:ext cx="4267080" cy="2447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регулируемой компенсацией давления для длинных бункерных устрой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транспортировки и загрузки из бункерных устройств (для пелетц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-8287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965160" y="3200400"/>
            <a:ext cx="2844720" cy="16146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281916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выгрузка с помощью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ычага с изгибом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62520" y="1828800"/>
            <a:ext cx="4876560" cy="473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-8287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6140160" cy="34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выгрузка с помощью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клонного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шнека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62160" y="2057400"/>
            <a:ext cx="4190760" cy="21186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бункерных емкостей до 7 м Ø с доступом сни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гранулированного топлива до G100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ксимальная высота слоя засыпки* до 2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-8287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3110040" cy="17575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281916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выгрузка с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ризонтального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шнека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62160" y="1981080"/>
            <a:ext cx="4190760" cy="21186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бункерных емкостей до 10 м 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гранулированного топлива до G100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ксимальная высота слоя засыпки* до 30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0" y="-8287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3105360" cy="1754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281916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B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выгрузка с помощью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талкивающих балок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62160" y="2057400"/>
            <a:ext cx="4190760" cy="21186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крупного материала до G150* (макс. длина отдельных частей вне большинства 35 cм), полученного с помощью шредд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-8287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3809880"/>
            <a:ext cx="2847960" cy="16081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066680" y="1752480"/>
            <a:ext cx="281952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B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выгрузка с помощью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талкивающих балок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62160" y="2057400"/>
            <a:ext cx="4190760" cy="473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0" y="-8287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007400" cy="395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5-й летний опыт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04960" y="1523880"/>
            <a:ext cx="4800600" cy="27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 fontScale="59000"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438960" cy="41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886200" cy="32576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Котёл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19360" y="1511280"/>
            <a:ext cx="3886200" cy="2432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Камера сгорания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95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ностью облицована шамотными камнями и охлаждается с помощью водяной рубашки кот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9540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ешетки и реторта изготовлены из жаростойкого и окалиностойкого хром-чугунного материала, они продуваются первичным воздухом сниз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343400" y="4495680"/>
            <a:ext cx="388620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720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Зона турболентност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ƒ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5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то зона самая горячая в камере сгорания. Она обеспечивает полную оксидацию CO во CO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19720" y="3505320"/>
            <a:ext cx="3886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72000" anchor="t">
            <a:spAutoFit/>
          </a:bodyPr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Зона вращения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5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десь происходит оптимальное перемешивание сгорающих газ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4800600"/>
            <a:ext cx="320040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720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Зона релаксаци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„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5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десь успокаиваются газы сгорания. Большинство золы оседае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7779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Теплообменник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343400" y="2209680"/>
            <a:ext cx="4587840" cy="34419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64280" y="1752480"/>
            <a:ext cx="22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рен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гото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124080" y="1295280"/>
            <a:ext cx="2014560" cy="20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7779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Шамотирование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5717880" cy="42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7779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Управление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3170160" cy="42256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800600" y="1447920"/>
            <a:ext cx="3170160" cy="422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-152280" y="0"/>
          <a:ext cx="9144000" cy="685800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5228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762120" y="1523880"/>
            <a:ext cx="4746600" cy="386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7779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Моноциклон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429000" y="1371600"/>
            <a:ext cx="2178000" cy="45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7779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Мультициклон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3440160" cy="43848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495680" y="2133720"/>
            <a:ext cx="4070520" cy="30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Автоматическая система очистки теплообменнтка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18960" y="4648320"/>
            <a:ext cx="7086600" cy="1095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арциальный поток выхлопного газа вдувается с высокой скоростью и уносит частицы с соб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314960" cy="26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Визуализация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419360" y="2209680"/>
            <a:ext cx="4189320" cy="1535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ображет существующее состоя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ступ через сеть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3267000" cy="24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7779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Визуализация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6553080" y="304920"/>
          <a:ext cx="2371680" cy="69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304920"/>
                    <a:ext cx="237168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1600200" y="1447920"/>
            <a:ext cx="58230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7779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Визуализация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283440" cy="42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Сделано в Австрии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62160" y="1510920"/>
            <a:ext cx="4189320" cy="3987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 fontScale="99000"/>
          </a:bodyPr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двух площадках, которые совместно охватывают 11 га промышленной площади и 6.200 кв.м. производственных помещений, ежегодно выпускаются больше 200 установ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сное сотрудничество с вышими учебными заведениями, а также знание 100 квалифицированных сотрудников обеспечивает высокий технолигический уров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2819160" cy="161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Управление буфером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114800" y="1511280"/>
            <a:ext cx="4037040" cy="901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иковые нагруз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нимальные нагруз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133720" y="2590920"/>
            <a:ext cx="4336920" cy="28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7779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Коммунальна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установка, Гнас, Австрия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2879640" cy="43196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962520" y="2489040"/>
            <a:ext cx="4876560" cy="32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1120" cy="10112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 Narrow"/>
              </a:rPr>
              <a:t>Blizzard – 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горные лыжи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09480" y="3124080"/>
            <a:ext cx="3440160" cy="27432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432108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1120" cy="998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«Передвижные» установки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4216320" cy="33732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3954600" cy="316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«Райнбов», Канада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747040" cy="43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2193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«Фан дер Мейлен»,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Канада (5 мВт)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384960" cy="43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Доступный энергоноситель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62160" y="1511280"/>
            <a:ext cx="4189320" cy="25243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итуация в центральной Европ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асходы на топливо примерно 30-40 % ниже чем у соответствующих установок для дизел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2819160" cy="28162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990720" y="4572000"/>
            <a:ext cx="281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Цена за энергоноситель в центах (€)/кВт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66440" y="1752480"/>
            <a:ext cx="10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Дизель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700280" y="373392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32ff00"/>
                </a:solidFill>
                <a:latin typeface="Arial"/>
              </a:rPr>
              <a:t>Щепа (ель) W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Экологические преимущества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580920" y="1511280"/>
            <a:ext cx="4800600" cy="4353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ывая весь производственый процесс биомасса значительно уменьшает выбросы углекислого газа; они составляют только 1 % эмиссий сгораемых ископаем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омасса является востанавливающим носителем энергии, который растет фактически рядом. Она не знает кризисы, не требует длительную перевозку и не приводит к экологичекским катастроф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омасса обеспечивает рабочие места для местного населения, повышает покупательную способность Вашего региона и уменьшает ее зависимость от импо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омасса является носителем эенергии буд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2514600" cy="25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356680" cy="9144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Ключевые компоненты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41240"/>
            <a:ext cx="7161120" cy="2286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Топка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Система выгрузки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Котел </a:t>
            </a:r>
            <a:r>
              <a:rPr b="1" lang="de-DE" sz="3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теплообменник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Топлива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87480" y="3162240"/>
            <a:ext cx="920520" cy="647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78200" y="4103640"/>
            <a:ext cx="251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78200" y="2762280"/>
            <a:ext cx="25192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Древесные опилк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987480" y="2438280"/>
            <a:ext cx="920520" cy="64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987480" y="3887640"/>
            <a:ext cx="920520" cy="64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645080" y="2438280"/>
            <a:ext cx="920520" cy="64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4645080" y="3162240"/>
            <a:ext cx="920520" cy="647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4645080" y="3887640"/>
            <a:ext cx="920520" cy="64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973160" y="2438280"/>
            <a:ext cx="2519640" cy="324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Древесная пыль (от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шлифовального станка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73160" y="3162240"/>
            <a:ext cx="2519640" cy="324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Строгальная и фрезерная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струж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73160" y="3887640"/>
            <a:ext cx="2519640" cy="216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Древесная щеп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73160" y="4319640"/>
            <a:ext cx="2519640" cy="216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Технологическая щеп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0760" y="3162240"/>
            <a:ext cx="2519640" cy="324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Зерно (целые растения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лученны из сечки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0760" y="2438280"/>
            <a:ext cx="2519640" cy="324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Кор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0760" y="3887640"/>
            <a:ext cx="2519640" cy="648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Древесный пелет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595680" y="2438280"/>
            <a:ext cx="896760" cy="2098800"/>
            <a:chOff x="3595680" y="2438280"/>
            <a:chExt cx="896760" cy="2098800"/>
          </a:xfrm>
        </p:grpSpPr>
        <p:sp>
          <p:nvSpPr>
            <p:cNvPr id="110" name=""/>
            <p:cNvSpPr/>
            <p:nvPr/>
          </p:nvSpPr>
          <p:spPr>
            <a:xfrm>
              <a:off x="3595680" y="2438280"/>
              <a:ext cx="0" cy="2098800"/>
            </a:xfrm>
            <a:prstGeom prst="line">
              <a:avLst/>
            </a:prstGeom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19600" y="2438280"/>
              <a:ext cx="0" cy="2098800"/>
            </a:xfrm>
            <a:prstGeom prst="line">
              <a:avLst/>
            </a:prstGeom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43160" y="2438280"/>
              <a:ext cx="0" cy="2098800"/>
            </a:xfrm>
            <a:prstGeom prst="line">
              <a:avLst/>
            </a:prstGeom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67080" y="2438280"/>
              <a:ext cx="0" cy="2098800"/>
            </a:xfrm>
            <a:prstGeom prst="line">
              <a:avLst/>
            </a:prstGeom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92440" y="2438280"/>
              <a:ext cx="0" cy="2098800"/>
            </a:xfrm>
            <a:prstGeom prst="line">
              <a:avLst/>
            </a:prstGeom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253280" y="2440080"/>
            <a:ext cx="896760" cy="2098440"/>
            <a:chOff x="7253280" y="2440080"/>
            <a:chExt cx="896760" cy="2098440"/>
          </a:xfrm>
        </p:grpSpPr>
        <p:sp>
          <p:nvSpPr>
            <p:cNvPr id="116" name=""/>
            <p:cNvSpPr/>
            <p:nvPr/>
          </p:nvSpPr>
          <p:spPr>
            <a:xfrm>
              <a:off x="7253280" y="2440080"/>
              <a:ext cx="0" cy="2098440"/>
            </a:xfrm>
            <a:prstGeom prst="line">
              <a:avLst/>
            </a:prstGeom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77200" y="2440080"/>
              <a:ext cx="0" cy="2098440"/>
            </a:xfrm>
            <a:prstGeom prst="line">
              <a:avLst/>
            </a:prstGeom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700760" y="2440080"/>
              <a:ext cx="0" cy="2098440"/>
            </a:xfrm>
            <a:prstGeom prst="line">
              <a:avLst/>
            </a:prstGeom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24680" y="2440080"/>
              <a:ext cx="0" cy="2098440"/>
            </a:xfrm>
            <a:prstGeom prst="line">
              <a:avLst/>
            </a:prstGeom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150040" y="2440080"/>
              <a:ext cx="0" cy="2098440"/>
            </a:xfrm>
            <a:prstGeom prst="line">
              <a:avLst/>
            </a:prstGeom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7540560" y="2544840"/>
            <a:ext cx="111240" cy="110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35800" y="3486240"/>
            <a:ext cx="25192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5800" y="2762280"/>
            <a:ext cx="25192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78200" y="3486240"/>
            <a:ext cx="25192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ДСП, ДВП и плиты МД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78200" y="4103640"/>
            <a:ext cx="251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Щепа из кустарнико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5800" y="2762280"/>
            <a:ext cx="25192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Древесина, полученная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от шреддер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35800" y="3486240"/>
            <a:ext cx="25192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жимки, отходы производства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фруктового сока и т.д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3816000" y="1744920"/>
            <a:ext cx="436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B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R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R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7471800" y="1743120"/>
            <a:ext cx="4366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R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R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54360" y="2544840"/>
            <a:ext cx="111240" cy="110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82960" y="2868480"/>
            <a:ext cx="111240" cy="111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11560" y="2868480"/>
            <a:ext cx="111240" cy="111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2960" y="3268800"/>
            <a:ext cx="111240" cy="110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11560" y="3268800"/>
            <a:ext cx="111240" cy="110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2960" y="3592440"/>
            <a:ext cx="111240" cy="111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1560" y="3592440"/>
            <a:ext cx="111240" cy="111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2960" y="3940200"/>
            <a:ext cx="111240" cy="111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11560" y="3940200"/>
            <a:ext cx="111240" cy="111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1560" y="4156200"/>
            <a:ext cx="111240" cy="110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0160" y="4156200"/>
            <a:ext cx="111240" cy="110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1560" y="4371840"/>
            <a:ext cx="111240" cy="111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0160" y="4371840"/>
            <a:ext cx="111240" cy="111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0560" y="2868480"/>
            <a:ext cx="111240" cy="111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1960" y="3268800"/>
            <a:ext cx="111240" cy="110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11960" y="3592440"/>
            <a:ext cx="111240" cy="111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69160" y="4156200"/>
            <a:ext cx="111240" cy="110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997760" y="4156200"/>
            <a:ext cx="111240" cy="110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B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топка с вдуванием топлива; загрузка с помощью шнека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343400" y="1676160"/>
            <a:ext cx="4113360" cy="1607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пылеобразного топли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 15% (макс.) вла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ля золы ≤ 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-8287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286080" cy="2465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990720" y="4343400"/>
            <a:ext cx="716256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720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лифовальная пыль выгружается в зависимости от мощности из дозирующего бункера и турбулизируется с помощью высоконапорного вентилятора и форсунки в камере сгора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R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ретортно-колосниковая топка; загрузка с помощью шнека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343400" y="1600200"/>
            <a:ext cx="4113360" cy="233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топлива с низким содержанием зол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 35% (макс.) вла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ля золы ≤ 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гранулированного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материала до G100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-8287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3336840" cy="26416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14400" y="4572000"/>
            <a:ext cx="716292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720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пливо подаётся с помощью загрузочного шнека снизу на неподвижный топочный ковш (реторта). Передняя или боковая загруз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R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топка с переталкивающей решеткой; загрузка с помощью шнека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19360" y="1523520"/>
            <a:ext cx="4113000" cy="233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Для влажного топлива с высокой долей зол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до 55% (макс.) вла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Доля золы &gt; 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для гранулированного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 материала до G100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-8287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4419720"/>
            <a:ext cx="73152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720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пливо подаётся с помощью шнеков с большими диаметрами спереди в камеру сгорания и распределяется с помощью передвижных элементов переталкивающей решетки по всей длин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3462480" cy="27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SRF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топка с переталкивающей решеткой и гидравлической загрузкой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419720" y="1752480"/>
            <a:ext cx="4876560" cy="21186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влажного топлива с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сокой долей зол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 55% (макс.) вла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держание золы &gt; 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крупного материала до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G150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0" y="-8287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4495680"/>
            <a:ext cx="73152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720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пливо подаётся с помощью шнеков с большими диаметрами спереди в камеру сгорания и распределяется с помощью передвижных элементов переталкивающей решетки по всей длин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3332160" cy="2786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06:53:58Z</dcterms:created>
  <dc:creator>hschoenmaier</dc:creator>
  <dc:description/>
  <dc:language>en-US</dc:language>
  <cp:lastModifiedBy>SN</cp:lastModifiedBy>
  <dcterms:modified xsi:type="dcterms:W3CDTF">2005-02-12T17:50:59Z</dcterms:modified>
  <cp:revision>19</cp:revision>
  <dc:subject/>
  <dc:title>Тепло из биомассы </dc:title>
</cp:coreProperties>
</file>