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2.png" ContentType="image/png"/>
  <Override PartName="/ppt/media/image11.wmf" ContentType="image/x-wmf"/>
  <Override PartName="/ppt/media/image17.wmf" ContentType="image/x-wmf"/>
  <Override PartName="/ppt/media/image15.jpeg" ContentType="image/jpeg"/>
  <Override PartName="/ppt/media/image16.jpeg" ContentType="image/jpeg"/>
  <Override PartName="/ppt/media/image14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667500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EB75-6F22-4E53-B8A4-DDA1F7E42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460400" y="1196640"/>
            <a:ext cx="43434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462560" y="1844280"/>
            <a:ext cx="40384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62560" y="3635640"/>
            <a:ext cx="40384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0EFB-6CB0-4AFC-8384-8A77F7A5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460400" y="1196640"/>
            <a:ext cx="43434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462560" y="1844280"/>
            <a:ext cx="197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32200" y="1844280"/>
            <a:ext cx="197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62560" y="3635640"/>
            <a:ext cx="197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32200" y="3635640"/>
            <a:ext cx="197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AAC5-E569-4C12-8497-780FDD613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460400" y="1196640"/>
            <a:ext cx="43434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462560" y="1844280"/>
            <a:ext cx="13003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828400" y="1844280"/>
            <a:ext cx="13003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193880" y="1844280"/>
            <a:ext cx="13003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462560" y="3635640"/>
            <a:ext cx="13003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828400" y="3635640"/>
            <a:ext cx="13003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193880" y="3635640"/>
            <a:ext cx="13003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4530-AF98-4736-A734-22A6C859A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60400" y="1196640"/>
            <a:ext cx="43434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462560" y="184428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12BD-FF12-475C-A89F-EB8A90C2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60400" y="1196640"/>
            <a:ext cx="43434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62560" y="184428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BD07-20DA-40C9-855C-A7B0EE11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60400" y="1196640"/>
            <a:ext cx="43434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462560" y="1844280"/>
            <a:ext cx="19706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532200" y="1844280"/>
            <a:ext cx="19706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AF50-899C-4664-8D28-7D0D41D1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60400" y="1196640"/>
            <a:ext cx="43434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D592-D2DF-477F-A86D-46D18879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460400" y="1196640"/>
            <a:ext cx="4343400" cy="19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D068-1F41-43FD-B6DE-9879DF80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460400" y="1196640"/>
            <a:ext cx="43434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462560" y="1844280"/>
            <a:ext cx="197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532200" y="1844280"/>
            <a:ext cx="19706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462560" y="3635640"/>
            <a:ext cx="197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0292-189D-46DC-8013-7A4A3EC0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460400" y="1196640"/>
            <a:ext cx="43434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462560" y="1844280"/>
            <a:ext cx="19706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532200" y="1844280"/>
            <a:ext cx="197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532200" y="3635640"/>
            <a:ext cx="197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4E98-1EE4-4FF2-9DC0-914F49E0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460400" y="1196640"/>
            <a:ext cx="43434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462560" y="1844280"/>
            <a:ext cx="197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532200" y="1844280"/>
            <a:ext cx="197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462560" y="3635640"/>
            <a:ext cx="40384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154E-9819-482C-B6B9-0B2DB231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460400" y="1196640"/>
            <a:ext cx="43434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62560" y="184428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249"/>
              </a:spcBef>
              <a:spcAft>
                <a:spcPts val="249"/>
              </a:spcAft>
              <a:buClr>
                <a:srgbClr val="0066a1"/>
              </a:buClr>
              <a:buSzPct val="120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556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556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1295-73BC-4475-98E4-C2D3BAF78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40" y="0"/>
            <a:ext cx="9140760" cy="792000"/>
          </a:xfrm>
          <a:prstGeom prst="rect">
            <a:avLst/>
          </a:prstGeom>
          <a:solidFill>
            <a:srgbClr val="0096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75614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Wärtsilä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ключевые показател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84360" y="1052640"/>
            <a:ext cx="5781240" cy="2088720"/>
            <a:chOff x="684360" y="1052640"/>
            <a:chExt cx="5781240" cy="2088720"/>
          </a:xfrm>
        </p:grpSpPr>
        <p:sp>
          <p:nvSpPr>
            <p:cNvPr id="45" name=""/>
            <p:cNvSpPr/>
            <p:nvPr/>
          </p:nvSpPr>
          <p:spPr>
            <a:xfrm>
              <a:off x="684360" y="1052640"/>
              <a:ext cx="5781240" cy="20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3200" bIns="432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r" pos="4098960"/>
                  <a:tab algn="r" pos="50515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r" pos="4098960"/>
                  <a:tab algn="r" pos="50515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оказатели</a:t>
              </a:r>
              <a:r>
                <a:rPr b="0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r>
                <a:rPr b="1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r" pos="4098960"/>
                  <a:tab algn="r" pos="50515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r" pos="4098960"/>
                  <a:tab algn="r" pos="50515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Чистые продажи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i-FI" sz="20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sz="2000" spc="-1" strike="noStrike">
                  <a:solidFill>
                    <a:srgbClr val="0089ba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89ba"/>
                  </a:solidFill>
                  <a:latin typeface="Arial"/>
                </a:rPr>
                <a:t>.357,5</a:t>
              </a:r>
              <a:r>
                <a:rPr b="1" lang="ru-RU" sz="2000" spc="-1" strike="noStrike">
                  <a:solidFill>
                    <a:srgbClr val="0089ba"/>
                  </a:solidFill>
                  <a:latin typeface="Arial"/>
                </a:rPr>
                <a:t> млн. евро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r" pos="4098960"/>
                  <a:tab algn="r" pos="50515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r" pos="4098960"/>
                  <a:tab algn="r" pos="50515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ерсонал на конец года     </a:t>
              </a:r>
              <a:r>
                <a:rPr b="1" sz="2000" spc="-1" strike="noStrike">
                  <a:solidFill>
                    <a:srgbClr val="0089ba"/>
                  </a:solidFill>
                  <a:latin typeface="Arial"/>
                </a:rPr>
                <a:t>12</a:t>
              </a:r>
              <a:r>
                <a:rPr b="1" lang="ru-RU" sz="2000" spc="-1" strike="noStrike">
                  <a:solidFill>
                    <a:srgbClr val="0089ba"/>
                  </a:solidFill>
                  <a:latin typeface="Arial"/>
                </a:rPr>
                <a:t>.</a:t>
              </a:r>
              <a:r>
                <a:rPr b="1" lang="en-US" sz="2000" spc="-1" strike="noStrike">
                  <a:solidFill>
                    <a:srgbClr val="0089ba"/>
                  </a:solidFill>
                  <a:latin typeface="Arial"/>
                </a:rPr>
                <a:t>110</a:t>
              </a:r>
              <a:r>
                <a:rPr b="1" lang="ru-RU" sz="2000" spc="-1" strike="noStrike">
                  <a:solidFill>
                    <a:srgbClr val="0089ba"/>
                  </a:solidFill>
                  <a:latin typeface="Arial"/>
                </a:rPr>
                <a:t> человек</a:t>
              </a:r>
              <a:r>
                <a:rPr b="1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17840" y="1390320"/>
              <a:ext cx="515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389960" y="3497040"/>
            <a:ext cx="6267960" cy="2464560"/>
            <a:chOff x="1389960" y="3497040"/>
            <a:chExt cx="6267960" cy="2464560"/>
          </a:xfrm>
        </p:grpSpPr>
        <p:sp>
          <p:nvSpPr>
            <p:cNvPr id="48" name=""/>
            <p:cNvSpPr/>
            <p:nvPr/>
          </p:nvSpPr>
          <p:spPr>
            <a:xfrm>
              <a:off x="1389960" y="3497040"/>
              <a:ext cx="2278440" cy="1239840"/>
            </a:xfrm>
            <a:custGeom>
              <a:avLst/>
              <a:gdLst/>
              <a:ahLst/>
              <a:rect l="l" t="t" r="r" b="b"/>
              <a:pathLst>
                <a:path w="138" h="90">
                  <a:moveTo>
                    <a:pt x="138" y="13"/>
                  </a:moveTo>
                  <a:cubicBezTo>
                    <a:pt x="123" y="4"/>
                    <a:pt x="107" y="0"/>
                    <a:pt x="90" y="0"/>
                  </a:cubicBezTo>
                  <a:cubicBezTo>
                    <a:pt x="40" y="0"/>
                    <a:pt x="0" y="40"/>
                    <a:pt x="0" y="90"/>
                  </a:cubicBezTo>
                  <a:lnTo>
                    <a:pt x="90" y="90"/>
                  </a:lnTo>
                  <a:lnTo>
                    <a:pt x="138" y="13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76040" y="3677040"/>
              <a:ext cx="1482840" cy="1996200"/>
            </a:xfrm>
            <a:custGeom>
              <a:avLst/>
              <a:gdLst/>
              <a:ahLst/>
              <a:rect l="l" t="t" r="r" b="b"/>
              <a:pathLst>
                <a:path w="90" h="145">
                  <a:moveTo>
                    <a:pt x="57" y="145"/>
                  </a:moveTo>
                  <a:cubicBezTo>
                    <a:pt x="78" y="128"/>
                    <a:pt x="90" y="103"/>
                    <a:pt x="90" y="77"/>
                  </a:cubicBezTo>
                  <a:cubicBezTo>
                    <a:pt x="90" y="46"/>
                    <a:pt x="74" y="17"/>
                    <a:pt x="48" y="0"/>
                  </a:cubicBezTo>
                  <a:lnTo>
                    <a:pt x="0" y="77"/>
                  </a:lnTo>
                  <a:lnTo>
                    <a:pt x="57" y="145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672560" y="4737240"/>
              <a:ext cx="2144880" cy="1224360"/>
            </a:xfrm>
            <a:custGeom>
              <a:avLst/>
              <a:gdLst/>
              <a:ahLst/>
              <a:rect l="l" t="t" r="r" b="b"/>
              <a:pathLst>
                <a:path w="130" h="89">
                  <a:moveTo>
                    <a:pt x="0" y="52"/>
                  </a:moveTo>
                  <a:cubicBezTo>
                    <a:pt x="17" y="76"/>
                    <a:pt x="44" y="89"/>
                    <a:pt x="73" y="89"/>
                  </a:cubicBezTo>
                  <a:cubicBezTo>
                    <a:pt x="94" y="89"/>
                    <a:pt x="114" y="82"/>
                    <a:pt x="130" y="68"/>
                  </a:cubicBezTo>
                  <a:lnTo>
                    <a:pt x="73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389960" y="4737240"/>
              <a:ext cx="1485720" cy="713880"/>
            </a:xfrm>
            <a:custGeom>
              <a:avLst/>
              <a:gdLst/>
              <a:ahLst/>
              <a:rect l="l" t="t" r="r" b="b"/>
              <a:pathLst>
                <a:path w="90" h="52">
                  <a:moveTo>
                    <a:pt x="0" y="11"/>
                  </a:moveTo>
                  <a:cubicBezTo>
                    <a:pt x="2" y="26"/>
                    <a:pt x="8" y="40"/>
                    <a:pt x="17" y="52"/>
                  </a:cubicBezTo>
                  <a:lnTo>
                    <a:pt x="9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89960" y="4737240"/>
              <a:ext cx="1485720" cy="150840"/>
            </a:xfrm>
            <a:custGeom>
              <a:avLst/>
              <a:gdLst/>
              <a:ahLst/>
              <a:rect l="l" t="t" r="r" b="b"/>
              <a:pathLst>
                <a:path w="90" h="11">
                  <a:moveTo>
                    <a:pt x="0" y="0"/>
                  </a:moveTo>
                  <a:cubicBezTo>
                    <a:pt x="0" y="3"/>
                    <a:pt x="0" y="7"/>
                    <a:pt x="0" y="11"/>
                  </a:cubicBezTo>
                  <a:lnTo>
                    <a:pt x="9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90720" y="3719520"/>
              <a:ext cx="215280" cy="1767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885560" y="3634560"/>
              <a:ext cx="1517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ерви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38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90720" y="4158720"/>
              <a:ext cx="215280" cy="1792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85560" y="4076280"/>
              <a:ext cx="2500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Морской отдел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29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90720" y="4599720"/>
              <a:ext cx="215280" cy="1767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88800" y="4515480"/>
              <a:ext cx="27691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Электростанции</a:t>
              </a:r>
              <a:r>
                <a:rPr b="1" lang="fi-FI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5%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590720" y="5051880"/>
              <a:ext cx="215280" cy="179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885200" y="4969800"/>
              <a:ext cx="187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matra Steel 8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90720" y="5493960"/>
              <a:ext cx="215280" cy="179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887000" y="5411880"/>
              <a:ext cx="1384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io Power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7380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а обращения с топливом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ioG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64000" y="2819520"/>
            <a:ext cx="3600720" cy="24811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81160" y="907920"/>
            <a:ext cx="5205240" cy="41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760" bIns="50760" anchor="t">
            <a:noAutofit/>
          </a:bodyPr>
          <a:p>
            <a:pPr marL="371520" indent="-37152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колько проталкивающих направляющих располагаются на полу активного склада и перемещают топливо небольшими порциями в направлении к скребковому конвейер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пливный скребковый конвейер осуществляет транспортировку топлива из области склада в котельное помещ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выходе со скребкового конвейера топливо попадает на небольшой ленточный конвейе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ем топливо падает в бункер горизонтального подающего шне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нек осуществляет подачу топлива на решетки, выдавливая его из центра топ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5300640"/>
            <a:ext cx="7596360" cy="10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760" bIns="5076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Продуманно спроектированная система подачи топлива – одно из главных составляющих бесперебойной работы установки</a:t>
            </a:r>
            <a:r>
              <a:rPr b="1" i="1" lang="en-GB" sz="20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364000" y="907920"/>
          <a:ext cx="3600720" cy="1633680"/>
        </p:xfrm>
        <a:graphic>
          <a:graphicData uri="http://schemas.openxmlformats.org/drawingml/2006/table">
            <a:tbl>
              <a:tblPr/>
              <a:tblGrid>
                <a:gridCol w="1414800"/>
                <a:gridCol w="1158840"/>
                <a:gridCol w="1027080"/>
              </a:tblGrid>
              <a:tr h="276480">
                <a:tc gridSpan="3">
                  <a:txBody>
                    <a:bodyPr lIns="36000" rIns="36000" tIns="18000" bIns="18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клад подачи топлива / Разме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120">
                <a:tc>
                  <a:txBody>
                    <a:bodyPr lIns="36000" rIns="36000" tIns="18000" bIns="18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Ширина C 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ина D 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6120">
                <a:tc>
                  <a:txBody>
                    <a:bodyPr lIns="36000" rIns="36000" tIns="18000" bIns="18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направляющ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>
                  <a:txBody>
                    <a:bodyPr lIns="36000" rIns="36000" tIns="18000" bIns="18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 направляющ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6480">
                <a:tc>
                  <a:txBody>
                    <a:bodyPr lIns="36000" rIns="36000" tIns="18000" bIns="18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направляющ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120">
                <a:tc>
                  <a:txBody>
                    <a:bodyPr lIns="36000" rIns="36000" tIns="18000" bIns="18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направляющ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5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ИМУЩЕСТВА ТЕХНОЛОГИ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OGRAT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3760" y="1413000"/>
            <a:ext cx="830916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1520" indent="-371520">
              <a:spcBef>
                <a:spcPts val="249"/>
              </a:spcBef>
              <a:spcAft>
                <a:spcPts val="249"/>
              </a:spcAft>
              <a:buClr>
                <a:srgbClr val="0066a1"/>
              </a:buClr>
              <a:buSzPct val="120000"/>
              <a:buFont typeface="Wingdings" charset="2"/>
              <a:buChar char="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требуется дополнительных видов топлива для розжига и подсветки, используется только топливо на основе древес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249"/>
              </a:spcBef>
              <a:spcAft>
                <a:spcPts val="249"/>
              </a:spcAft>
              <a:buClr>
                <a:srgbClr val="0066a1"/>
              </a:buClr>
              <a:buSzPct val="120000"/>
              <a:buFont typeface="Wingdings" charset="2"/>
              <a:buChar char="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требуется предварительная обработка топли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249"/>
              </a:spcBef>
              <a:spcAft>
                <a:spcPts val="249"/>
              </a:spcAft>
              <a:buClr>
                <a:srgbClr val="0066a1"/>
              </a:buClr>
              <a:buSzPct val="120000"/>
              <a:buFont typeface="Wingdings" charset="2"/>
              <a:buChar char="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ажность топлива до 65% без изменения мощности и КПД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249"/>
              </a:spcBef>
              <a:spcAft>
                <a:spcPts val="249"/>
              </a:spcAft>
              <a:buClr>
                <a:srgbClr val="0066a1"/>
              </a:buClr>
              <a:buSzPct val="120000"/>
              <a:buFont typeface="Wingdings" charset="2"/>
              <a:buChar char="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пускается широкий разброс по размеру фракций, средний размер до 100мм,  отдельные частицы до 300м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249"/>
              </a:spcBef>
              <a:spcAft>
                <a:spcPts val="249"/>
              </a:spcAft>
              <a:buClr>
                <a:srgbClr val="0066a1"/>
              </a:buClr>
              <a:buSzPct val="120000"/>
              <a:buFont typeface="Wingdings" charset="2"/>
              <a:buChar char="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плотворная способность топлива 5,5&l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10…15МДж/к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3640" y="907920"/>
            <a:ext cx="18525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derne"/>
              </a:rPr>
              <a:t>Топли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8000" y="404280"/>
            <a:ext cx="7056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 ТЕХНОЛОГИ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GRATE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501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66a1"/>
              </a:buClr>
              <a:buSzPct val="120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лакообразование только в горячей зоне, ведет к небольшому снижению мощности, без аварийного останова, на устранение требуется около 30ми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66a1"/>
              </a:buClr>
              <a:buSzPct val="120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ичный воздух: пропорция 40…60%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требляемая мощность 0,6 кВтэ/МВт топл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66a1"/>
              </a:buClr>
              <a:buSzPct val="120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т необходимости в подогреве воздуха для го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66a1"/>
              </a:buClr>
              <a:buSzPct val="120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тучая зола в дымовых газах 1,5…2,5г/м3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66a1"/>
              </a:buClr>
              <a:buSzPct val="120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установки «Вяртсиля» работают без постоянного присутствия обслуживающего персон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66a1"/>
              </a:buClr>
              <a:buSzPct val="120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новая остановка для сервисного обслуживания – один раз в год, низкие эксплуатационные расходы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755964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ход топлива м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3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63720" y="2781360"/>
            <a:ext cx="181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05360" y="299736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25221e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51080" y="5229360"/>
            <a:ext cx="2290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280360" cy="47530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63640" y="1403280"/>
            <a:ext cx="7524720" cy="38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ход топлива, насыпные м3/год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 средней влажности топлива 5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ни-ТЭЦ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Котельные          Расход топли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3/г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-3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2.000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-5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-8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15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Р-2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-10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4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-12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77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-15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25.000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Р-5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-17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53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08000" y="115560"/>
            <a:ext cx="7128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оэнергоустановк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ärtsil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424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1520" indent="-371520">
              <a:spcBef>
                <a:spcPts val="201"/>
              </a:spcBef>
              <a:spcAft>
                <a:spcPts val="201"/>
              </a:spcAft>
              <a:buClr>
                <a:srgbClr val="0066a1"/>
              </a:buClr>
              <a:buSzPct val="120000"/>
              <a:buFont typeface="Wingdings" charset="2"/>
              <a:buChar char="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ектирование, изготовление, строительство, техническое и сервисное обслуживание осуществляет один и тот же поставщик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азвитая сеть сервисных центров по всему мир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201"/>
              </a:spcBef>
              <a:spcAft>
                <a:spcPts val="201"/>
              </a:spcAft>
              <a:buClr>
                <a:srgbClr val="0066a1"/>
              </a:buClr>
              <a:buSzPct val="120000"/>
              <a:buFont typeface="Wingdings" charset="2"/>
              <a:buChar char="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дежная, испытанная технология 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BioGrate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результат многолетних исследований в области сжигания твердого биотопли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201"/>
              </a:spcBef>
              <a:spcAft>
                <a:spcPts val="201"/>
              </a:spcAft>
              <a:buClr>
                <a:srgbClr val="0066a1"/>
              </a:buClr>
              <a:buSzPct val="120000"/>
              <a:buFont typeface="Wingdings" charset="2"/>
              <a:buChar char="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никальная, запатентованная технология сжигания топлива, обеспечивающая эффективность сжигания даже очень влажного топлива с минимальным уровнем вредных выбро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201"/>
              </a:spcBef>
              <a:spcAft>
                <a:spcPts val="201"/>
              </a:spcAft>
              <a:buClr>
                <a:srgbClr val="0066a1"/>
              </a:buClr>
              <a:buSzPct val="120000"/>
              <a:buFont typeface="Wingdings" charset="2"/>
              <a:buChar char="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ая степень автоматизации и современные системы управления обеспечивают работу установки без присутствия обслуживающего персона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19280" y="0"/>
            <a:ext cx="7524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цепция поставок 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Wartsil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ioP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907920"/>
            <a:ext cx="5556240" cy="31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760" bIns="50760" anchor="t">
            <a:noAutofit/>
          </a:bodyPr>
          <a:p>
            <a:pPr marL="371520" indent="-3715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окая степень заводского изготов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окая скорость поставки и сборки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бильность моду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рианты поставки от заказа узлов установки до сдачи объекта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«под ключ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оставление услуг от финансирования проекта до заключения соглашений на долгосрочное техническое обслужи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724360" y="1052640"/>
            <a:ext cx="318312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тавки установок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ioPowe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ioEnergy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58920" y="981000"/>
            <a:ext cx="7273800" cy="15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е кол-во проектов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78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е кол-во проданных установок: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8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ая проданная электрическая мощность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 МВт э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ая проданная тепловая мощность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7 МВт теплл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79640" y="2914560"/>
            <a:ext cx="727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8360" y="3213000"/>
            <a:ext cx="4103640" cy="3095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688000" y="3274920"/>
            <a:ext cx="730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435640" y="3213000"/>
            <a:ext cx="284796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2673360" y="2286000"/>
            <a:ext cx="4979880" cy="2354040"/>
            <a:chOff x="2673360" y="2286000"/>
            <a:chExt cx="4979880" cy="2354040"/>
          </a:xfrm>
        </p:grpSpPr>
        <p:sp>
          <p:nvSpPr>
            <p:cNvPr id="149" name=""/>
            <p:cNvSpPr/>
            <p:nvPr/>
          </p:nvSpPr>
          <p:spPr>
            <a:xfrm>
              <a:off x="2673360" y="2286000"/>
              <a:ext cx="4979880" cy="2354040"/>
            </a:xfrm>
            <a:custGeom>
              <a:avLst/>
              <a:gdLst/>
              <a:ahLst/>
              <a:rect l="l" t="t" r="r" b="b"/>
              <a:pathLst>
                <a:path w="3399" h="1483">
                  <a:moveTo>
                    <a:pt x="0" y="920"/>
                  </a:moveTo>
                  <a:lnTo>
                    <a:pt x="29" y="893"/>
                  </a:lnTo>
                  <a:lnTo>
                    <a:pt x="21" y="903"/>
                  </a:lnTo>
                  <a:lnTo>
                    <a:pt x="31" y="907"/>
                  </a:lnTo>
                  <a:lnTo>
                    <a:pt x="29" y="846"/>
                  </a:lnTo>
                  <a:lnTo>
                    <a:pt x="40" y="818"/>
                  </a:lnTo>
                  <a:lnTo>
                    <a:pt x="59" y="814"/>
                  </a:lnTo>
                  <a:lnTo>
                    <a:pt x="90" y="840"/>
                  </a:lnTo>
                  <a:lnTo>
                    <a:pt x="98" y="790"/>
                  </a:lnTo>
                  <a:lnTo>
                    <a:pt x="82" y="792"/>
                  </a:lnTo>
                  <a:lnTo>
                    <a:pt x="78" y="761"/>
                  </a:lnTo>
                  <a:lnTo>
                    <a:pt x="211" y="736"/>
                  </a:lnTo>
                  <a:lnTo>
                    <a:pt x="179" y="722"/>
                  </a:lnTo>
                  <a:lnTo>
                    <a:pt x="181" y="708"/>
                  </a:lnTo>
                  <a:lnTo>
                    <a:pt x="160" y="714"/>
                  </a:lnTo>
                  <a:lnTo>
                    <a:pt x="236" y="638"/>
                  </a:lnTo>
                  <a:lnTo>
                    <a:pt x="202" y="558"/>
                  </a:lnTo>
                  <a:lnTo>
                    <a:pt x="210" y="521"/>
                  </a:lnTo>
                  <a:lnTo>
                    <a:pt x="192" y="477"/>
                  </a:lnTo>
                  <a:lnTo>
                    <a:pt x="207" y="449"/>
                  </a:lnTo>
                  <a:lnTo>
                    <a:pt x="179" y="418"/>
                  </a:lnTo>
                  <a:lnTo>
                    <a:pt x="189" y="392"/>
                  </a:lnTo>
                  <a:lnTo>
                    <a:pt x="224" y="361"/>
                  </a:lnTo>
                  <a:lnTo>
                    <a:pt x="245" y="355"/>
                  </a:lnTo>
                  <a:lnTo>
                    <a:pt x="269" y="364"/>
                  </a:lnTo>
                  <a:lnTo>
                    <a:pt x="248" y="372"/>
                  </a:lnTo>
                  <a:lnTo>
                    <a:pt x="266" y="383"/>
                  </a:lnTo>
                  <a:lnTo>
                    <a:pt x="323" y="386"/>
                  </a:lnTo>
                  <a:lnTo>
                    <a:pt x="426" y="449"/>
                  </a:lnTo>
                  <a:lnTo>
                    <a:pt x="430" y="483"/>
                  </a:lnTo>
                  <a:lnTo>
                    <a:pt x="385" y="511"/>
                  </a:lnTo>
                  <a:lnTo>
                    <a:pt x="248" y="473"/>
                  </a:lnTo>
                  <a:lnTo>
                    <a:pt x="304" y="519"/>
                  </a:lnTo>
                  <a:lnTo>
                    <a:pt x="301" y="573"/>
                  </a:lnTo>
                  <a:lnTo>
                    <a:pt x="360" y="598"/>
                  </a:lnTo>
                  <a:lnTo>
                    <a:pt x="373" y="595"/>
                  </a:lnTo>
                  <a:lnTo>
                    <a:pt x="365" y="573"/>
                  </a:lnTo>
                  <a:lnTo>
                    <a:pt x="342" y="563"/>
                  </a:lnTo>
                  <a:lnTo>
                    <a:pt x="346" y="545"/>
                  </a:lnTo>
                  <a:lnTo>
                    <a:pt x="370" y="567"/>
                  </a:lnTo>
                  <a:lnTo>
                    <a:pt x="426" y="573"/>
                  </a:lnTo>
                  <a:lnTo>
                    <a:pt x="403" y="528"/>
                  </a:lnTo>
                  <a:lnTo>
                    <a:pt x="452" y="493"/>
                  </a:lnTo>
                  <a:lnTo>
                    <a:pt x="490" y="519"/>
                  </a:lnTo>
                  <a:lnTo>
                    <a:pt x="490" y="420"/>
                  </a:lnTo>
                  <a:lnTo>
                    <a:pt x="472" y="406"/>
                  </a:lnTo>
                  <a:lnTo>
                    <a:pt x="535" y="428"/>
                  </a:lnTo>
                  <a:lnTo>
                    <a:pt x="540" y="442"/>
                  </a:lnTo>
                  <a:lnTo>
                    <a:pt x="507" y="457"/>
                  </a:lnTo>
                  <a:lnTo>
                    <a:pt x="540" y="488"/>
                  </a:lnTo>
                  <a:lnTo>
                    <a:pt x="567" y="449"/>
                  </a:lnTo>
                  <a:lnTo>
                    <a:pt x="682" y="397"/>
                  </a:lnTo>
                  <a:lnTo>
                    <a:pt x="699" y="395"/>
                  </a:lnTo>
                  <a:lnTo>
                    <a:pt x="682" y="401"/>
                  </a:lnTo>
                  <a:lnTo>
                    <a:pt x="700" y="428"/>
                  </a:lnTo>
                  <a:lnTo>
                    <a:pt x="785" y="395"/>
                  </a:lnTo>
                  <a:lnTo>
                    <a:pt x="801" y="420"/>
                  </a:lnTo>
                  <a:lnTo>
                    <a:pt x="823" y="398"/>
                  </a:lnTo>
                  <a:lnTo>
                    <a:pt x="812" y="369"/>
                  </a:lnTo>
                  <a:lnTo>
                    <a:pt x="823" y="360"/>
                  </a:lnTo>
                  <a:lnTo>
                    <a:pt x="888" y="372"/>
                  </a:lnTo>
                  <a:lnTo>
                    <a:pt x="970" y="426"/>
                  </a:lnTo>
                  <a:lnTo>
                    <a:pt x="987" y="400"/>
                  </a:lnTo>
                  <a:lnTo>
                    <a:pt x="967" y="372"/>
                  </a:lnTo>
                  <a:lnTo>
                    <a:pt x="943" y="367"/>
                  </a:lnTo>
                  <a:lnTo>
                    <a:pt x="954" y="322"/>
                  </a:lnTo>
                  <a:lnTo>
                    <a:pt x="935" y="318"/>
                  </a:lnTo>
                  <a:lnTo>
                    <a:pt x="941" y="298"/>
                  </a:lnTo>
                  <a:lnTo>
                    <a:pt x="973" y="276"/>
                  </a:lnTo>
                  <a:lnTo>
                    <a:pt x="991" y="225"/>
                  </a:lnTo>
                  <a:lnTo>
                    <a:pt x="1037" y="226"/>
                  </a:lnTo>
                  <a:lnTo>
                    <a:pt x="1057" y="234"/>
                  </a:lnTo>
                  <a:lnTo>
                    <a:pt x="1040" y="288"/>
                  </a:lnTo>
                  <a:lnTo>
                    <a:pt x="1060" y="316"/>
                  </a:lnTo>
                  <a:lnTo>
                    <a:pt x="1052" y="392"/>
                  </a:lnTo>
                  <a:lnTo>
                    <a:pt x="1073" y="417"/>
                  </a:lnTo>
                  <a:lnTo>
                    <a:pt x="1065" y="446"/>
                  </a:lnTo>
                  <a:lnTo>
                    <a:pt x="1031" y="466"/>
                  </a:lnTo>
                  <a:lnTo>
                    <a:pt x="1043" y="476"/>
                  </a:lnTo>
                  <a:lnTo>
                    <a:pt x="1000" y="487"/>
                  </a:lnTo>
                  <a:lnTo>
                    <a:pt x="1046" y="505"/>
                  </a:lnTo>
                  <a:lnTo>
                    <a:pt x="1098" y="446"/>
                  </a:lnTo>
                  <a:lnTo>
                    <a:pt x="1091" y="406"/>
                  </a:lnTo>
                  <a:lnTo>
                    <a:pt x="1110" y="400"/>
                  </a:lnTo>
                  <a:lnTo>
                    <a:pt x="1134" y="395"/>
                  </a:lnTo>
                  <a:lnTo>
                    <a:pt x="1151" y="415"/>
                  </a:lnTo>
                  <a:lnTo>
                    <a:pt x="1147" y="445"/>
                  </a:lnTo>
                  <a:lnTo>
                    <a:pt x="1183" y="451"/>
                  </a:lnTo>
                  <a:lnTo>
                    <a:pt x="1155" y="443"/>
                  </a:lnTo>
                  <a:lnTo>
                    <a:pt x="1167" y="425"/>
                  </a:lnTo>
                  <a:lnTo>
                    <a:pt x="1156" y="400"/>
                  </a:lnTo>
                  <a:lnTo>
                    <a:pt x="1078" y="386"/>
                  </a:lnTo>
                  <a:lnTo>
                    <a:pt x="1090" y="325"/>
                  </a:lnTo>
                  <a:lnTo>
                    <a:pt x="1064" y="287"/>
                  </a:lnTo>
                  <a:lnTo>
                    <a:pt x="1103" y="254"/>
                  </a:lnTo>
                  <a:lnTo>
                    <a:pt x="1099" y="231"/>
                  </a:lnTo>
                  <a:lnTo>
                    <a:pt x="1115" y="243"/>
                  </a:lnTo>
                  <a:lnTo>
                    <a:pt x="1107" y="293"/>
                  </a:lnTo>
                  <a:lnTo>
                    <a:pt x="1120" y="298"/>
                  </a:lnTo>
                  <a:lnTo>
                    <a:pt x="1172" y="313"/>
                  </a:lnTo>
                  <a:lnTo>
                    <a:pt x="1125" y="273"/>
                  </a:lnTo>
                  <a:lnTo>
                    <a:pt x="1160" y="274"/>
                  </a:lnTo>
                  <a:lnTo>
                    <a:pt x="1153" y="260"/>
                  </a:lnTo>
                  <a:lnTo>
                    <a:pt x="1172" y="251"/>
                  </a:lnTo>
                  <a:lnTo>
                    <a:pt x="1269" y="282"/>
                  </a:lnTo>
                  <a:lnTo>
                    <a:pt x="1250" y="302"/>
                  </a:lnTo>
                  <a:lnTo>
                    <a:pt x="1248" y="333"/>
                  </a:lnTo>
                  <a:lnTo>
                    <a:pt x="1267" y="350"/>
                  </a:lnTo>
                  <a:lnTo>
                    <a:pt x="1276" y="282"/>
                  </a:lnTo>
                  <a:lnTo>
                    <a:pt x="1223" y="248"/>
                  </a:lnTo>
                  <a:lnTo>
                    <a:pt x="1214" y="197"/>
                  </a:lnTo>
                  <a:lnTo>
                    <a:pt x="1335" y="183"/>
                  </a:lnTo>
                  <a:lnTo>
                    <a:pt x="1321" y="138"/>
                  </a:lnTo>
                  <a:lnTo>
                    <a:pt x="1335" y="147"/>
                  </a:lnTo>
                  <a:lnTo>
                    <a:pt x="1356" y="129"/>
                  </a:lnTo>
                  <a:lnTo>
                    <a:pt x="1342" y="124"/>
                  </a:lnTo>
                  <a:lnTo>
                    <a:pt x="1469" y="91"/>
                  </a:lnTo>
                  <a:lnTo>
                    <a:pt x="1459" y="81"/>
                  </a:lnTo>
                  <a:lnTo>
                    <a:pt x="1518" y="76"/>
                  </a:lnTo>
                  <a:lnTo>
                    <a:pt x="1515" y="90"/>
                  </a:lnTo>
                  <a:lnTo>
                    <a:pt x="1531" y="90"/>
                  </a:lnTo>
                  <a:lnTo>
                    <a:pt x="1575" y="70"/>
                  </a:lnTo>
                  <a:lnTo>
                    <a:pt x="1595" y="82"/>
                  </a:lnTo>
                  <a:lnTo>
                    <a:pt x="1578" y="60"/>
                  </a:lnTo>
                  <a:lnTo>
                    <a:pt x="1625" y="56"/>
                  </a:lnTo>
                  <a:lnTo>
                    <a:pt x="1625" y="33"/>
                  </a:lnTo>
                  <a:lnTo>
                    <a:pt x="1683" y="0"/>
                  </a:lnTo>
                  <a:lnTo>
                    <a:pt x="1722" y="17"/>
                  </a:lnTo>
                  <a:lnTo>
                    <a:pt x="1687" y="37"/>
                  </a:lnTo>
                  <a:lnTo>
                    <a:pt x="1747" y="36"/>
                  </a:lnTo>
                  <a:lnTo>
                    <a:pt x="1724" y="60"/>
                  </a:lnTo>
                  <a:lnTo>
                    <a:pt x="1823" y="48"/>
                  </a:lnTo>
                  <a:lnTo>
                    <a:pt x="1876" y="90"/>
                  </a:lnTo>
                  <a:lnTo>
                    <a:pt x="1867" y="104"/>
                  </a:lnTo>
                  <a:lnTo>
                    <a:pt x="1850" y="91"/>
                  </a:lnTo>
                  <a:lnTo>
                    <a:pt x="1875" y="105"/>
                  </a:lnTo>
                  <a:lnTo>
                    <a:pt x="1862" y="127"/>
                  </a:lnTo>
                  <a:lnTo>
                    <a:pt x="1683" y="242"/>
                  </a:lnTo>
                  <a:lnTo>
                    <a:pt x="1739" y="228"/>
                  </a:lnTo>
                  <a:lnTo>
                    <a:pt x="1728" y="214"/>
                  </a:lnTo>
                  <a:lnTo>
                    <a:pt x="1817" y="192"/>
                  </a:lnTo>
                  <a:lnTo>
                    <a:pt x="1794" y="194"/>
                  </a:lnTo>
                  <a:lnTo>
                    <a:pt x="1801" y="175"/>
                  </a:lnTo>
                  <a:lnTo>
                    <a:pt x="1850" y="192"/>
                  </a:lnTo>
                  <a:lnTo>
                    <a:pt x="1857" y="175"/>
                  </a:lnTo>
                  <a:lnTo>
                    <a:pt x="1868" y="212"/>
                  </a:lnTo>
                  <a:lnTo>
                    <a:pt x="1893" y="215"/>
                  </a:lnTo>
                  <a:lnTo>
                    <a:pt x="1871" y="198"/>
                  </a:lnTo>
                  <a:lnTo>
                    <a:pt x="1917" y="192"/>
                  </a:lnTo>
                  <a:lnTo>
                    <a:pt x="1974" y="197"/>
                  </a:lnTo>
                  <a:lnTo>
                    <a:pt x="1970" y="214"/>
                  </a:lnTo>
                  <a:lnTo>
                    <a:pt x="2020" y="225"/>
                  </a:lnTo>
                  <a:lnTo>
                    <a:pt x="2064" y="220"/>
                  </a:lnTo>
                  <a:lnTo>
                    <a:pt x="2067" y="188"/>
                  </a:lnTo>
                  <a:lnTo>
                    <a:pt x="2078" y="183"/>
                  </a:lnTo>
                  <a:lnTo>
                    <a:pt x="2189" y="220"/>
                  </a:lnTo>
                  <a:lnTo>
                    <a:pt x="2175" y="282"/>
                  </a:lnTo>
                  <a:lnTo>
                    <a:pt x="2226" y="322"/>
                  </a:lnTo>
                  <a:lnTo>
                    <a:pt x="2253" y="267"/>
                  </a:lnTo>
                  <a:lnTo>
                    <a:pt x="2274" y="293"/>
                  </a:lnTo>
                  <a:lnTo>
                    <a:pt x="2310" y="282"/>
                  </a:lnTo>
                  <a:lnTo>
                    <a:pt x="2359" y="302"/>
                  </a:lnTo>
                  <a:lnTo>
                    <a:pt x="2398" y="291"/>
                  </a:lnTo>
                  <a:lnTo>
                    <a:pt x="2394" y="267"/>
                  </a:lnTo>
                  <a:lnTo>
                    <a:pt x="2420" y="229"/>
                  </a:lnTo>
                  <a:lnTo>
                    <a:pt x="2585" y="256"/>
                  </a:lnTo>
                  <a:lnTo>
                    <a:pt x="2598" y="273"/>
                  </a:lnTo>
                  <a:lnTo>
                    <a:pt x="2578" y="280"/>
                  </a:lnTo>
                  <a:lnTo>
                    <a:pt x="2630" y="291"/>
                  </a:lnTo>
                  <a:lnTo>
                    <a:pt x="2649" y="318"/>
                  </a:lnTo>
                  <a:lnTo>
                    <a:pt x="2774" y="313"/>
                  </a:lnTo>
                  <a:lnTo>
                    <a:pt x="2797" y="335"/>
                  </a:lnTo>
                  <a:lnTo>
                    <a:pt x="2790" y="361"/>
                  </a:lnTo>
                  <a:lnTo>
                    <a:pt x="2824" y="378"/>
                  </a:lnTo>
                  <a:lnTo>
                    <a:pt x="2844" y="364"/>
                  </a:lnTo>
                  <a:lnTo>
                    <a:pt x="2932" y="373"/>
                  </a:lnTo>
                  <a:lnTo>
                    <a:pt x="2952" y="361"/>
                  </a:lnTo>
                  <a:lnTo>
                    <a:pt x="2961" y="383"/>
                  </a:lnTo>
                  <a:lnTo>
                    <a:pt x="2997" y="403"/>
                  </a:lnTo>
                  <a:lnTo>
                    <a:pt x="3016" y="391"/>
                  </a:lnTo>
                  <a:lnTo>
                    <a:pt x="2996" y="369"/>
                  </a:lnTo>
                  <a:lnTo>
                    <a:pt x="3008" y="350"/>
                  </a:lnTo>
                  <a:lnTo>
                    <a:pt x="3162" y="377"/>
                  </a:lnTo>
                  <a:lnTo>
                    <a:pt x="3265" y="448"/>
                  </a:lnTo>
                  <a:lnTo>
                    <a:pt x="3286" y="448"/>
                  </a:lnTo>
                  <a:lnTo>
                    <a:pt x="3313" y="501"/>
                  </a:lnTo>
                  <a:lnTo>
                    <a:pt x="3303" y="473"/>
                  </a:lnTo>
                  <a:lnTo>
                    <a:pt x="3318" y="470"/>
                  </a:lnTo>
                  <a:lnTo>
                    <a:pt x="3327" y="482"/>
                  </a:lnTo>
                  <a:lnTo>
                    <a:pt x="3359" y="477"/>
                  </a:lnTo>
                  <a:lnTo>
                    <a:pt x="3399" y="508"/>
                  </a:lnTo>
                  <a:lnTo>
                    <a:pt x="3340" y="542"/>
                  </a:lnTo>
                  <a:lnTo>
                    <a:pt x="3352" y="550"/>
                  </a:lnTo>
                  <a:lnTo>
                    <a:pt x="3333" y="561"/>
                  </a:lnTo>
                  <a:lnTo>
                    <a:pt x="3348" y="573"/>
                  </a:lnTo>
                  <a:lnTo>
                    <a:pt x="3313" y="575"/>
                  </a:lnTo>
                  <a:lnTo>
                    <a:pt x="3301" y="552"/>
                  </a:lnTo>
                  <a:lnTo>
                    <a:pt x="3287" y="561"/>
                  </a:lnTo>
                  <a:lnTo>
                    <a:pt x="3265" y="528"/>
                  </a:lnTo>
                  <a:lnTo>
                    <a:pt x="3226" y="530"/>
                  </a:lnTo>
                  <a:lnTo>
                    <a:pt x="3215" y="511"/>
                  </a:lnTo>
                  <a:lnTo>
                    <a:pt x="3224" y="501"/>
                  </a:lnTo>
                  <a:lnTo>
                    <a:pt x="3207" y="501"/>
                  </a:lnTo>
                  <a:lnTo>
                    <a:pt x="3196" y="508"/>
                  </a:lnTo>
                  <a:lnTo>
                    <a:pt x="3207" y="532"/>
                  </a:lnTo>
                  <a:lnTo>
                    <a:pt x="3198" y="545"/>
                  </a:lnTo>
                  <a:lnTo>
                    <a:pt x="3166" y="567"/>
                  </a:lnTo>
                  <a:lnTo>
                    <a:pt x="3142" y="561"/>
                  </a:lnTo>
                  <a:lnTo>
                    <a:pt x="3183" y="626"/>
                  </a:lnTo>
                  <a:lnTo>
                    <a:pt x="3175" y="651"/>
                  </a:lnTo>
                  <a:lnTo>
                    <a:pt x="3134" y="631"/>
                  </a:lnTo>
                  <a:lnTo>
                    <a:pt x="3137" y="645"/>
                  </a:lnTo>
                  <a:lnTo>
                    <a:pt x="3065" y="673"/>
                  </a:lnTo>
                  <a:lnTo>
                    <a:pt x="3001" y="738"/>
                  </a:lnTo>
                  <a:lnTo>
                    <a:pt x="2958" y="714"/>
                  </a:lnTo>
                  <a:lnTo>
                    <a:pt x="2918" y="741"/>
                  </a:lnTo>
                  <a:lnTo>
                    <a:pt x="2918" y="717"/>
                  </a:lnTo>
                  <a:lnTo>
                    <a:pt x="2894" y="742"/>
                  </a:lnTo>
                  <a:lnTo>
                    <a:pt x="2867" y="739"/>
                  </a:lnTo>
                  <a:lnTo>
                    <a:pt x="2836" y="801"/>
                  </a:lnTo>
                  <a:lnTo>
                    <a:pt x="2859" y="814"/>
                  </a:lnTo>
                  <a:lnTo>
                    <a:pt x="2850" y="834"/>
                  </a:lnTo>
                  <a:lnTo>
                    <a:pt x="2859" y="868"/>
                  </a:lnTo>
                  <a:lnTo>
                    <a:pt x="2841" y="860"/>
                  </a:lnTo>
                  <a:lnTo>
                    <a:pt x="2829" y="889"/>
                  </a:lnTo>
                  <a:lnTo>
                    <a:pt x="2837" y="916"/>
                  </a:lnTo>
                  <a:lnTo>
                    <a:pt x="2794" y="936"/>
                  </a:lnTo>
                  <a:lnTo>
                    <a:pt x="2797" y="964"/>
                  </a:lnTo>
                  <a:lnTo>
                    <a:pt x="2768" y="972"/>
                  </a:lnTo>
                  <a:lnTo>
                    <a:pt x="2760" y="1004"/>
                  </a:lnTo>
                  <a:lnTo>
                    <a:pt x="2734" y="1035"/>
                  </a:lnTo>
                  <a:lnTo>
                    <a:pt x="2711" y="916"/>
                  </a:lnTo>
                  <a:lnTo>
                    <a:pt x="2716" y="848"/>
                  </a:lnTo>
                  <a:lnTo>
                    <a:pt x="2734" y="810"/>
                  </a:lnTo>
                  <a:lnTo>
                    <a:pt x="2765" y="803"/>
                  </a:lnTo>
                  <a:lnTo>
                    <a:pt x="2836" y="719"/>
                  </a:lnTo>
                  <a:lnTo>
                    <a:pt x="2870" y="704"/>
                  </a:lnTo>
                  <a:lnTo>
                    <a:pt x="2879" y="655"/>
                  </a:lnTo>
                  <a:lnTo>
                    <a:pt x="2894" y="645"/>
                  </a:lnTo>
                  <a:lnTo>
                    <a:pt x="2868" y="645"/>
                  </a:lnTo>
                  <a:lnTo>
                    <a:pt x="2859" y="680"/>
                  </a:lnTo>
                  <a:lnTo>
                    <a:pt x="2801" y="714"/>
                  </a:lnTo>
                  <a:lnTo>
                    <a:pt x="2804" y="666"/>
                  </a:lnTo>
                  <a:lnTo>
                    <a:pt x="2742" y="676"/>
                  </a:lnTo>
                  <a:lnTo>
                    <a:pt x="2681" y="741"/>
                  </a:lnTo>
                  <a:lnTo>
                    <a:pt x="2695" y="766"/>
                  </a:lnTo>
                  <a:lnTo>
                    <a:pt x="2627" y="775"/>
                  </a:lnTo>
                  <a:lnTo>
                    <a:pt x="2619" y="767"/>
                  </a:lnTo>
                  <a:lnTo>
                    <a:pt x="2641" y="762"/>
                  </a:lnTo>
                  <a:lnTo>
                    <a:pt x="2587" y="745"/>
                  </a:lnTo>
                  <a:lnTo>
                    <a:pt x="2572" y="762"/>
                  </a:lnTo>
                  <a:lnTo>
                    <a:pt x="2450" y="762"/>
                  </a:lnTo>
                  <a:lnTo>
                    <a:pt x="2303" y="913"/>
                  </a:lnTo>
                  <a:lnTo>
                    <a:pt x="2335" y="917"/>
                  </a:lnTo>
                  <a:lnTo>
                    <a:pt x="2335" y="945"/>
                  </a:lnTo>
                  <a:lnTo>
                    <a:pt x="2351" y="928"/>
                  </a:lnTo>
                  <a:lnTo>
                    <a:pt x="2344" y="951"/>
                  </a:lnTo>
                  <a:lnTo>
                    <a:pt x="2369" y="939"/>
                  </a:lnTo>
                  <a:lnTo>
                    <a:pt x="2366" y="953"/>
                  </a:lnTo>
                  <a:lnTo>
                    <a:pt x="2373" y="928"/>
                  </a:lnTo>
                  <a:lnTo>
                    <a:pt x="2394" y="928"/>
                  </a:lnTo>
                  <a:lnTo>
                    <a:pt x="2425" y="959"/>
                  </a:lnTo>
                  <a:lnTo>
                    <a:pt x="2398" y="962"/>
                  </a:lnTo>
                  <a:lnTo>
                    <a:pt x="2421" y="973"/>
                  </a:lnTo>
                  <a:lnTo>
                    <a:pt x="2428" y="995"/>
                  </a:lnTo>
                  <a:lnTo>
                    <a:pt x="2408" y="1040"/>
                  </a:lnTo>
                  <a:lnTo>
                    <a:pt x="2404" y="1110"/>
                  </a:lnTo>
                  <a:lnTo>
                    <a:pt x="2301" y="1258"/>
                  </a:lnTo>
                  <a:lnTo>
                    <a:pt x="2266" y="1278"/>
                  </a:lnTo>
                  <a:lnTo>
                    <a:pt x="2237" y="1258"/>
                  </a:lnTo>
                  <a:lnTo>
                    <a:pt x="2213" y="1286"/>
                  </a:lnTo>
                  <a:lnTo>
                    <a:pt x="2210" y="1282"/>
                  </a:lnTo>
                  <a:lnTo>
                    <a:pt x="2224" y="1258"/>
                  </a:lnTo>
                  <a:lnTo>
                    <a:pt x="2219" y="1221"/>
                  </a:lnTo>
                  <a:lnTo>
                    <a:pt x="2261" y="1207"/>
                  </a:lnTo>
                  <a:lnTo>
                    <a:pt x="2295" y="1110"/>
                  </a:lnTo>
                  <a:lnTo>
                    <a:pt x="2222" y="1131"/>
                  </a:lnTo>
                  <a:lnTo>
                    <a:pt x="2210" y="1096"/>
                  </a:lnTo>
                  <a:lnTo>
                    <a:pt x="2149" y="1074"/>
                  </a:lnTo>
                  <a:lnTo>
                    <a:pt x="2113" y="970"/>
                  </a:lnTo>
                  <a:lnTo>
                    <a:pt x="2072" y="953"/>
                  </a:lnTo>
                  <a:lnTo>
                    <a:pt x="2001" y="981"/>
                  </a:lnTo>
                  <a:lnTo>
                    <a:pt x="2014" y="1003"/>
                  </a:lnTo>
                  <a:lnTo>
                    <a:pt x="1984" y="1060"/>
                  </a:lnTo>
                  <a:lnTo>
                    <a:pt x="1956" y="1075"/>
                  </a:lnTo>
                  <a:lnTo>
                    <a:pt x="1927" y="1063"/>
                  </a:lnTo>
                  <a:lnTo>
                    <a:pt x="1891" y="1057"/>
                  </a:lnTo>
                  <a:lnTo>
                    <a:pt x="1794" y="1085"/>
                  </a:lnTo>
                  <a:lnTo>
                    <a:pt x="1713" y="1046"/>
                  </a:lnTo>
                  <a:lnTo>
                    <a:pt x="1661" y="1051"/>
                  </a:lnTo>
                  <a:lnTo>
                    <a:pt x="1640" y="1017"/>
                  </a:lnTo>
                  <a:lnTo>
                    <a:pt x="1587" y="995"/>
                  </a:lnTo>
                  <a:lnTo>
                    <a:pt x="1559" y="1018"/>
                  </a:lnTo>
                  <a:lnTo>
                    <a:pt x="1558" y="1063"/>
                  </a:lnTo>
                  <a:lnTo>
                    <a:pt x="1438" y="1043"/>
                  </a:lnTo>
                  <a:lnTo>
                    <a:pt x="1359" y="1092"/>
                  </a:lnTo>
                  <a:lnTo>
                    <a:pt x="1321" y="1111"/>
                  </a:lnTo>
                  <a:lnTo>
                    <a:pt x="1314" y="1151"/>
                  </a:lnTo>
                  <a:lnTo>
                    <a:pt x="1262" y="1148"/>
                  </a:lnTo>
                  <a:lnTo>
                    <a:pt x="1250" y="1204"/>
                  </a:lnTo>
                  <a:lnTo>
                    <a:pt x="1202" y="1216"/>
                  </a:lnTo>
                  <a:lnTo>
                    <a:pt x="1218" y="1258"/>
                  </a:lnTo>
                  <a:lnTo>
                    <a:pt x="1206" y="1295"/>
                  </a:lnTo>
                  <a:lnTo>
                    <a:pt x="1130" y="1344"/>
                  </a:lnTo>
                  <a:lnTo>
                    <a:pt x="1083" y="1353"/>
                  </a:lnTo>
                  <a:lnTo>
                    <a:pt x="1078" y="1385"/>
                  </a:lnTo>
                  <a:lnTo>
                    <a:pt x="1099" y="1396"/>
                  </a:lnTo>
                  <a:lnTo>
                    <a:pt x="1099" y="1429"/>
                  </a:lnTo>
                  <a:lnTo>
                    <a:pt x="1073" y="1423"/>
                  </a:lnTo>
                  <a:lnTo>
                    <a:pt x="1038" y="1443"/>
                  </a:lnTo>
                  <a:lnTo>
                    <a:pt x="1022" y="1396"/>
                  </a:lnTo>
                  <a:lnTo>
                    <a:pt x="991" y="1432"/>
                  </a:lnTo>
                  <a:lnTo>
                    <a:pt x="905" y="1429"/>
                  </a:lnTo>
                  <a:lnTo>
                    <a:pt x="861" y="1483"/>
                  </a:lnTo>
                  <a:lnTo>
                    <a:pt x="832" y="1466"/>
                  </a:lnTo>
                  <a:lnTo>
                    <a:pt x="828" y="1446"/>
                  </a:lnTo>
                  <a:lnTo>
                    <a:pt x="747" y="1398"/>
                  </a:lnTo>
                  <a:lnTo>
                    <a:pt x="684" y="1423"/>
                  </a:lnTo>
                  <a:lnTo>
                    <a:pt x="686" y="1381"/>
                  </a:lnTo>
                  <a:lnTo>
                    <a:pt x="671" y="1370"/>
                  </a:lnTo>
                  <a:lnTo>
                    <a:pt x="683" y="1357"/>
                  </a:lnTo>
                  <a:lnTo>
                    <a:pt x="662" y="1354"/>
                  </a:lnTo>
                  <a:lnTo>
                    <a:pt x="662" y="1322"/>
                  </a:lnTo>
                  <a:lnTo>
                    <a:pt x="691" y="1334"/>
                  </a:lnTo>
                  <a:lnTo>
                    <a:pt x="700" y="1322"/>
                  </a:lnTo>
                  <a:lnTo>
                    <a:pt x="675" y="1295"/>
                  </a:lnTo>
                  <a:lnTo>
                    <a:pt x="662" y="1319"/>
                  </a:lnTo>
                  <a:lnTo>
                    <a:pt x="660" y="1274"/>
                  </a:lnTo>
                  <a:lnTo>
                    <a:pt x="632" y="1263"/>
                  </a:lnTo>
                  <a:lnTo>
                    <a:pt x="609" y="1224"/>
                  </a:lnTo>
                  <a:lnTo>
                    <a:pt x="636" y="1224"/>
                  </a:lnTo>
                  <a:lnTo>
                    <a:pt x="635" y="1207"/>
                  </a:lnTo>
                  <a:lnTo>
                    <a:pt x="651" y="1198"/>
                  </a:lnTo>
                  <a:lnTo>
                    <a:pt x="700" y="1207"/>
                  </a:lnTo>
                  <a:lnTo>
                    <a:pt x="660" y="1148"/>
                  </a:lnTo>
                  <a:lnTo>
                    <a:pt x="578" y="1162"/>
                  </a:lnTo>
                  <a:lnTo>
                    <a:pt x="587" y="1170"/>
                  </a:lnTo>
                  <a:lnTo>
                    <a:pt x="568" y="1184"/>
                  </a:lnTo>
                  <a:lnTo>
                    <a:pt x="557" y="1172"/>
                  </a:lnTo>
                  <a:lnTo>
                    <a:pt x="541" y="1229"/>
                  </a:lnTo>
                  <a:lnTo>
                    <a:pt x="559" y="1243"/>
                  </a:lnTo>
                  <a:lnTo>
                    <a:pt x="572" y="1299"/>
                  </a:lnTo>
                  <a:lnTo>
                    <a:pt x="613" y="1344"/>
                  </a:lnTo>
                  <a:lnTo>
                    <a:pt x="597" y="1348"/>
                  </a:lnTo>
                  <a:lnTo>
                    <a:pt x="584" y="1393"/>
                  </a:lnTo>
                  <a:lnTo>
                    <a:pt x="566" y="1385"/>
                  </a:lnTo>
                  <a:lnTo>
                    <a:pt x="563" y="1362"/>
                  </a:lnTo>
                  <a:lnTo>
                    <a:pt x="528" y="1384"/>
                  </a:lnTo>
                  <a:lnTo>
                    <a:pt x="499" y="1357"/>
                  </a:lnTo>
                  <a:lnTo>
                    <a:pt x="463" y="1308"/>
                  </a:lnTo>
                  <a:lnTo>
                    <a:pt x="437" y="1308"/>
                  </a:lnTo>
                  <a:lnTo>
                    <a:pt x="434" y="1274"/>
                  </a:lnTo>
                  <a:lnTo>
                    <a:pt x="342" y="1206"/>
                  </a:lnTo>
                  <a:lnTo>
                    <a:pt x="377" y="1179"/>
                  </a:lnTo>
                  <a:lnTo>
                    <a:pt x="364" y="1162"/>
                  </a:lnTo>
                  <a:lnTo>
                    <a:pt x="389" y="1144"/>
                  </a:lnTo>
                  <a:lnTo>
                    <a:pt x="312" y="1168"/>
                  </a:lnTo>
                  <a:lnTo>
                    <a:pt x="306" y="1184"/>
                  </a:lnTo>
                  <a:lnTo>
                    <a:pt x="283" y="1175"/>
                  </a:lnTo>
                  <a:lnTo>
                    <a:pt x="310" y="1201"/>
                  </a:lnTo>
                  <a:lnTo>
                    <a:pt x="342" y="1198"/>
                  </a:lnTo>
                  <a:lnTo>
                    <a:pt x="288" y="1229"/>
                  </a:lnTo>
                  <a:lnTo>
                    <a:pt x="259" y="1198"/>
                  </a:lnTo>
                  <a:lnTo>
                    <a:pt x="282" y="1179"/>
                  </a:lnTo>
                  <a:lnTo>
                    <a:pt x="245" y="1175"/>
                  </a:lnTo>
                  <a:lnTo>
                    <a:pt x="248" y="1158"/>
                  </a:lnTo>
                  <a:lnTo>
                    <a:pt x="211" y="1170"/>
                  </a:lnTo>
                  <a:lnTo>
                    <a:pt x="201" y="1199"/>
                  </a:lnTo>
                  <a:lnTo>
                    <a:pt x="171" y="1198"/>
                  </a:lnTo>
                  <a:lnTo>
                    <a:pt x="169" y="1158"/>
                  </a:lnTo>
                  <a:lnTo>
                    <a:pt x="142" y="1114"/>
                  </a:lnTo>
                  <a:lnTo>
                    <a:pt x="64" y="1123"/>
                  </a:lnTo>
                  <a:lnTo>
                    <a:pt x="50" y="1110"/>
                  </a:lnTo>
                  <a:lnTo>
                    <a:pt x="56" y="1089"/>
                  </a:lnTo>
                  <a:lnTo>
                    <a:pt x="89" y="1043"/>
                  </a:lnTo>
                  <a:lnTo>
                    <a:pt x="72" y="990"/>
                  </a:lnTo>
                  <a:lnTo>
                    <a:pt x="86" y="976"/>
                  </a:lnTo>
                  <a:lnTo>
                    <a:pt x="78" y="934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73360" y="2286000"/>
              <a:ext cx="4979880" cy="2354040"/>
            </a:xfrm>
            <a:custGeom>
              <a:avLst/>
              <a:gdLst/>
              <a:ahLst/>
              <a:rect l="l" t="t" r="r" b="b"/>
              <a:pathLst>
                <a:path w="3399" h="1483">
                  <a:moveTo>
                    <a:pt x="0" y="920"/>
                  </a:moveTo>
                  <a:lnTo>
                    <a:pt x="29" y="893"/>
                  </a:lnTo>
                  <a:lnTo>
                    <a:pt x="21" y="903"/>
                  </a:lnTo>
                  <a:lnTo>
                    <a:pt x="31" y="907"/>
                  </a:lnTo>
                  <a:lnTo>
                    <a:pt x="29" y="846"/>
                  </a:lnTo>
                  <a:lnTo>
                    <a:pt x="40" y="818"/>
                  </a:lnTo>
                  <a:lnTo>
                    <a:pt x="59" y="814"/>
                  </a:lnTo>
                  <a:lnTo>
                    <a:pt x="90" y="840"/>
                  </a:lnTo>
                  <a:lnTo>
                    <a:pt x="98" y="790"/>
                  </a:lnTo>
                  <a:lnTo>
                    <a:pt x="82" y="792"/>
                  </a:lnTo>
                  <a:lnTo>
                    <a:pt x="78" y="761"/>
                  </a:lnTo>
                  <a:lnTo>
                    <a:pt x="211" y="736"/>
                  </a:lnTo>
                  <a:lnTo>
                    <a:pt x="179" y="722"/>
                  </a:lnTo>
                  <a:lnTo>
                    <a:pt x="181" y="708"/>
                  </a:lnTo>
                  <a:lnTo>
                    <a:pt x="160" y="714"/>
                  </a:lnTo>
                  <a:lnTo>
                    <a:pt x="236" y="638"/>
                  </a:lnTo>
                  <a:lnTo>
                    <a:pt x="202" y="558"/>
                  </a:lnTo>
                  <a:lnTo>
                    <a:pt x="210" y="521"/>
                  </a:lnTo>
                  <a:lnTo>
                    <a:pt x="192" y="477"/>
                  </a:lnTo>
                  <a:lnTo>
                    <a:pt x="207" y="449"/>
                  </a:lnTo>
                  <a:lnTo>
                    <a:pt x="179" y="418"/>
                  </a:lnTo>
                  <a:lnTo>
                    <a:pt x="189" y="392"/>
                  </a:lnTo>
                  <a:lnTo>
                    <a:pt x="224" y="361"/>
                  </a:lnTo>
                  <a:lnTo>
                    <a:pt x="245" y="355"/>
                  </a:lnTo>
                  <a:lnTo>
                    <a:pt x="269" y="364"/>
                  </a:lnTo>
                  <a:lnTo>
                    <a:pt x="248" y="372"/>
                  </a:lnTo>
                  <a:lnTo>
                    <a:pt x="266" y="383"/>
                  </a:lnTo>
                  <a:lnTo>
                    <a:pt x="323" y="386"/>
                  </a:lnTo>
                  <a:lnTo>
                    <a:pt x="426" y="449"/>
                  </a:lnTo>
                  <a:lnTo>
                    <a:pt x="430" y="483"/>
                  </a:lnTo>
                  <a:lnTo>
                    <a:pt x="385" y="511"/>
                  </a:lnTo>
                  <a:lnTo>
                    <a:pt x="248" y="473"/>
                  </a:lnTo>
                  <a:lnTo>
                    <a:pt x="304" y="519"/>
                  </a:lnTo>
                  <a:lnTo>
                    <a:pt x="301" y="573"/>
                  </a:lnTo>
                  <a:lnTo>
                    <a:pt x="360" y="598"/>
                  </a:lnTo>
                  <a:lnTo>
                    <a:pt x="373" y="595"/>
                  </a:lnTo>
                  <a:lnTo>
                    <a:pt x="365" y="573"/>
                  </a:lnTo>
                  <a:lnTo>
                    <a:pt x="342" y="563"/>
                  </a:lnTo>
                  <a:lnTo>
                    <a:pt x="346" y="545"/>
                  </a:lnTo>
                  <a:lnTo>
                    <a:pt x="370" y="567"/>
                  </a:lnTo>
                  <a:lnTo>
                    <a:pt x="426" y="573"/>
                  </a:lnTo>
                  <a:lnTo>
                    <a:pt x="403" y="528"/>
                  </a:lnTo>
                  <a:lnTo>
                    <a:pt x="452" y="493"/>
                  </a:lnTo>
                  <a:lnTo>
                    <a:pt x="490" y="519"/>
                  </a:lnTo>
                  <a:lnTo>
                    <a:pt x="490" y="420"/>
                  </a:lnTo>
                  <a:lnTo>
                    <a:pt x="472" y="406"/>
                  </a:lnTo>
                  <a:lnTo>
                    <a:pt x="535" y="428"/>
                  </a:lnTo>
                  <a:lnTo>
                    <a:pt x="540" y="442"/>
                  </a:lnTo>
                  <a:lnTo>
                    <a:pt x="507" y="457"/>
                  </a:lnTo>
                  <a:lnTo>
                    <a:pt x="540" y="488"/>
                  </a:lnTo>
                  <a:lnTo>
                    <a:pt x="567" y="449"/>
                  </a:lnTo>
                  <a:lnTo>
                    <a:pt x="682" y="397"/>
                  </a:lnTo>
                  <a:lnTo>
                    <a:pt x="699" y="395"/>
                  </a:lnTo>
                  <a:lnTo>
                    <a:pt x="682" y="401"/>
                  </a:lnTo>
                  <a:lnTo>
                    <a:pt x="700" y="428"/>
                  </a:lnTo>
                  <a:lnTo>
                    <a:pt x="785" y="395"/>
                  </a:lnTo>
                  <a:lnTo>
                    <a:pt x="801" y="420"/>
                  </a:lnTo>
                  <a:lnTo>
                    <a:pt x="823" y="398"/>
                  </a:lnTo>
                  <a:lnTo>
                    <a:pt x="812" y="369"/>
                  </a:lnTo>
                  <a:lnTo>
                    <a:pt x="823" y="360"/>
                  </a:lnTo>
                  <a:lnTo>
                    <a:pt x="888" y="372"/>
                  </a:lnTo>
                  <a:lnTo>
                    <a:pt x="970" y="426"/>
                  </a:lnTo>
                  <a:lnTo>
                    <a:pt x="987" y="400"/>
                  </a:lnTo>
                  <a:lnTo>
                    <a:pt x="967" y="372"/>
                  </a:lnTo>
                  <a:lnTo>
                    <a:pt x="943" y="367"/>
                  </a:lnTo>
                  <a:lnTo>
                    <a:pt x="954" y="322"/>
                  </a:lnTo>
                  <a:lnTo>
                    <a:pt x="935" y="318"/>
                  </a:lnTo>
                  <a:lnTo>
                    <a:pt x="941" y="298"/>
                  </a:lnTo>
                  <a:lnTo>
                    <a:pt x="973" y="276"/>
                  </a:lnTo>
                  <a:lnTo>
                    <a:pt x="991" y="225"/>
                  </a:lnTo>
                  <a:lnTo>
                    <a:pt x="1037" y="226"/>
                  </a:lnTo>
                  <a:lnTo>
                    <a:pt x="1057" y="234"/>
                  </a:lnTo>
                  <a:lnTo>
                    <a:pt x="1040" y="288"/>
                  </a:lnTo>
                  <a:lnTo>
                    <a:pt x="1060" y="316"/>
                  </a:lnTo>
                  <a:lnTo>
                    <a:pt x="1052" y="392"/>
                  </a:lnTo>
                  <a:lnTo>
                    <a:pt x="1073" y="417"/>
                  </a:lnTo>
                  <a:lnTo>
                    <a:pt x="1065" y="446"/>
                  </a:lnTo>
                  <a:lnTo>
                    <a:pt x="1031" y="466"/>
                  </a:lnTo>
                  <a:lnTo>
                    <a:pt x="1043" y="476"/>
                  </a:lnTo>
                  <a:lnTo>
                    <a:pt x="1000" y="487"/>
                  </a:lnTo>
                  <a:lnTo>
                    <a:pt x="1046" y="505"/>
                  </a:lnTo>
                  <a:lnTo>
                    <a:pt x="1098" y="446"/>
                  </a:lnTo>
                  <a:lnTo>
                    <a:pt x="1091" y="406"/>
                  </a:lnTo>
                  <a:lnTo>
                    <a:pt x="1110" y="400"/>
                  </a:lnTo>
                  <a:lnTo>
                    <a:pt x="1134" y="395"/>
                  </a:lnTo>
                  <a:lnTo>
                    <a:pt x="1151" y="415"/>
                  </a:lnTo>
                  <a:lnTo>
                    <a:pt x="1147" y="445"/>
                  </a:lnTo>
                  <a:lnTo>
                    <a:pt x="1183" y="451"/>
                  </a:lnTo>
                  <a:lnTo>
                    <a:pt x="1155" y="443"/>
                  </a:lnTo>
                  <a:lnTo>
                    <a:pt x="1167" y="425"/>
                  </a:lnTo>
                  <a:lnTo>
                    <a:pt x="1156" y="400"/>
                  </a:lnTo>
                  <a:lnTo>
                    <a:pt x="1078" y="386"/>
                  </a:lnTo>
                  <a:lnTo>
                    <a:pt x="1090" y="325"/>
                  </a:lnTo>
                  <a:lnTo>
                    <a:pt x="1064" y="287"/>
                  </a:lnTo>
                  <a:lnTo>
                    <a:pt x="1103" y="254"/>
                  </a:lnTo>
                  <a:lnTo>
                    <a:pt x="1099" y="231"/>
                  </a:lnTo>
                  <a:lnTo>
                    <a:pt x="1115" y="243"/>
                  </a:lnTo>
                  <a:lnTo>
                    <a:pt x="1107" y="293"/>
                  </a:lnTo>
                  <a:lnTo>
                    <a:pt x="1120" y="298"/>
                  </a:lnTo>
                  <a:lnTo>
                    <a:pt x="1172" y="313"/>
                  </a:lnTo>
                  <a:lnTo>
                    <a:pt x="1125" y="273"/>
                  </a:lnTo>
                  <a:lnTo>
                    <a:pt x="1160" y="274"/>
                  </a:lnTo>
                  <a:lnTo>
                    <a:pt x="1153" y="260"/>
                  </a:lnTo>
                  <a:lnTo>
                    <a:pt x="1172" y="251"/>
                  </a:lnTo>
                  <a:lnTo>
                    <a:pt x="1269" y="282"/>
                  </a:lnTo>
                  <a:lnTo>
                    <a:pt x="1250" y="302"/>
                  </a:lnTo>
                  <a:lnTo>
                    <a:pt x="1248" y="333"/>
                  </a:lnTo>
                  <a:lnTo>
                    <a:pt x="1267" y="350"/>
                  </a:lnTo>
                  <a:lnTo>
                    <a:pt x="1276" y="282"/>
                  </a:lnTo>
                  <a:lnTo>
                    <a:pt x="1223" y="248"/>
                  </a:lnTo>
                  <a:lnTo>
                    <a:pt x="1214" y="197"/>
                  </a:lnTo>
                  <a:lnTo>
                    <a:pt x="1335" y="183"/>
                  </a:lnTo>
                  <a:lnTo>
                    <a:pt x="1321" y="138"/>
                  </a:lnTo>
                  <a:lnTo>
                    <a:pt x="1335" y="147"/>
                  </a:lnTo>
                  <a:lnTo>
                    <a:pt x="1356" y="129"/>
                  </a:lnTo>
                  <a:lnTo>
                    <a:pt x="1342" y="124"/>
                  </a:lnTo>
                  <a:lnTo>
                    <a:pt x="1469" y="91"/>
                  </a:lnTo>
                  <a:lnTo>
                    <a:pt x="1459" y="81"/>
                  </a:lnTo>
                  <a:lnTo>
                    <a:pt x="1518" y="76"/>
                  </a:lnTo>
                  <a:lnTo>
                    <a:pt x="1515" y="90"/>
                  </a:lnTo>
                  <a:lnTo>
                    <a:pt x="1531" y="90"/>
                  </a:lnTo>
                  <a:lnTo>
                    <a:pt x="1575" y="70"/>
                  </a:lnTo>
                  <a:lnTo>
                    <a:pt x="1595" y="82"/>
                  </a:lnTo>
                  <a:lnTo>
                    <a:pt x="1578" y="60"/>
                  </a:lnTo>
                  <a:lnTo>
                    <a:pt x="1625" y="56"/>
                  </a:lnTo>
                  <a:lnTo>
                    <a:pt x="1625" y="33"/>
                  </a:lnTo>
                  <a:lnTo>
                    <a:pt x="1683" y="0"/>
                  </a:lnTo>
                  <a:lnTo>
                    <a:pt x="1722" y="17"/>
                  </a:lnTo>
                  <a:lnTo>
                    <a:pt x="1687" y="37"/>
                  </a:lnTo>
                  <a:lnTo>
                    <a:pt x="1747" y="36"/>
                  </a:lnTo>
                  <a:lnTo>
                    <a:pt x="1724" y="60"/>
                  </a:lnTo>
                  <a:lnTo>
                    <a:pt x="1823" y="48"/>
                  </a:lnTo>
                  <a:lnTo>
                    <a:pt x="1876" y="90"/>
                  </a:lnTo>
                  <a:lnTo>
                    <a:pt x="1867" y="104"/>
                  </a:lnTo>
                  <a:lnTo>
                    <a:pt x="1850" y="91"/>
                  </a:lnTo>
                  <a:lnTo>
                    <a:pt x="1875" y="105"/>
                  </a:lnTo>
                  <a:lnTo>
                    <a:pt x="1862" y="127"/>
                  </a:lnTo>
                  <a:lnTo>
                    <a:pt x="1683" y="242"/>
                  </a:lnTo>
                  <a:lnTo>
                    <a:pt x="1739" y="228"/>
                  </a:lnTo>
                  <a:lnTo>
                    <a:pt x="1728" y="214"/>
                  </a:lnTo>
                  <a:lnTo>
                    <a:pt x="1817" y="192"/>
                  </a:lnTo>
                  <a:lnTo>
                    <a:pt x="1794" y="194"/>
                  </a:lnTo>
                  <a:lnTo>
                    <a:pt x="1801" y="175"/>
                  </a:lnTo>
                  <a:lnTo>
                    <a:pt x="1850" y="192"/>
                  </a:lnTo>
                  <a:lnTo>
                    <a:pt x="1857" y="175"/>
                  </a:lnTo>
                  <a:lnTo>
                    <a:pt x="1868" y="212"/>
                  </a:lnTo>
                  <a:lnTo>
                    <a:pt x="1893" y="215"/>
                  </a:lnTo>
                  <a:lnTo>
                    <a:pt x="1871" y="198"/>
                  </a:lnTo>
                  <a:lnTo>
                    <a:pt x="1917" y="192"/>
                  </a:lnTo>
                  <a:lnTo>
                    <a:pt x="1974" y="197"/>
                  </a:lnTo>
                  <a:lnTo>
                    <a:pt x="1970" y="214"/>
                  </a:lnTo>
                  <a:lnTo>
                    <a:pt x="2020" y="225"/>
                  </a:lnTo>
                  <a:lnTo>
                    <a:pt x="2064" y="220"/>
                  </a:lnTo>
                  <a:lnTo>
                    <a:pt x="2067" y="188"/>
                  </a:lnTo>
                  <a:lnTo>
                    <a:pt x="2078" y="183"/>
                  </a:lnTo>
                  <a:lnTo>
                    <a:pt x="2189" y="220"/>
                  </a:lnTo>
                  <a:lnTo>
                    <a:pt x="2175" y="282"/>
                  </a:lnTo>
                  <a:lnTo>
                    <a:pt x="2226" y="322"/>
                  </a:lnTo>
                  <a:lnTo>
                    <a:pt x="2253" y="267"/>
                  </a:lnTo>
                  <a:lnTo>
                    <a:pt x="2274" y="293"/>
                  </a:lnTo>
                  <a:lnTo>
                    <a:pt x="2310" y="282"/>
                  </a:lnTo>
                  <a:lnTo>
                    <a:pt x="2359" y="302"/>
                  </a:lnTo>
                  <a:lnTo>
                    <a:pt x="2398" y="291"/>
                  </a:lnTo>
                  <a:lnTo>
                    <a:pt x="2394" y="267"/>
                  </a:lnTo>
                  <a:lnTo>
                    <a:pt x="2420" y="229"/>
                  </a:lnTo>
                  <a:lnTo>
                    <a:pt x="2585" y="256"/>
                  </a:lnTo>
                  <a:lnTo>
                    <a:pt x="2598" y="273"/>
                  </a:lnTo>
                  <a:lnTo>
                    <a:pt x="2578" y="280"/>
                  </a:lnTo>
                  <a:lnTo>
                    <a:pt x="2630" y="291"/>
                  </a:lnTo>
                  <a:lnTo>
                    <a:pt x="2649" y="318"/>
                  </a:lnTo>
                  <a:lnTo>
                    <a:pt x="2774" y="313"/>
                  </a:lnTo>
                  <a:lnTo>
                    <a:pt x="2797" y="335"/>
                  </a:lnTo>
                  <a:lnTo>
                    <a:pt x="2790" y="361"/>
                  </a:lnTo>
                  <a:lnTo>
                    <a:pt x="2824" y="378"/>
                  </a:lnTo>
                  <a:lnTo>
                    <a:pt x="2844" y="364"/>
                  </a:lnTo>
                  <a:lnTo>
                    <a:pt x="2932" y="373"/>
                  </a:lnTo>
                  <a:lnTo>
                    <a:pt x="2952" y="361"/>
                  </a:lnTo>
                  <a:lnTo>
                    <a:pt x="2961" y="383"/>
                  </a:lnTo>
                  <a:lnTo>
                    <a:pt x="2997" y="403"/>
                  </a:lnTo>
                  <a:lnTo>
                    <a:pt x="3016" y="391"/>
                  </a:lnTo>
                  <a:lnTo>
                    <a:pt x="2996" y="369"/>
                  </a:lnTo>
                  <a:lnTo>
                    <a:pt x="3008" y="350"/>
                  </a:lnTo>
                  <a:lnTo>
                    <a:pt x="3162" y="377"/>
                  </a:lnTo>
                  <a:lnTo>
                    <a:pt x="3265" y="448"/>
                  </a:lnTo>
                  <a:lnTo>
                    <a:pt x="3286" y="448"/>
                  </a:lnTo>
                  <a:lnTo>
                    <a:pt x="3313" y="501"/>
                  </a:lnTo>
                  <a:lnTo>
                    <a:pt x="3303" y="473"/>
                  </a:lnTo>
                  <a:lnTo>
                    <a:pt x="3318" y="470"/>
                  </a:lnTo>
                  <a:lnTo>
                    <a:pt x="3327" y="482"/>
                  </a:lnTo>
                  <a:lnTo>
                    <a:pt x="3359" y="477"/>
                  </a:lnTo>
                  <a:lnTo>
                    <a:pt x="3399" y="508"/>
                  </a:lnTo>
                  <a:lnTo>
                    <a:pt x="3340" y="542"/>
                  </a:lnTo>
                  <a:lnTo>
                    <a:pt x="3352" y="550"/>
                  </a:lnTo>
                  <a:lnTo>
                    <a:pt x="3333" y="561"/>
                  </a:lnTo>
                  <a:lnTo>
                    <a:pt x="3348" y="573"/>
                  </a:lnTo>
                  <a:lnTo>
                    <a:pt x="3313" y="575"/>
                  </a:lnTo>
                  <a:lnTo>
                    <a:pt x="3301" y="552"/>
                  </a:lnTo>
                  <a:lnTo>
                    <a:pt x="3287" y="561"/>
                  </a:lnTo>
                  <a:lnTo>
                    <a:pt x="3265" y="528"/>
                  </a:lnTo>
                  <a:lnTo>
                    <a:pt x="3226" y="530"/>
                  </a:lnTo>
                  <a:lnTo>
                    <a:pt x="3215" y="511"/>
                  </a:lnTo>
                  <a:lnTo>
                    <a:pt x="3224" y="501"/>
                  </a:lnTo>
                  <a:lnTo>
                    <a:pt x="3207" y="501"/>
                  </a:lnTo>
                  <a:lnTo>
                    <a:pt x="3196" y="508"/>
                  </a:lnTo>
                  <a:lnTo>
                    <a:pt x="3207" y="532"/>
                  </a:lnTo>
                  <a:lnTo>
                    <a:pt x="3198" y="545"/>
                  </a:lnTo>
                  <a:lnTo>
                    <a:pt x="3166" y="567"/>
                  </a:lnTo>
                  <a:lnTo>
                    <a:pt x="3142" y="561"/>
                  </a:lnTo>
                  <a:lnTo>
                    <a:pt x="3183" y="626"/>
                  </a:lnTo>
                  <a:lnTo>
                    <a:pt x="3175" y="651"/>
                  </a:lnTo>
                  <a:lnTo>
                    <a:pt x="3134" y="631"/>
                  </a:lnTo>
                  <a:lnTo>
                    <a:pt x="3137" y="645"/>
                  </a:lnTo>
                  <a:lnTo>
                    <a:pt x="3065" y="673"/>
                  </a:lnTo>
                  <a:lnTo>
                    <a:pt x="3001" y="738"/>
                  </a:lnTo>
                  <a:lnTo>
                    <a:pt x="2958" y="714"/>
                  </a:lnTo>
                  <a:lnTo>
                    <a:pt x="2918" y="741"/>
                  </a:lnTo>
                  <a:lnTo>
                    <a:pt x="2918" y="717"/>
                  </a:lnTo>
                  <a:lnTo>
                    <a:pt x="2894" y="742"/>
                  </a:lnTo>
                  <a:lnTo>
                    <a:pt x="2867" y="739"/>
                  </a:lnTo>
                  <a:lnTo>
                    <a:pt x="2836" y="801"/>
                  </a:lnTo>
                  <a:lnTo>
                    <a:pt x="2859" y="814"/>
                  </a:lnTo>
                  <a:lnTo>
                    <a:pt x="2850" y="834"/>
                  </a:lnTo>
                  <a:lnTo>
                    <a:pt x="2859" y="868"/>
                  </a:lnTo>
                  <a:lnTo>
                    <a:pt x="2841" y="860"/>
                  </a:lnTo>
                  <a:lnTo>
                    <a:pt x="2829" y="889"/>
                  </a:lnTo>
                  <a:lnTo>
                    <a:pt x="2837" y="916"/>
                  </a:lnTo>
                  <a:lnTo>
                    <a:pt x="2794" y="936"/>
                  </a:lnTo>
                  <a:lnTo>
                    <a:pt x="2797" y="964"/>
                  </a:lnTo>
                  <a:lnTo>
                    <a:pt x="2768" y="972"/>
                  </a:lnTo>
                  <a:lnTo>
                    <a:pt x="2760" y="1004"/>
                  </a:lnTo>
                  <a:lnTo>
                    <a:pt x="2734" y="1035"/>
                  </a:lnTo>
                  <a:lnTo>
                    <a:pt x="2711" y="916"/>
                  </a:lnTo>
                  <a:lnTo>
                    <a:pt x="2716" y="848"/>
                  </a:lnTo>
                  <a:lnTo>
                    <a:pt x="2734" y="810"/>
                  </a:lnTo>
                  <a:lnTo>
                    <a:pt x="2765" y="803"/>
                  </a:lnTo>
                  <a:lnTo>
                    <a:pt x="2836" y="719"/>
                  </a:lnTo>
                  <a:lnTo>
                    <a:pt x="2870" y="704"/>
                  </a:lnTo>
                  <a:lnTo>
                    <a:pt x="2879" y="655"/>
                  </a:lnTo>
                  <a:lnTo>
                    <a:pt x="2894" y="645"/>
                  </a:lnTo>
                  <a:lnTo>
                    <a:pt x="2868" y="645"/>
                  </a:lnTo>
                  <a:lnTo>
                    <a:pt x="2859" y="680"/>
                  </a:lnTo>
                  <a:lnTo>
                    <a:pt x="2801" y="714"/>
                  </a:lnTo>
                  <a:lnTo>
                    <a:pt x="2804" y="666"/>
                  </a:lnTo>
                  <a:lnTo>
                    <a:pt x="2742" y="676"/>
                  </a:lnTo>
                  <a:lnTo>
                    <a:pt x="2681" y="741"/>
                  </a:lnTo>
                  <a:lnTo>
                    <a:pt x="2695" y="766"/>
                  </a:lnTo>
                  <a:lnTo>
                    <a:pt x="2627" y="775"/>
                  </a:lnTo>
                  <a:lnTo>
                    <a:pt x="2619" y="767"/>
                  </a:lnTo>
                  <a:lnTo>
                    <a:pt x="2641" y="762"/>
                  </a:lnTo>
                  <a:lnTo>
                    <a:pt x="2587" y="745"/>
                  </a:lnTo>
                  <a:lnTo>
                    <a:pt x="2572" y="762"/>
                  </a:lnTo>
                  <a:lnTo>
                    <a:pt x="2450" y="762"/>
                  </a:lnTo>
                  <a:lnTo>
                    <a:pt x="2303" y="913"/>
                  </a:lnTo>
                  <a:lnTo>
                    <a:pt x="2335" y="917"/>
                  </a:lnTo>
                  <a:lnTo>
                    <a:pt x="2335" y="945"/>
                  </a:lnTo>
                  <a:lnTo>
                    <a:pt x="2351" y="928"/>
                  </a:lnTo>
                  <a:lnTo>
                    <a:pt x="2344" y="951"/>
                  </a:lnTo>
                  <a:lnTo>
                    <a:pt x="2369" y="939"/>
                  </a:lnTo>
                  <a:lnTo>
                    <a:pt x="2366" y="953"/>
                  </a:lnTo>
                  <a:lnTo>
                    <a:pt x="2373" y="928"/>
                  </a:lnTo>
                  <a:lnTo>
                    <a:pt x="2394" y="928"/>
                  </a:lnTo>
                  <a:lnTo>
                    <a:pt x="2425" y="959"/>
                  </a:lnTo>
                  <a:lnTo>
                    <a:pt x="2398" y="962"/>
                  </a:lnTo>
                  <a:lnTo>
                    <a:pt x="2421" y="973"/>
                  </a:lnTo>
                  <a:lnTo>
                    <a:pt x="2428" y="995"/>
                  </a:lnTo>
                  <a:lnTo>
                    <a:pt x="2408" y="1040"/>
                  </a:lnTo>
                  <a:lnTo>
                    <a:pt x="2404" y="1110"/>
                  </a:lnTo>
                  <a:lnTo>
                    <a:pt x="2301" y="1258"/>
                  </a:lnTo>
                  <a:lnTo>
                    <a:pt x="2266" y="1278"/>
                  </a:lnTo>
                  <a:lnTo>
                    <a:pt x="2237" y="1258"/>
                  </a:lnTo>
                  <a:lnTo>
                    <a:pt x="2213" y="1286"/>
                  </a:lnTo>
                  <a:lnTo>
                    <a:pt x="2210" y="1282"/>
                  </a:lnTo>
                  <a:lnTo>
                    <a:pt x="2224" y="1258"/>
                  </a:lnTo>
                  <a:lnTo>
                    <a:pt x="2219" y="1221"/>
                  </a:lnTo>
                  <a:lnTo>
                    <a:pt x="2261" y="1207"/>
                  </a:lnTo>
                  <a:lnTo>
                    <a:pt x="2295" y="1110"/>
                  </a:lnTo>
                  <a:lnTo>
                    <a:pt x="2222" y="1131"/>
                  </a:lnTo>
                  <a:lnTo>
                    <a:pt x="2210" y="1096"/>
                  </a:lnTo>
                  <a:lnTo>
                    <a:pt x="2149" y="1074"/>
                  </a:lnTo>
                  <a:lnTo>
                    <a:pt x="2113" y="970"/>
                  </a:lnTo>
                  <a:lnTo>
                    <a:pt x="2072" y="953"/>
                  </a:lnTo>
                  <a:lnTo>
                    <a:pt x="2001" y="981"/>
                  </a:lnTo>
                  <a:lnTo>
                    <a:pt x="2014" y="1003"/>
                  </a:lnTo>
                  <a:lnTo>
                    <a:pt x="1984" y="1060"/>
                  </a:lnTo>
                  <a:lnTo>
                    <a:pt x="1956" y="1075"/>
                  </a:lnTo>
                  <a:lnTo>
                    <a:pt x="1927" y="1063"/>
                  </a:lnTo>
                  <a:lnTo>
                    <a:pt x="1891" y="1057"/>
                  </a:lnTo>
                  <a:lnTo>
                    <a:pt x="1794" y="1085"/>
                  </a:lnTo>
                  <a:lnTo>
                    <a:pt x="1713" y="1046"/>
                  </a:lnTo>
                  <a:lnTo>
                    <a:pt x="1661" y="1051"/>
                  </a:lnTo>
                  <a:lnTo>
                    <a:pt x="1640" y="1017"/>
                  </a:lnTo>
                  <a:lnTo>
                    <a:pt x="1587" y="995"/>
                  </a:lnTo>
                  <a:lnTo>
                    <a:pt x="1559" y="1018"/>
                  </a:lnTo>
                  <a:lnTo>
                    <a:pt x="1558" y="1063"/>
                  </a:lnTo>
                  <a:lnTo>
                    <a:pt x="1438" y="1043"/>
                  </a:lnTo>
                  <a:lnTo>
                    <a:pt x="1359" y="1092"/>
                  </a:lnTo>
                  <a:lnTo>
                    <a:pt x="1321" y="1111"/>
                  </a:lnTo>
                  <a:lnTo>
                    <a:pt x="1314" y="1151"/>
                  </a:lnTo>
                  <a:lnTo>
                    <a:pt x="1262" y="1148"/>
                  </a:lnTo>
                  <a:lnTo>
                    <a:pt x="1250" y="1204"/>
                  </a:lnTo>
                  <a:lnTo>
                    <a:pt x="1202" y="1216"/>
                  </a:lnTo>
                  <a:lnTo>
                    <a:pt x="1218" y="1258"/>
                  </a:lnTo>
                  <a:lnTo>
                    <a:pt x="1206" y="1295"/>
                  </a:lnTo>
                  <a:lnTo>
                    <a:pt x="1130" y="1344"/>
                  </a:lnTo>
                  <a:lnTo>
                    <a:pt x="1083" y="1353"/>
                  </a:lnTo>
                  <a:lnTo>
                    <a:pt x="1078" y="1385"/>
                  </a:lnTo>
                  <a:lnTo>
                    <a:pt x="1099" y="1396"/>
                  </a:lnTo>
                  <a:lnTo>
                    <a:pt x="1099" y="1429"/>
                  </a:lnTo>
                  <a:lnTo>
                    <a:pt x="1073" y="1423"/>
                  </a:lnTo>
                  <a:lnTo>
                    <a:pt x="1038" y="1443"/>
                  </a:lnTo>
                  <a:lnTo>
                    <a:pt x="1022" y="1396"/>
                  </a:lnTo>
                  <a:lnTo>
                    <a:pt x="991" y="1432"/>
                  </a:lnTo>
                  <a:lnTo>
                    <a:pt x="905" y="1429"/>
                  </a:lnTo>
                  <a:lnTo>
                    <a:pt x="861" y="1483"/>
                  </a:lnTo>
                  <a:lnTo>
                    <a:pt x="832" y="1466"/>
                  </a:lnTo>
                  <a:lnTo>
                    <a:pt x="828" y="1446"/>
                  </a:lnTo>
                  <a:lnTo>
                    <a:pt x="747" y="1398"/>
                  </a:lnTo>
                  <a:lnTo>
                    <a:pt x="684" y="1423"/>
                  </a:lnTo>
                  <a:lnTo>
                    <a:pt x="686" y="1381"/>
                  </a:lnTo>
                  <a:lnTo>
                    <a:pt x="671" y="1370"/>
                  </a:lnTo>
                  <a:lnTo>
                    <a:pt x="683" y="1357"/>
                  </a:lnTo>
                  <a:lnTo>
                    <a:pt x="662" y="1354"/>
                  </a:lnTo>
                  <a:lnTo>
                    <a:pt x="662" y="1322"/>
                  </a:lnTo>
                  <a:lnTo>
                    <a:pt x="691" y="1334"/>
                  </a:lnTo>
                  <a:lnTo>
                    <a:pt x="700" y="1322"/>
                  </a:lnTo>
                  <a:lnTo>
                    <a:pt x="675" y="1295"/>
                  </a:lnTo>
                  <a:lnTo>
                    <a:pt x="662" y="1319"/>
                  </a:lnTo>
                  <a:lnTo>
                    <a:pt x="660" y="1274"/>
                  </a:lnTo>
                  <a:lnTo>
                    <a:pt x="632" y="1263"/>
                  </a:lnTo>
                  <a:lnTo>
                    <a:pt x="609" y="1224"/>
                  </a:lnTo>
                  <a:lnTo>
                    <a:pt x="636" y="1224"/>
                  </a:lnTo>
                  <a:lnTo>
                    <a:pt x="635" y="1207"/>
                  </a:lnTo>
                  <a:lnTo>
                    <a:pt x="651" y="1198"/>
                  </a:lnTo>
                  <a:lnTo>
                    <a:pt x="700" y="1207"/>
                  </a:lnTo>
                  <a:lnTo>
                    <a:pt x="660" y="1148"/>
                  </a:lnTo>
                  <a:lnTo>
                    <a:pt x="578" y="1162"/>
                  </a:lnTo>
                  <a:lnTo>
                    <a:pt x="587" y="1170"/>
                  </a:lnTo>
                  <a:lnTo>
                    <a:pt x="568" y="1184"/>
                  </a:lnTo>
                  <a:lnTo>
                    <a:pt x="557" y="1172"/>
                  </a:lnTo>
                  <a:lnTo>
                    <a:pt x="541" y="1229"/>
                  </a:lnTo>
                  <a:lnTo>
                    <a:pt x="559" y="1243"/>
                  </a:lnTo>
                  <a:lnTo>
                    <a:pt x="572" y="1299"/>
                  </a:lnTo>
                  <a:lnTo>
                    <a:pt x="613" y="1344"/>
                  </a:lnTo>
                  <a:lnTo>
                    <a:pt x="597" y="1348"/>
                  </a:lnTo>
                  <a:lnTo>
                    <a:pt x="584" y="1393"/>
                  </a:lnTo>
                  <a:lnTo>
                    <a:pt x="566" y="1385"/>
                  </a:lnTo>
                  <a:lnTo>
                    <a:pt x="563" y="1362"/>
                  </a:lnTo>
                  <a:lnTo>
                    <a:pt x="528" y="1384"/>
                  </a:lnTo>
                  <a:lnTo>
                    <a:pt x="499" y="1357"/>
                  </a:lnTo>
                  <a:lnTo>
                    <a:pt x="463" y="1308"/>
                  </a:lnTo>
                  <a:lnTo>
                    <a:pt x="437" y="1308"/>
                  </a:lnTo>
                  <a:lnTo>
                    <a:pt x="434" y="1274"/>
                  </a:lnTo>
                  <a:lnTo>
                    <a:pt x="342" y="1206"/>
                  </a:lnTo>
                  <a:lnTo>
                    <a:pt x="377" y="1179"/>
                  </a:lnTo>
                  <a:lnTo>
                    <a:pt x="364" y="1162"/>
                  </a:lnTo>
                  <a:lnTo>
                    <a:pt x="389" y="1144"/>
                  </a:lnTo>
                  <a:lnTo>
                    <a:pt x="312" y="1168"/>
                  </a:lnTo>
                  <a:lnTo>
                    <a:pt x="306" y="1184"/>
                  </a:lnTo>
                  <a:lnTo>
                    <a:pt x="283" y="1175"/>
                  </a:lnTo>
                  <a:lnTo>
                    <a:pt x="310" y="1201"/>
                  </a:lnTo>
                  <a:lnTo>
                    <a:pt x="342" y="1198"/>
                  </a:lnTo>
                  <a:lnTo>
                    <a:pt x="288" y="1229"/>
                  </a:lnTo>
                  <a:lnTo>
                    <a:pt x="259" y="1198"/>
                  </a:lnTo>
                  <a:lnTo>
                    <a:pt x="282" y="1179"/>
                  </a:lnTo>
                  <a:lnTo>
                    <a:pt x="245" y="1175"/>
                  </a:lnTo>
                  <a:lnTo>
                    <a:pt x="248" y="1158"/>
                  </a:lnTo>
                  <a:lnTo>
                    <a:pt x="211" y="1170"/>
                  </a:lnTo>
                  <a:lnTo>
                    <a:pt x="201" y="1199"/>
                  </a:lnTo>
                  <a:lnTo>
                    <a:pt x="171" y="1198"/>
                  </a:lnTo>
                  <a:lnTo>
                    <a:pt x="169" y="1158"/>
                  </a:lnTo>
                  <a:lnTo>
                    <a:pt x="142" y="1114"/>
                  </a:lnTo>
                  <a:lnTo>
                    <a:pt x="64" y="1123"/>
                  </a:lnTo>
                  <a:lnTo>
                    <a:pt x="50" y="1110"/>
                  </a:lnTo>
                  <a:lnTo>
                    <a:pt x="56" y="1089"/>
                  </a:lnTo>
                  <a:lnTo>
                    <a:pt x="89" y="1043"/>
                  </a:lnTo>
                  <a:lnTo>
                    <a:pt x="72" y="990"/>
                  </a:lnTo>
                  <a:lnTo>
                    <a:pt x="86" y="976"/>
                  </a:lnTo>
                  <a:lnTo>
                    <a:pt x="78" y="934"/>
                  </a:lnTo>
                  <a:lnTo>
                    <a:pt x="0" y="9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673360" y="2286000"/>
            <a:ext cx="4979880" cy="2354400"/>
            <a:chOff x="2673360" y="2286000"/>
            <a:chExt cx="4979880" cy="2354400"/>
          </a:xfrm>
        </p:grpSpPr>
        <p:sp>
          <p:nvSpPr>
            <p:cNvPr id="152" name=""/>
            <p:cNvSpPr/>
            <p:nvPr/>
          </p:nvSpPr>
          <p:spPr>
            <a:xfrm>
              <a:off x="2673360" y="2286000"/>
              <a:ext cx="4979880" cy="2354400"/>
            </a:xfrm>
            <a:custGeom>
              <a:avLst/>
              <a:gdLst/>
              <a:ahLst/>
              <a:rect l="l" t="t" r="r" b="b"/>
              <a:pathLst>
                <a:path w="3399" h="1483">
                  <a:moveTo>
                    <a:pt x="0" y="920"/>
                  </a:moveTo>
                  <a:lnTo>
                    <a:pt x="29" y="893"/>
                  </a:lnTo>
                  <a:lnTo>
                    <a:pt x="21" y="903"/>
                  </a:lnTo>
                  <a:lnTo>
                    <a:pt x="31" y="907"/>
                  </a:lnTo>
                  <a:lnTo>
                    <a:pt x="29" y="846"/>
                  </a:lnTo>
                  <a:lnTo>
                    <a:pt x="40" y="818"/>
                  </a:lnTo>
                  <a:lnTo>
                    <a:pt x="59" y="814"/>
                  </a:lnTo>
                  <a:lnTo>
                    <a:pt x="90" y="840"/>
                  </a:lnTo>
                  <a:lnTo>
                    <a:pt x="98" y="790"/>
                  </a:lnTo>
                  <a:lnTo>
                    <a:pt x="82" y="792"/>
                  </a:lnTo>
                  <a:lnTo>
                    <a:pt x="78" y="761"/>
                  </a:lnTo>
                  <a:lnTo>
                    <a:pt x="211" y="736"/>
                  </a:lnTo>
                  <a:lnTo>
                    <a:pt x="179" y="722"/>
                  </a:lnTo>
                  <a:lnTo>
                    <a:pt x="181" y="708"/>
                  </a:lnTo>
                  <a:lnTo>
                    <a:pt x="160" y="714"/>
                  </a:lnTo>
                  <a:lnTo>
                    <a:pt x="236" y="638"/>
                  </a:lnTo>
                  <a:lnTo>
                    <a:pt x="202" y="558"/>
                  </a:lnTo>
                  <a:lnTo>
                    <a:pt x="210" y="521"/>
                  </a:lnTo>
                  <a:lnTo>
                    <a:pt x="192" y="477"/>
                  </a:lnTo>
                  <a:lnTo>
                    <a:pt x="207" y="449"/>
                  </a:lnTo>
                  <a:lnTo>
                    <a:pt x="179" y="418"/>
                  </a:lnTo>
                  <a:lnTo>
                    <a:pt x="189" y="392"/>
                  </a:lnTo>
                  <a:lnTo>
                    <a:pt x="224" y="361"/>
                  </a:lnTo>
                  <a:lnTo>
                    <a:pt x="245" y="355"/>
                  </a:lnTo>
                  <a:lnTo>
                    <a:pt x="269" y="364"/>
                  </a:lnTo>
                  <a:lnTo>
                    <a:pt x="248" y="372"/>
                  </a:lnTo>
                  <a:lnTo>
                    <a:pt x="266" y="383"/>
                  </a:lnTo>
                  <a:lnTo>
                    <a:pt x="323" y="386"/>
                  </a:lnTo>
                  <a:lnTo>
                    <a:pt x="426" y="449"/>
                  </a:lnTo>
                  <a:lnTo>
                    <a:pt x="430" y="483"/>
                  </a:lnTo>
                  <a:lnTo>
                    <a:pt x="385" y="511"/>
                  </a:lnTo>
                  <a:lnTo>
                    <a:pt x="248" y="473"/>
                  </a:lnTo>
                  <a:lnTo>
                    <a:pt x="304" y="519"/>
                  </a:lnTo>
                  <a:lnTo>
                    <a:pt x="301" y="573"/>
                  </a:lnTo>
                  <a:lnTo>
                    <a:pt x="360" y="598"/>
                  </a:lnTo>
                  <a:lnTo>
                    <a:pt x="373" y="595"/>
                  </a:lnTo>
                  <a:lnTo>
                    <a:pt x="365" y="573"/>
                  </a:lnTo>
                  <a:lnTo>
                    <a:pt x="342" y="563"/>
                  </a:lnTo>
                  <a:lnTo>
                    <a:pt x="346" y="545"/>
                  </a:lnTo>
                  <a:lnTo>
                    <a:pt x="370" y="567"/>
                  </a:lnTo>
                  <a:lnTo>
                    <a:pt x="426" y="573"/>
                  </a:lnTo>
                  <a:lnTo>
                    <a:pt x="403" y="528"/>
                  </a:lnTo>
                  <a:lnTo>
                    <a:pt x="452" y="493"/>
                  </a:lnTo>
                  <a:lnTo>
                    <a:pt x="490" y="519"/>
                  </a:lnTo>
                  <a:lnTo>
                    <a:pt x="490" y="420"/>
                  </a:lnTo>
                  <a:lnTo>
                    <a:pt x="472" y="406"/>
                  </a:lnTo>
                  <a:lnTo>
                    <a:pt x="535" y="428"/>
                  </a:lnTo>
                  <a:lnTo>
                    <a:pt x="540" y="442"/>
                  </a:lnTo>
                  <a:lnTo>
                    <a:pt x="507" y="457"/>
                  </a:lnTo>
                  <a:lnTo>
                    <a:pt x="540" y="488"/>
                  </a:lnTo>
                  <a:lnTo>
                    <a:pt x="567" y="449"/>
                  </a:lnTo>
                  <a:lnTo>
                    <a:pt x="682" y="397"/>
                  </a:lnTo>
                  <a:lnTo>
                    <a:pt x="699" y="395"/>
                  </a:lnTo>
                  <a:lnTo>
                    <a:pt x="682" y="401"/>
                  </a:lnTo>
                  <a:lnTo>
                    <a:pt x="700" y="428"/>
                  </a:lnTo>
                  <a:lnTo>
                    <a:pt x="785" y="395"/>
                  </a:lnTo>
                  <a:lnTo>
                    <a:pt x="801" y="420"/>
                  </a:lnTo>
                  <a:lnTo>
                    <a:pt x="823" y="398"/>
                  </a:lnTo>
                  <a:lnTo>
                    <a:pt x="812" y="369"/>
                  </a:lnTo>
                  <a:lnTo>
                    <a:pt x="823" y="360"/>
                  </a:lnTo>
                  <a:lnTo>
                    <a:pt x="888" y="372"/>
                  </a:lnTo>
                  <a:lnTo>
                    <a:pt x="970" y="426"/>
                  </a:lnTo>
                  <a:lnTo>
                    <a:pt x="987" y="400"/>
                  </a:lnTo>
                  <a:lnTo>
                    <a:pt x="967" y="372"/>
                  </a:lnTo>
                  <a:lnTo>
                    <a:pt x="943" y="367"/>
                  </a:lnTo>
                  <a:lnTo>
                    <a:pt x="954" y="322"/>
                  </a:lnTo>
                  <a:lnTo>
                    <a:pt x="935" y="318"/>
                  </a:lnTo>
                  <a:lnTo>
                    <a:pt x="941" y="298"/>
                  </a:lnTo>
                  <a:lnTo>
                    <a:pt x="973" y="276"/>
                  </a:lnTo>
                  <a:lnTo>
                    <a:pt x="991" y="225"/>
                  </a:lnTo>
                  <a:lnTo>
                    <a:pt x="1037" y="226"/>
                  </a:lnTo>
                  <a:lnTo>
                    <a:pt x="1057" y="234"/>
                  </a:lnTo>
                  <a:lnTo>
                    <a:pt x="1040" y="288"/>
                  </a:lnTo>
                  <a:lnTo>
                    <a:pt x="1060" y="316"/>
                  </a:lnTo>
                  <a:lnTo>
                    <a:pt x="1052" y="392"/>
                  </a:lnTo>
                  <a:lnTo>
                    <a:pt x="1073" y="417"/>
                  </a:lnTo>
                  <a:lnTo>
                    <a:pt x="1065" y="446"/>
                  </a:lnTo>
                  <a:lnTo>
                    <a:pt x="1031" y="466"/>
                  </a:lnTo>
                  <a:lnTo>
                    <a:pt x="1043" y="476"/>
                  </a:lnTo>
                  <a:lnTo>
                    <a:pt x="1000" y="487"/>
                  </a:lnTo>
                  <a:lnTo>
                    <a:pt x="1046" y="505"/>
                  </a:lnTo>
                  <a:lnTo>
                    <a:pt x="1098" y="446"/>
                  </a:lnTo>
                  <a:lnTo>
                    <a:pt x="1091" y="406"/>
                  </a:lnTo>
                  <a:lnTo>
                    <a:pt x="1110" y="400"/>
                  </a:lnTo>
                  <a:lnTo>
                    <a:pt x="1134" y="395"/>
                  </a:lnTo>
                  <a:lnTo>
                    <a:pt x="1151" y="415"/>
                  </a:lnTo>
                  <a:lnTo>
                    <a:pt x="1147" y="445"/>
                  </a:lnTo>
                  <a:lnTo>
                    <a:pt x="1183" y="451"/>
                  </a:lnTo>
                  <a:lnTo>
                    <a:pt x="1155" y="443"/>
                  </a:lnTo>
                  <a:lnTo>
                    <a:pt x="1167" y="425"/>
                  </a:lnTo>
                  <a:lnTo>
                    <a:pt x="1156" y="400"/>
                  </a:lnTo>
                  <a:lnTo>
                    <a:pt x="1078" y="386"/>
                  </a:lnTo>
                  <a:lnTo>
                    <a:pt x="1090" y="325"/>
                  </a:lnTo>
                  <a:lnTo>
                    <a:pt x="1064" y="287"/>
                  </a:lnTo>
                  <a:lnTo>
                    <a:pt x="1103" y="254"/>
                  </a:lnTo>
                  <a:lnTo>
                    <a:pt x="1099" y="231"/>
                  </a:lnTo>
                  <a:lnTo>
                    <a:pt x="1115" y="243"/>
                  </a:lnTo>
                  <a:lnTo>
                    <a:pt x="1107" y="293"/>
                  </a:lnTo>
                  <a:lnTo>
                    <a:pt x="1120" y="298"/>
                  </a:lnTo>
                  <a:lnTo>
                    <a:pt x="1172" y="313"/>
                  </a:lnTo>
                  <a:lnTo>
                    <a:pt x="1125" y="273"/>
                  </a:lnTo>
                  <a:lnTo>
                    <a:pt x="1160" y="274"/>
                  </a:lnTo>
                  <a:lnTo>
                    <a:pt x="1153" y="260"/>
                  </a:lnTo>
                  <a:lnTo>
                    <a:pt x="1172" y="251"/>
                  </a:lnTo>
                  <a:lnTo>
                    <a:pt x="1269" y="282"/>
                  </a:lnTo>
                  <a:lnTo>
                    <a:pt x="1250" y="302"/>
                  </a:lnTo>
                  <a:lnTo>
                    <a:pt x="1248" y="333"/>
                  </a:lnTo>
                  <a:lnTo>
                    <a:pt x="1267" y="350"/>
                  </a:lnTo>
                  <a:lnTo>
                    <a:pt x="1276" y="282"/>
                  </a:lnTo>
                  <a:lnTo>
                    <a:pt x="1223" y="248"/>
                  </a:lnTo>
                  <a:lnTo>
                    <a:pt x="1214" y="197"/>
                  </a:lnTo>
                  <a:lnTo>
                    <a:pt x="1335" y="183"/>
                  </a:lnTo>
                  <a:lnTo>
                    <a:pt x="1321" y="138"/>
                  </a:lnTo>
                  <a:lnTo>
                    <a:pt x="1335" y="147"/>
                  </a:lnTo>
                  <a:lnTo>
                    <a:pt x="1356" y="129"/>
                  </a:lnTo>
                  <a:lnTo>
                    <a:pt x="1342" y="124"/>
                  </a:lnTo>
                  <a:lnTo>
                    <a:pt x="1469" y="91"/>
                  </a:lnTo>
                  <a:lnTo>
                    <a:pt x="1459" y="81"/>
                  </a:lnTo>
                  <a:lnTo>
                    <a:pt x="1518" y="76"/>
                  </a:lnTo>
                  <a:lnTo>
                    <a:pt x="1515" y="90"/>
                  </a:lnTo>
                  <a:lnTo>
                    <a:pt x="1531" y="90"/>
                  </a:lnTo>
                  <a:lnTo>
                    <a:pt x="1575" y="70"/>
                  </a:lnTo>
                  <a:lnTo>
                    <a:pt x="1595" y="82"/>
                  </a:lnTo>
                  <a:lnTo>
                    <a:pt x="1578" y="60"/>
                  </a:lnTo>
                  <a:lnTo>
                    <a:pt x="1625" y="56"/>
                  </a:lnTo>
                  <a:lnTo>
                    <a:pt x="1625" y="33"/>
                  </a:lnTo>
                  <a:lnTo>
                    <a:pt x="1683" y="0"/>
                  </a:lnTo>
                  <a:lnTo>
                    <a:pt x="1722" y="17"/>
                  </a:lnTo>
                  <a:lnTo>
                    <a:pt x="1687" y="37"/>
                  </a:lnTo>
                  <a:lnTo>
                    <a:pt x="1747" y="36"/>
                  </a:lnTo>
                  <a:lnTo>
                    <a:pt x="1724" y="60"/>
                  </a:lnTo>
                  <a:lnTo>
                    <a:pt x="1823" y="48"/>
                  </a:lnTo>
                  <a:lnTo>
                    <a:pt x="1876" y="90"/>
                  </a:lnTo>
                  <a:lnTo>
                    <a:pt x="1867" y="104"/>
                  </a:lnTo>
                  <a:lnTo>
                    <a:pt x="1850" y="91"/>
                  </a:lnTo>
                  <a:lnTo>
                    <a:pt x="1875" y="105"/>
                  </a:lnTo>
                  <a:lnTo>
                    <a:pt x="1862" y="127"/>
                  </a:lnTo>
                  <a:lnTo>
                    <a:pt x="1683" y="242"/>
                  </a:lnTo>
                  <a:lnTo>
                    <a:pt x="1739" y="228"/>
                  </a:lnTo>
                  <a:lnTo>
                    <a:pt x="1728" y="214"/>
                  </a:lnTo>
                  <a:lnTo>
                    <a:pt x="1817" y="192"/>
                  </a:lnTo>
                  <a:lnTo>
                    <a:pt x="1794" y="194"/>
                  </a:lnTo>
                  <a:lnTo>
                    <a:pt x="1801" y="175"/>
                  </a:lnTo>
                  <a:lnTo>
                    <a:pt x="1850" y="192"/>
                  </a:lnTo>
                  <a:lnTo>
                    <a:pt x="1857" y="175"/>
                  </a:lnTo>
                  <a:lnTo>
                    <a:pt x="1868" y="212"/>
                  </a:lnTo>
                  <a:lnTo>
                    <a:pt x="1893" y="215"/>
                  </a:lnTo>
                  <a:lnTo>
                    <a:pt x="1871" y="198"/>
                  </a:lnTo>
                  <a:lnTo>
                    <a:pt x="1917" y="192"/>
                  </a:lnTo>
                  <a:lnTo>
                    <a:pt x="1974" y="197"/>
                  </a:lnTo>
                  <a:lnTo>
                    <a:pt x="1970" y="214"/>
                  </a:lnTo>
                  <a:lnTo>
                    <a:pt x="2020" y="225"/>
                  </a:lnTo>
                  <a:lnTo>
                    <a:pt x="2064" y="220"/>
                  </a:lnTo>
                  <a:lnTo>
                    <a:pt x="2067" y="188"/>
                  </a:lnTo>
                  <a:lnTo>
                    <a:pt x="2078" y="183"/>
                  </a:lnTo>
                  <a:lnTo>
                    <a:pt x="2189" y="220"/>
                  </a:lnTo>
                  <a:lnTo>
                    <a:pt x="2175" y="282"/>
                  </a:lnTo>
                  <a:lnTo>
                    <a:pt x="2226" y="322"/>
                  </a:lnTo>
                  <a:lnTo>
                    <a:pt x="2253" y="267"/>
                  </a:lnTo>
                  <a:lnTo>
                    <a:pt x="2274" y="293"/>
                  </a:lnTo>
                  <a:lnTo>
                    <a:pt x="2310" y="282"/>
                  </a:lnTo>
                  <a:lnTo>
                    <a:pt x="2359" y="302"/>
                  </a:lnTo>
                  <a:lnTo>
                    <a:pt x="2398" y="291"/>
                  </a:lnTo>
                  <a:lnTo>
                    <a:pt x="2394" y="267"/>
                  </a:lnTo>
                  <a:lnTo>
                    <a:pt x="2420" y="229"/>
                  </a:lnTo>
                  <a:lnTo>
                    <a:pt x="2585" y="256"/>
                  </a:lnTo>
                  <a:lnTo>
                    <a:pt x="2598" y="273"/>
                  </a:lnTo>
                  <a:lnTo>
                    <a:pt x="2578" y="280"/>
                  </a:lnTo>
                  <a:lnTo>
                    <a:pt x="2630" y="291"/>
                  </a:lnTo>
                  <a:lnTo>
                    <a:pt x="2649" y="318"/>
                  </a:lnTo>
                  <a:lnTo>
                    <a:pt x="2774" y="313"/>
                  </a:lnTo>
                  <a:lnTo>
                    <a:pt x="2797" y="335"/>
                  </a:lnTo>
                  <a:lnTo>
                    <a:pt x="2790" y="361"/>
                  </a:lnTo>
                  <a:lnTo>
                    <a:pt x="2824" y="378"/>
                  </a:lnTo>
                  <a:lnTo>
                    <a:pt x="2844" y="364"/>
                  </a:lnTo>
                  <a:lnTo>
                    <a:pt x="2932" y="373"/>
                  </a:lnTo>
                  <a:lnTo>
                    <a:pt x="2952" y="361"/>
                  </a:lnTo>
                  <a:lnTo>
                    <a:pt x="2961" y="383"/>
                  </a:lnTo>
                  <a:lnTo>
                    <a:pt x="2997" y="403"/>
                  </a:lnTo>
                  <a:lnTo>
                    <a:pt x="3016" y="391"/>
                  </a:lnTo>
                  <a:lnTo>
                    <a:pt x="2996" y="369"/>
                  </a:lnTo>
                  <a:lnTo>
                    <a:pt x="3008" y="350"/>
                  </a:lnTo>
                  <a:lnTo>
                    <a:pt x="3162" y="377"/>
                  </a:lnTo>
                  <a:lnTo>
                    <a:pt x="3265" y="448"/>
                  </a:lnTo>
                  <a:lnTo>
                    <a:pt x="3286" y="448"/>
                  </a:lnTo>
                  <a:lnTo>
                    <a:pt x="3313" y="501"/>
                  </a:lnTo>
                  <a:lnTo>
                    <a:pt x="3303" y="473"/>
                  </a:lnTo>
                  <a:lnTo>
                    <a:pt x="3318" y="470"/>
                  </a:lnTo>
                  <a:lnTo>
                    <a:pt x="3327" y="482"/>
                  </a:lnTo>
                  <a:lnTo>
                    <a:pt x="3359" y="477"/>
                  </a:lnTo>
                  <a:lnTo>
                    <a:pt x="3399" y="508"/>
                  </a:lnTo>
                  <a:lnTo>
                    <a:pt x="3340" y="542"/>
                  </a:lnTo>
                  <a:lnTo>
                    <a:pt x="3352" y="550"/>
                  </a:lnTo>
                  <a:lnTo>
                    <a:pt x="3333" y="561"/>
                  </a:lnTo>
                  <a:lnTo>
                    <a:pt x="3348" y="573"/>
                  </a:lnTo>
                  <a:lnTo>
                    <a:pt x="3313" y="575"/>
                  </a:lnTo>
                  <a:lnTo>
                    <a:pt x="3301" y="552"/>
                  </a:lnTo>
                  <a:lnTo>
                    <a:pt x="3287" y="561"/>
                  </a:lnTo>
                  <a:lnTo>
                    <a:pt x="3265" y="528"/>
                  </a:lnTo>
                  <a:lnTo>
                    <a:pt x="3226" y="530"/>
                  </a:lnTo>
                  <a:lnTo>
                    <a:pt x="3215" y="511"/>
                  </a:lnTo>
                  <a:lnTo>
                    <a:pt x="3224" y="501"/>
                  </a:lnTo>
                  <a:lnTo>
                    <a:pt x="3207" y="501"/>
                  </a:lnTo>
                  <a:lnTo>
                    <a:pt x="3196" y="508"/>
                  </a:lnTo>
                  <a:lnTo>
                    <a:pt x="3207" y="532"/>
                  </a:lnTo>
                  <a:lnTo>
                    <a:pt x="3198" y="545"/>
                  </a:lnTo>
                  <a:lnTo>
                    <a:pt x="3166" y="567"/>
                  </a:lnTo>
                  <a:lnTo>
                    <a:pt x="3142" y="561"/>
                  </a:lnTo>
                  <a:lnTo>
                    <a:pt x="3183" y="626"/>
                  </a:lnTo>
                  <a:lnTo>
                    <a:pt x="3175" y="651"/>
                  </a:lnTo>
                  <a:lnTo>
                    <a:pt x="3134" y="631"/>
                  </a:lnTo>
                  <a:lnTo>
                    <a:pt x="3137" y="645"/>
                  </a:lnTo>
                  <a:lnTo>
                    <a:pt x="3065" y="673"/>
                  </a:lnTo>
                  <a:lnTo>
                    <a:pt x="3001" y="738"/>
                  </a:lnTo>
                  <a:lnTo>
                    <a:pt x="2958" y="714"/>
                  </a:lnTo>
                  <a:lnTo>
                    <a:pt x="2918" y="741"/>
                  </a:lnTo>
                  <a:lnTo>
                    <a:pt x="2918" y="717"/>
                  </a:lnTo>
                  <a:lnTo>
                    <a:pt x="2894" y="742"/>
                  </a:lnTo>
                  <a:lnTo>
                    <a:pt x="2867" y="739"/>
                  </a:lnTo>
                  <a:lnTo>
                    <a:pt x="2836" y="801"/>
                  </a:lnTo>
                  <a:lnTo>
                    <a:pt x="2859" y="814"/>
                  </a:lnTo>
                  <a:lnTo>
                    <a:pt x="2850" y="834"/>
                  </a:lnTo>
                  <a:lnTo>
                    <a:pt x="2859" y="868"/>
                  </a:lnTo>
                  <a:lnTo>
                    <a:pt x="2841" y="860"/>
                  </a:lnTo>
                  <a:lnTo>
                    <a:pt x="2829" y="889"/>
                  </a:lnTo>
                  <a:lnTo>
                    <a:pt x="2837" y="916"/>
                  </a:lnTo>
                  <a:lnTo>
                    <a:pt x="2794" y="936"/>
                  </a:lnTo>
                  <a:lnTo>
                    <a:pt x="2797" y="964"/>
                  </a:lnTo>
                  <a:lnTo>
                    <a:pt x="2768" y="972"/>
                  </a:lnTo>
                  <a:lnTo>
                    <a:pt x="2760" y="1004"/>
                  </a:lnTo>
                  <a:lnTo>
                    <a:pt x="2734" y="1035"/>
                  </a:lnTo>
                  <a:lnTo>
                    <a:pt x="2711" y="916"/>
                  </a:lnTo>
                  <a:lnTo>
                    <a:pt x="2716" y="848"/>
                  </a:lnTo>
                  <a:lnTo>
                    <a:pt x="2734" y="810"/>
                  </a:lnTo>
                  <a:lnTo>
                    <a:pt x="2765" y="803"/>
                  </a:lnTo>
                  <a:lnTo>
                    <a:pt x="2836" y="719"/>
                  </a:lnTo>
                  <a:lnTo>
                    <a:pt x="2870" y="704"/>
                  </a:lnTo>
                  <a:lnTo>
                    <a:pt x="2879" y="655"/>
                  </a:lnTo>
                  <a:lnTo>
                    <a:pt x="2894" y="645"/>
                  </a:lnTo>
                  <a:lnTo>
                    <a:pt x="2868" y="645"/>
                  </a:lnTo>
                  <a:lnTo>
                    <a:pt x="2859" y="680"/>
                  </a:lnTo>
                  <a:lnTo>
                    <a:pt x="2801" y="714"/>
                  </a:lnTo>
                  <a:lnTo>
                    <a:pt x="2804" y="666"/>
                  </a:lnTo>
                  <a:lnTo>
                    <a:pt x="2742" y="676"/>
                  </a:lnTo>
                  <a:lnTo>
                    <a:pt x="2681" y="741"/>
                  </a:lnTo>
                  <a:lnTo>
                    <a:pt x="2695" y="766"/>
                  </a:lnTo>
                  <a:lnTo>
                    <a:pt x="2627" y="775"/>
                  </a:lnTo>
                  <a:lnTo>
                    <a:pt x="2619" y="767"/>
                  </a:lnTo>
                  <a:lnTo>
                    <a:pt x="2641" y="762"/>
                  </a:lnTo>
                  <a:lnTo>
                    <a:pt x="2587" y="745"/>
                  </a:lnTo>
                  <a:lnTo>
                    <a:pt x="2572" y="762"/>
                  </a:lnTo>
                  <a:lnTo>
                    <a:pt x="2450" y="762"/>
                  </a:lnTo>
                  <a:lnTo>
                    <a:pt x="2303" y="913"/>
                  </a:lnTo>
                  <a:lnTo>
                    <a:pt x="2335" y="917"/>
                  </a:lnTo>
                  <a:lnTo>
                    <a:pt x="2335" y="945"/>
                  </a:lnTo>
                  <a:lnTo>
                    <a:pt x="2351" y="928"/>
                  </a:lnTo>
                  <a:lnTo>
                    <a:pt x="2344" y="951"/>
                  </a:lnTo>
                  <a:lnTo>
                    <a:pt x="2369" y="939"/>
                  </a:lnTo>
                  <a:lnTo>
                    <a:pt x="2366" y="953"/>
                  </a:lnTo>
                  <a:lnTo>
                    <a:pt x="2373" y="928"/>
                  </a:lnTo>
                  <a:lnTo>
                    <a:pt x="2394" y="928"/>
                  </a:lnTo>
                  <a:lnTo>
                    <a:pt x="2425" y="959"/>
                  </a:lnTo>
                  <a:lnTo>
                    <a:pt x="2398" y="962"/>
                  </a:lnTo>
                  <a:lnTo>
                    <a:pt x="2421" y="973"/>
                  </a:lnTo>
                  <a:lnTo>
                    <a:pt x="2428" y="995"/>
                  </a:lnTo>
                  <a:lnTo>
                    <a:pt x="2408" y="1040"/>
                  </a:lnTo>
                  <a:lnTo>
                    <a:pt x="2404" y="1110"/>
                  </a:lnTo>
                  <a:lnTo>
                    <a:pt x="2301" y="1258"/>
                  </a:lnTo>
                  <a:lnTo>
                    <a:pt x="2266" y="1278"/>
                  </a:lnTo>
                  <a:lnTo>
                    <a:pt x="2237" y="1258"/>
                  </a:lnTo>
                  <a:lnTo>
                    <a:pt x="2213" y="1286"/>
                  </a:lnTo>
                  <a:lnTo>
                    <a:pt x="2210" y="1282"/>
                  </a:lnTo>
                  <a:lnTo>
                    <a:pt x="2224" y="1258"/>
                  </a:lnTo>
                  <a:lnTo>
                    <a:pt x="2219" y="1221"/>
                  </a:lnTo>
                  <a:lnTo>
                    <a:pt x="2261" y="1207"/>
                  </a:lnTo>
                  <a:lnTo>
                    <a:pt x="2295" y="1110"/>
                  </a:lnTo>
                  <a:lnTo>
                    <a:pt x="2222" y="1131"/>
                  </a:lnTo>
                  <a:lnTo>
                    <a:pt x="2210" y="1096"/>
                  </a:lnTo>
                  <a:lnTo>
                    <a:pt x="2149" y="1074"/>
                  </a:lnTo>
                  <a:lnTo>
                    <a:pt x="2113" y="970"/>
                  </a:lnTo>
                  <a:lnTo>
                    <a:pt x="2072" y="953"/>
                  </a:lnTo>
                  <a:lnTo>
                    <a:pt x="2001" y="981"/>
                  </a:lnTo>
                  <a:lnTo>
                    <a:pt x="2014" y="1003"/>
                  </a:lnTo>
                  <a:lnTo>
                    <a:pt x="1984" y="1060"/>
                  </a:lnTo>
                  <a:lnTo>
                    <a:pt x="1956" y="1075"/>
                  </a:lnTo>
                  <a:lnTo>
                    <a:pt x="1927" y="1063"/>
                  </a:lnTo>
                  <a:lnTo>
                    <a:pt x="1891" y="1057"/>
                  </a:lnTo>
                  <a:lnTo>
                    <a:pt x="1794" y="1085"/>
                  </a:lnTo>
                  <a:lnTo>
                    <a:pt x="1713" y="1046"/>
                  </a:lnTo>
                  <a:lnTo>
                    <a:pt x="1661" y="1051"/>
                  </a:lnTo>
                  <a:lnTo>
                    <a:pt x="1640" y="1017"/>
                  </a:lnTo>
                  <a:lnTo>
                    <a:pt x="1587" y="995"/>
                  </a:lnTo>
                  <a:lnTo>
                    <a:pt x="1559" y="1018"/>
                  </a:lnTo>
                  <a:lnTo>
                    <a:pt x="1558" y="1063"/>
                  </a:lnTo>
                  <a:lnTo>
                    <a:pt x="1438" y="1043"/>
                  </a:lnTo>
                  <a:lnTo>
                    <a:pt x="1359" y="1092"/>
                  </a:lnTo>
                  <a:lnTo>
                    <a:pt x="1321" y="1111"/>
                  </a:lnTo>
                  <a:lnTo>
                    <a:pt x="1314" y="1151"/>
                  </a:lnTo>
                  <a:lnTo>
                    <a:pt x="1262" y="1148"/>
                  </a:lnTo>
                  <a:lnTo>
                    <a:pt x="1250" y="1204"/>
                  </a:lnTo>
                  <a:lnTo>
                    <a:pt x="1202" y="1216"/>
                  </a:lnTo>
                  <a:lnTo>
                    <a:pt x="1218" y="1258"/>
                  </a:lnTo>
                  <a:lnTo>
                    <a:pt x="1206" y="1295"/>
                  </a:lnTo>
                  <a:lnTo>
                    <a:pt x="1130" y="1344"/>
                  </a:lnTo>
                  <a:lnTo>
                    <a:pt x="1083" y="1353"/>
                  </a:lnTo>
                  <a:lnTo>
                    <a:pt x="1078" y="1385"/>
                  </a:lnTo>
                  <a:lnTo>
                    <a:pt x="1099" y="1396"/>
                  </a:lnTo>
                  <a:lnTo>
                    <a:pt x="1099" y="1429"/>
                  </a:lnTo>
                  <a:lnTo>
                    <a:pt x="1073" y="1423"/>
                  </a:lnTo>
                  <a:lnTo>
                    <a:pt x="1038" y="1443"/>
                  </a:lnTo>
                  <a:lnTo>
                    <a:pt x="1022" y="1396"/>
                  </a:lnTo>
                  <a:lnTo>
                    <a:pt x="991" y="1432"/>
                  </a:lnTo>
                  <a:lnTo>
                    <a:pt x="905" y="1429"/>
                  </a:lnTo>
                  <a:lnTo>
                    <a:pt x="861" y="1483"/>
                  </a:lnTo>
                  <a:lnTo>
                    <a:pt x="832" y="1466"/>
                  </a:lnTo>
                  <a:lnTo>
                    <a:pt x="828" y="1446"/>
                  </a:lnTo>
                  <a:lnTo>
                    <a:pt x="747" y="1398"/>
                  </a:lnTo>
                  <a:lnTo>
                    <a:pt x="684" y="1423"/>
                  </a:lnTo>
                  <a:lnTo>
                    <a:pt x="686" y="1381"/>
                  </a:lnTo>
                  <a:lnTo>
                    <a:pt x="671" y="1370"/>
                  </a:lnTo>
                  <a:lnTo>
                    <a:pt x="683" y="1357"/>
                  </a:lnTo>
                  <a:lnTo>
                    <a:pt x="662" y="1354"/>
                  </a:lnTo>
                  <a:lnTo>
                    <a:pt x="662" y="1322"/>
                  </a:lnTo>
                  <a:lnTo>
                    <a:pt x="691" y="1334"/>
                  </a:lnTo>
                  <a:lnTo>
                    <a:pt x="700" y="1322"/>
                  </a:lnTo>
                  <a:lnTo>
                    <a:pt x="675" y="1295"/>
                  </a:lnTo>
                  <a:lnTo>
                    <a:pt x="662" y="1319"/>
                  </a:lnTo>
                  <a:lnTo>
                    <a:pt x="660" y="1274"/>
                  </a:lnTo>
                  <a:lnTo>
                    <a:pt x="632" y="1263"/>
                  </a:lnTo>
                  <a:lnTo>
                    <a:pt x="609" y="1224"/>
                  </a:lnTo>
                  <a:lnTo>
                    <a:pt x="636" y="1224"/>
                  </a:lnTo>
                  <a:lnTo>
                    <a:pt x="635" y="1207"/>
                  </a:lnTo>
                  <a:lnTo>
                    <a:pt x="651" y="1198"/>
                  </a:lnTo>
                  <a:lnTo>
                    <a:pt x="700" y="1207"/>
                  </a:lnTo>
                  <a:lnTo>
                    <a:pt x="660" y="1148"/>
                  </a:lnTo>
                  <a:lnTo>
                    <a:pt x="578" y="1162"/>
                  </a:lnTo>
                  <a:lnTo>
                    <a:pt x="587" y="1170"/>
                  </a:lnTo>
                  <a:lnTo>
                    <a:pt x="568" y="1184"/>
                  </a:lnTo>
                  <a:lnTo>
                    <a:pt x="557" y="1172"/>
                  </a:lnTo>
                  <a:lnTo>
                    <a:pt x="541" y="1229"/>
                  </a:lnTo>
                  <a:lnTo>
                    <a:pt x="559" y="1243"/>
                  </a:lnTo>
                  <a:lnTo>
                    <a:pt x="572" y="1299"/>
                  </a:lnTo>
                  <a:lnTo>
                    <a:pt x="613" y="1344"/>
                  </a:lnTo>
                  <a:lnTo>
                    <a:pt x="597" y="1348"/>
                  </a:lnTo>
                  <a:lnTo>
                    <a:pt x="584" y="1393"/>
                  </a:lnTo>
                  <a:lnTo>
                    <a:pt x="566" y="1385"/>
                  </a:lnTo>
                  <a:lnTo>
                    <a:pt x="563" y="1362"/>
                  </a:lnTo>
                  <a:lnTo>
                    <a:pt x="528" y="1384"/>
                  </a:lnTo>
                  <a:lnTo>
                    <a:pt x="499" y="1357"/>
                  </a:lnTo>
                  <a:lnTo>
                    <a:pt x="463" y="1308"/>
                  </a:lnTo>
                  <a:lnTo>
                    <a:pt x="437" y="1308"/>
                  </a:lnTo>
                  <a:lnTo>
                    <a:pt x="434" y="1274"/>
                  </a:lnTo>
                  <a:lnTo>
                    <a:pt x="342" y="1206"/>
                  </a:lnTo>
                  <a:lnTo>
                    <a:pt x="377" y="1179"/>
                  </a:lnTo>
                  <a:lnTo>
                    <a:pt x="364" y="1162"/>
                  </a:lnTo>
                  <a:lnTo>
                    <a:pt x="389" y="1144"/>
                  </a:lnTo>
                  <a:lnTo>
                    <a:pt x="312" y="1168"/>
                  </a:lnTo>
                  <a:lnTo>
                    <a:pt x="306" y="1184"/>
                  </a:lnTo>
                  <a:lnTo>
                    <a:pt x="283" y="1175"/>
                  </a:lnTo>
                  <a:lnTo>
                    <a:pt x="310" y="1201"/>
                  </a:lnTo>
                  <a:lnTo>
                    <a:pt x="342" y="1198"/>
                  </a:lnTo>
                  <a:lnTo>
                    <a:pt x="288" y="1229"/>
                  </a:lnTo>
                  <a:lnTo>
                    <a:pt x="259" y="1198"/>
                  </a:lnTo>
                  <a:lnTo>
                    <a:pt x="282" y="1179"/>
                  </a:lnTo>
                  <a:lnTo>
                    <a:pt x="245" y="1175"/>
                  </a:lnTo>
                  <a:lnTo>
                    <a:pt x="248" y="1158"/>
                  </a:lnTo>
                  <a:lnTo>
                    <a:pt x="211" y="1170"/>
                  </a:lnTo>
                  <a:lnTo>
                    <a:pt x="201" y="1199"/>
                  </a:lnTo>
                  <a:lnTo>
                    <a:pt x="171" y="1198"/>
                  </a:lnTo>
                  <a:lnTo>
                    <a:pt x="169" y="1158"/>
                  </a:lnTo>
                  <a:lnTo>
                    <a:pt x="142" y="1114"/>
                  </a:lnTo>
                  <a:lnTo>
                    <a:pt x="64" y="1123"/>
                  </a:lnTo>
                  <a:lnTo>
                    <a:pt x="50" y="1110"/>
                  </a:lnTo>
                  <a:lnTo>
                    <a:pt x="56" y="1089"/>
                  </a:lnTo>
                  <a:lnTo>
                    <a:pt x="89" y="1043"/>
                  </a:lnTo>
                  <a:lnTo>
                    <a:pt x="72" y="990"/>
                  </a:lnTo>
                  <a:lnTo>
                    <a:pt x="86" y="976"/>
                  </a:lnTo>
                  <a:lnTo>
                    <a:pt x="78" y="934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7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673360" y="2286000"/>
              <a:ext cx="4979880" cy="2354400"/>
            </a:xfrm>
            <a:custGeom>
              <a:avLst/>
              <a:gdLst/>
              <a:ahLst/>
              <a:rect l="l" t="t" r="r" b="b"/>
              <a:pathLst>
                <a:path w="3399" h="1483">
                  <a:moveTo>
                    <a:pt x="0" y="920"/>
                  </a:moveTo>
                  <a:lnTo>
                    <a:pt x="29" y="893"/>
                  </a:lnTo>
                  <a:lnTo>
                    <a:pt x="21" y="903"/>
                  </a:lnTo>
                  <a:lnTo>
                    <a:pt x="31" y="907"/>
                  </a:lnTo>
                  <a:lnTo>
                    <a:pt x="29" y="846"/>
                  </a:lnTo>
                  <a:lnTo>
                    <a:pt x="40" y="818"/>
                  </a:lnTo>
                  <a:lnTo>
                    <a:pt x="59" y="814"/>
                  </a:lnTo>
                  <a:lnTo>
                    <a:pt x="90" y="840"/>
                  </a:lnTo>
                  <a:lnTo>
                    <a:pt x="98" y="790"/>
                  </a:lnTo>
                  <a:lnTo>
                    <a:pt x="82" y="792"/>
                  </a:lnTo>
                  <a:lnTo>
                    <a:pt x="78" y="761"/>
                  </a:lnTo>
                  <a:lnTo>
                    <a:pt x="211" y="736"/>
                  </a:lnTo>
                  <a:lnTo>
                    <a:pt x="179" y="722"/>
                  </a:lnTo>
                  <a:lnTo>
                    <a:pt x="181" y="708"/>
                  </a:lnTo>
                  <a:lnTo>
                    <a:pt x="160" y="714"/>
                  </a:lnTo>
                  <a:lnTo>
                    <a:pt x="236" y="638"/>
                  </a:lnTo>
                  <a:lnTo>
                    <a:pt x="202" y="558"/>
                  </a:lnTo>
                  <a:lnTo>
                    <a:pt x="210" y="521"/>
                  </a:lnTo>
                  <a:lnTo>
                    <a:pt x="192" y="477"/>
                  </a:lnTo>
                  <a:lnTo>
                    <a:pt x="207" y="449"/>
                  </a:lnTo>
                  <a:lnTo>
                    <a:pt x="179" y="418"/>
                  </a:lnTo>
                  <a:lnTo>
                    <a:pt x="189" y="392"/>
                  </a:lnTo>
                  <a:lnTo>
                    <a:pt x="224" y="361"/>
                  </a:lnTo>
                  <a:lnTo>
                    <a:pt x="245" y="355"/>
                  </a:lnTo>
                  <a:lnTo>
                    <a:pt x="269" y="364"/>
                  </a:lnTo>
                  <a:lnTo>
                    <a:pt x="248" y="372"/>
                  </a:lnTo>
                  <a:lnTo>
                    <a:pt x="266" y="383"/>
                  </a:lnTo>
                  <a:lnTo>
                    <a:pt x="323" y="386"/>
                  </a:lnTo>
                  <a:lnTo>
                    <a:pt x="426" y="449"/>
                  </a:lnTo>
                  <a:lnTo>
                    <a:pt x="430" y="483"/>
                  </a:lnTo>
                  <a:lnTo>
                    <a:pt x="385" y="511"/>
                  </a:lnTo>
                  <a:lnTo>
                    <a:pt x="248" y="473"/>
                  </a:lnTo>
                  <a:lnTo>
                    <a:pt x="304" y="519"/>
                  </a:lnTo>
                  <a:lnTo>
                    <a:pt x="301" y="573"/>
                  </a:lnTo>
                  <a:lnTo>
                    <a:pt x="360" y="598"/>
                  </a:lnTo>
                  <a:lnTo>
                    <a:pt x="373" y="595"/>
                  </a:lnTo>
                  <a:lnTo>
                    <a:pt x="365" y="573"/>
                  </a:lnTo>
                  <a:lnTo>
                    <a:pt x="342" y="563"/>
                  </a:lnTo>
                  <a:lnTo>
                    <a:pt x="346" y="545"/>
                  </a:lnTo>
                  <a:lnTo>
                    <a:pt x="370" y="567"/>
                  </a:lnTo>
                  <a:lnTo>
                    <a:pt x="426" y="573"/>
                  </a:lnTo>
                  <a:lnTo>
                    <a:pt x="403" y="528"/>
                  </a:lnTo>
                  <a:lnTo>
                    <a:pt x="452" y="493"/>
                  </a:lnTo>
                  <a:lnTo>
                    <a:pt x="490" y="519"/>
                  </a:lnTo>
                  <a:lnTo>
                    <a:pt x="490" y="420"/>
                  </a:lnTo>
                  <a:lnTo>
                    <a:pt x="472" y="406"/>
                  </a:lnTo>
                  <a:lnTo>
                    <a:pt x="535" y="428"/>
                  </a:lnTo>
                  <a:lnTo>
                    <a:pt x="540" y="442"/>
                  </a:lnTo>
                  <a:lnTo>
                    <a:pt x="507" y="457"/>
                  </a:lnTo>
                  <a:lnTo>
                    <a:pt x="540" y="488"/>
                  </a:lnTo>
                  <a:lnTo>
                    <a:pt x="567" y="449"/>
                  </a:lnTo>
                  <a:lnTo>
                    <a:pt x="682" y="397"/>
                  </a:lnTo>
                  <a:lnTo>
                    <a:pt x="699" y="395"/>
                  </a:lnTo>
                  <a:lnTo>
                    <a:pt x="682" y="401"/>
                  </a:lnTo>
                  <a:lnTo>
                    <a:pt x="700" y="428"/>
                  </a:lnTo>
                  <a:lnTo>
                    <a:pt x="785" y="395"/>
                  </a:lnTo>
                  <a:lnTo>
                    <a:pt x="801" y="420"/>
                  </a:lnTo>
                  <a:lnTo>
                    <a:pt x="823" y="398"/>
                  </a:lnTo>
                  <a:lnTo>
                    <a:pt x="812" y="369"/>
                  </a:lnTo>
                  <a:lnTo>
                    <a:pt x="823" y="360"/>
                  </a:lnTo>
                  <a:lnTo>
                    <a:pt x="888" y="372"/>
                  </a:lnTo>
                  <a:lnTo>
                    <a:pt x="970" y="426"/>
                  </a:lnTo>
                  <a:lnTo>
                    <a:pt x="987" y="400"/>
                  </a:lnTo>
                  <a:lnTo>
                    <a:pt x="967" y="372"/>
                  </a:lnTo>
                  <a:lnTo>
                    <a:pt x="943" y="367"/>
                  </a:lnTo>
                  <a:lnTo>
                    <a:pt x="954" y="322"/>
                  </a:lnTo>
                  <a:lnTo>
                    <a:pt x="935" y="318"/>
                  </a:lnTo>
                  <a:lnTo>
                    <a:pt x="941" y="298"/>
                  </a:lnTo>
                  <a:lnTo>
                    <a:pt x="973" y="276"/>
                  </a:lnTo>
                  <a:lnTo>
                    <a:pt x="991" y="225"/>
                  </a:lnTo>
                  <a:lnTo>
                    <a:pt x="1037" y="226"/>
                  </a:lnTo>
                  <a:lnTo>
                    <a:pt x="1057" y="234"/>
                  </a:lnTo>
                  <a:lnTo>
                    <a:pt x="1040" y="288"/>
                  </a:lnTo>
                  <a:lnTo>
                    <a:pt x="1060" y="316"/>
                  </a:lnTo>
                  <a:lnTo>
                    <a:pt x="1052" y="392"/>
                  </a:lnTo>
                  <a:lnTo>
                    <a:pt x="1073" y="417"/>
                  </a:lnTo>
                  <a:lnTo>
                    <a:pt x="1065" y="446"/>
                  </a:lnTo>
                  <a:lnTo>
                    <a:pt x="1031" y="466"/>
                  </a:lnTo>
                  <a:lnTo>
                    <a:pt x="1043" y="476"/>
                  </a:lnTo>
                  <a:lnTo>
                    <a:pt x="1000" y="487"/>
                  </a:lnTo>
                  <a:lnTo>
                    <a:pt x="1046" y="505"/>
                  </a:lnTo>
                  <a:lnTo>
                    <a:pt x="1098" y="446"/>
                  </a:lnTo>
                  <a:lnTo>
                    <a:pt x="1091" y="406"/>
                  </a:lnTo>
                  <a:lnTo>
                    <a:pt x="1110" y="400"/>
                  </a:lnTo>
                  <a:lnTo>
                    <a:pt x="1134" y="395"/>
                  </a:lnTo>
                  <a:lnTo>
                    <a:pt x="1151" y="415"/>
                  </a:lnTo>
                  <a:lnTo>
                    <a:pt x="1147" y="445"/>
                  </a:lnTo>
                  <a:lnTo>
                    <a:pt x="1183" y="451"/>
                  </a:lnTo>
                  <a:lnTo>
                    <a:pt x="1155" y="443"/>
                  </a:lnTo>
                  <a:lnTo>
                    <a:pt x="1167" y="425"/>
                  </a:lnTo>
                  <a:lnTo>
                    <a:pt x="1156" y="400"/>
                  </a:lnTo>
                  <a:lnTo>
                    <a:pt x="1078" y="386"/>
                  </a:lnTo>
                  <a:lnTo>
                    <a:pt x="1090" y="325"/>
                  </a:lnTo>
                  <a:lnTo>
                    <a:pt x="1064" y="287"/>
                  </a:lnTo>
                  <a:lnTo>
                    <a:pt x="1103" y="254"/>
                  </a:lnTo>
                  <a:lnTo>
                    <a:pt x="1099" y="231"/>
                  </a:lnTo>
                  <a:lnTo>
                    <a:pt x="1115" y="243"/>
                  </a:lnTo>
                  <a:lnTo>
                    <a:pt x="1107" y="293"/>
                  </a:lnTo>
                  <a:lnTo>
                    <a:pt x="1120" y="298"/>
                  </a:lnTo>
                  <a:lnTo>
                    <a:pt x="1172" y="313"/>
                  </a:lnTo>
                  <a:lnTo>
                    <a:pt x="1125" y="273"/>
                  </a:lnTo>
                  <a:lnTo>
                    <a:pt x="1160" y="274"/>
                  </a:lnTo>
                  <a:lnTo>
                    <a:pt x="1153" y="260"/>
                  </a:lnTo>
                  <a:lnTo>
                    <a:pt x="1172" y="251"/>
                  </a:lnTo>
                  <a:lnTo>
                    <a:pt x="1269" y="282"/>
                  </a:lnTo>
                  <a:lnTo>
                    <a:pt x="1250" y="302"/>
                  </a:lnTo>
                  <a:lnTo>
                    <a:pt x="1248" y="333"/>
                  </a:lnTo>
                  <a:lnTo>
                    <a:pt x="1267" y="350"/>
                  </a:lnTo>
                  <a:lnTo>
                    <a:pt x="1276" y="282"/>
                  </a:lnTo>
                  <a:lnTo>
                    <a:pt x="1223" y="248"/>
                  </a:lnTo>
                  <a:lnTo>
                    <a:pt x="1214" y="197"/>
                  </a:lnTo>
                  <a:lnTo>
                    <a:pt x="1335" y="183"/>
                  </a:lnTo>
                  <a:lnTo>
                    <a:pt x="1321" y="138"/>
                  </a:lnTo>
                  <a:lnTo>
                    <a:pt x="1335" y="147"/>
                  </a:lnTo>
                  <a:lnTo>
                    <a:pt x="1356" y="129"/>
                  </a:lnTo>
                  <a:lnTo>
                    <a:pt x="1342" y="124"/>
                  </a:lnTo>
                  <a:lnTo>
                    <a:pt x="1469" y="91"/>
                  </a:lnTo>
                  <a:lnTo>
                    <a:pt x="1459" y="81"/>
                  </a:lnTo>
                  <a:lnTo>
                    <a:pt x="1518" y="76"/>
                  </a:lnTo>
                  <a:lnTo>
                    <a:pt x="1515" y="90"/>
                  </a:lnTo>
                  <a:lnTo>
                    <a:pt x="1531" y="90"/>
                  </a:lnTo>
                  <a:lnTo>
                    <a:pt x="1575" y="70"/>
                  </a:lnTo>
                  <a:lnTo>
                    <a:pt x="1595" y="82"/>
                  </a:lnTo>
                  <a:lnTo>
                    <a:pt x="1578" y="60"/>
                  </a:lnTo>
                  <a:lnTo>
                    <a:pt x="1625" y="56"/>
                  </a:lnTo>
                  <a:lnTo>
                    <a:pt x="1625" y="33"/>
                  </a:lnTo>
                  <a:lnTo>
                    <a:pt x="1683" y="0"/>
                  </a:lnTo>
                  <a:lnTo>
                    <a:pt x="1722" y="17"/>
                  </a:lnTo>
                  <a:lnTo>
                    <a:pt x="1687" y="37"/>
                  </a:lnTo>
                  <a:lnTo>
                    <a:pt x="1747" y="36"/>
                  </a:lnTo>
                  <a:lnTo>
                    <a:pt x="1724" y="60"/>
                  </a:lnTo>
                  <a:lnTo>
                    <a:pt x="1823" y="48"/>
                  </a:lnTo>
                  <a:lnTo>
                    <a:pt x="1876" y="90"/>
                  </a:lnTo>
                  <a:lnTo>
                    <a:pt x="1867" y="104"/>
                  </a:lnTo>
                  <a:lnTo>
                    <a:pt x="1850" y="91"/>
                  </a:lnTo>
                  <a:lnTo>
                    <a:pt x="1875" y="105"/>
                  </a:lnTo>
                  <a:lnTo>
                    <a:pt x="1862" y="127"/>
                  </a:lnTo>
                  <a:lnTo>
                    <a:pt x="1683" y="242"/>
                  </a:lnTo>
                  <a:lnTo>
                    <a:pt x="1739" y="228"/>
                  </a:lnTo>
                  <a:lnTo>
                    <a:pt x="1728" y="214"/>
                  </a:lnTo>
                  <a:lnTo>
                    <a:pt x="1817" y="192"/>
                  </a:lnTo>
                  <a:lnTo>
                    <a:pt x="1794" y="194"/>
                  </a:lnTo>
                  <a:lnTo>
                    <a:pt x="1801" y="175"/>
                  </a:lnTo>
                  <a:lnTo>
                    <a:pt x="1850" y="192"/>
                  </a:lnTo>
                  <a:lnTo>
                    <a:pt x="1857" y="175"/>
                  </a:lnTo>
                  <a:lnTo>
                    <a:pt x="1868" y="212"/>
                  </a:lnTo>
                  <a:lnTo>
                    <a:pt x="1893" y="215"/>
                  </a:lnTo>
                  <a:lnTo>
                    <a:pt x="1871" y="198"/>
                  </a:lnTo>
                  <a:lnTo>
                    <a:pt x="1917" y="192"/>
                  </a:lnTo>
                  <a:lnTo>
                    <a:pt x="1974" y="197"/>
                  </a:lnTo>
                  <a:lnTo>
                    <a:pt x="1970" y="214"/>
                  </a:lnTo>
                  <a:lnTo>
                    <a:pt x="2020" y="225"/>
                  </a:lnTo>
                  <a:lnTo>
                    <a:pt x="2064" y="220"/>
                  </a:lnTo>
                  <a:lnTo>
                    <a:pt x="2067" y="188"/>
                  </a:lnTo>
                  <a:lnTo>
                    <a:pt x="2078" y="183"/>
                  </a:lnTo>
                  <a:lnTo>
                    <a:pt x="2189" y="220"/>
                  </a:lnTo>
                  <a:lnTo>
                    <a:pt x="2175" y="282"/>
                  </a:lnTo>
                  <a:lnTo>
                    <a:pt x="2226" y="322"/>
                  </a:lnTo>
                  <a:lnTo>
                    <a:pt x="2253" y="267"/>
                  </a:lnTo>
                  <a:lnTo>
                    <a:pt x="2274" y="293"/>
                  </a:lnTo>
                  <a:lnTo>
                    <a:pt x="2310" y="282"/>
                  </a:lnTo>
                  <a:lnTo>
                    <a:pt x="2359" y="302"/>
                  </a:lnTo>
                  <a:lnTo>
                    <a:pt x="2398" y="291"/>
                  </a:lnTo>
                  <a:lnTo>
                    <a:pt x="2394" y="267"/>
                  </a:lnTo>
                  <a:lnTo>
                    <a:pt x="2420" y="229"/>
                  </a:lnTo>
                  <a:lnTo>
                    <a:pt x="2585" y="256"/>
                  </a:lnTo>
                  <a:lnTo>
                    <a:pt x="2598" y="273"/>
                  </a:lnTo>
                  <a:lnTo>
                    <a:pt x="2578" y="280"/>
                  </a:lnTo>
                  <a:lnTo>
                    <a:pt x="2630" y="291"/>
                  </a:lnTo>
                  <a:lnTo>
                    <a:pt x="2649" y="318"/>
                  </a:lnTo>
                  <a:lnTo>
                    <a:pt x="2774" y="313"/>
                  </a:lnTo>
                  <a:lnTo>
                    <a:pt x="2797" y="335"/>
                  </a:lnTo>
                  <a:lnTo>
                    <a:pt x="2790" y="361"/>
                  </a:lnTo>
                  <a:lnTo>
                    <a:pt x="2824" y="378"/>
                  </a:lnTo>
                  <a:lnTo>
                    <a:pt x="2844" y="364"/>
                  </a:lnTo>
                  <a:lnTo>
                    <a:pt x="2932" y="373"/>
                  </a:lnTo>
                  <a:lnTo>
                    <a:pt x="2952" y="361"/>
                  </a:lnTo>
                  <a:lnTo>
                    <a:pt x="2961" y="383"/>
                  </a:lnTo>
                  <a:lnTo>
                    <a:pt x="2997" y="403"/>
                  </a:lnTo>
                  <a:lnTo>
                    <a:pt x="3016" y="391"/>
                  </a:lnTo>
                  <a:lnTo>
                    <a:pt x="2996" y="369"/>
                  </a:lnTo>
                  <a:lnTo>
                    <a:pt x="3008" y="350"/>
                  </a:lnTo>
                  <a:lnTo>
                    <a:pt x="3162" y="377"/>
                  </a:lnTo>
                  <a:lnTo>
                    <a:pt x="3265" y="448"/>
                  </a:lnTo>
                  <a:lnTo>
                    <a:pt x="3286" y="448"/>
                  </a:lnTo>
                  <a:lnTo>
                    <a:pt x="3313" y="501"/>
                  </a:lnTo>
                  <a:lnTo>
                    <a:pt x="3303" y="473"/>
                  </a:lnTo>
                  <a:lnTo>
                    <a:pt x="3318" y="470"/>
                  </a:lnTo>
                  <a:lnTo>
                    <a:pt x="3327" y="482"/>
                  </a:lnTo>
                  <a:lnTo>
                    <a:pt x="3359" y="477"/>
                  </a:lnTo>
                  <a:lnTo>
                    <a:pt x="3399" y="508"/>
                  </a:lnTo>
                  <a:lnTo>
                    <a:pt x="3340" y="542"/>
                  </a:lnTo>
                  <a:lnTo>
                    <a:pt x="3352" y="550"/>
                  </a:lnTo>
                  <a:lnTo>
                    <a:pt x="3333" y="561"/>
                  </a:lnTo>
                  <a:lnTo>
                    <a:pt x="3348" y="573"/>
                  </a:lnTo>
                  <a:lnTo>
                    <a:pt x="3313" y="575"/>
                  </a:lnTo>
                  <a:lnTo>
                    <a:pt x="3301" y="552"/>
                  </a:lnTo>
                  <a:lnTo>
                    <a:pt x="3287" y="561"/>
                  </a:lnTo>
                  <a:lnTo>
                    <a:pt x="3265" y="528"/>
                  </a:lnTo>
                  <a:lnTo>
                    <a:pt x="3226" y="530"/>
                  </a:lnTo>
                  <a:lnTo>
                    <a:pt x="3215" y="511"/>
                  </a:lnTo>
                  <a:lnTo>
                    <a:pt x="3224" y="501"/>
                  </a:lnTo>
                  <a:lnTo>
                    <a:pt x="3207" y="501"/>
                  </a:lnTo>
                  <a:lnTo>
                    <a:pt x="3196" y="508"/>
                  </a:lnTo>
                  <a:lnTo>
                    <a:pt x="3207" y="532"/>
                  </a:lnTo>
                  <a:lnTo>
                    <a:pt x="3198" y="545"/>
                  </a:lnTo>
                  <a:lnTo>
                    <a:pt x="3166" y="567"/>
                  </a:lnTo>
                  <a:lnTo>
                    <a:pt x="3142" y="561"/>
                  </a:lnTo>
                  <a:lnTo>
                    <a:pt x="3183" y="626"/>
                  </a:lnTo>
                  <a:lnTo>
                    <a:pt x="3175" y="651"/>
                  </a:lnTo>
                  <a:lnTo>
                    <a:pt x="3134" y="631"/>
                  </a:lnTo>
                  <a:lnTo>
                    <a:pt x="3137" y="645"/>
                  </a:lnTo>
                  <a:lnTo>
                    <a:pt x="3065" y="673"/>
                  </a:lnTo>
                  <a:lnTo>
                    <a:pt x="3001" y="738"/>
                  </a:lnTo>
                  <a:lnTo>
                    <a:pt x="2958" y="714"/>
                  </a:lnTo>
                  <a:lnTo>
                    <a:pt x="2918" y="741"/>
                  </a:lnTo>
                  <a:lnTo>
                    <a:pt x="2918" y="717"/>
                  </a:lnTo>
                  <a:lnTo>
                    <a:pt x="2894" y="742"/>
                  </a:lnTo>
                  <a:lnTo>
                    <a:pt x="2867" y="739"/>
                  </a:lnTo>
                  <a:lnTo>
                    <a:pt x="2836" y="801"/>
                  </a:lnTo>
                  <a:lnTo>
                    <a:pt x="2859" y="814"/>
                  </a:lnTo>
                  <a:lnTo>
                    <a:pt x="2850" y="834"/>
                  </a:lnTo>
                  <a:lnTo>
                    <a:pt x="2859" y="868"/>
                  </a:lnTo>
                  <a:lnTo>
                    <a:pt x="2841" y="860"/>
                  </a:lnTo>
                  <a:lnTo>
                    <a:pt x="2829" y="889"/>
                  </a:lnTo>
                  <a:lnTo>
                    <a:pt x="2837" y="916"/>
                  </a:lnTo>
                  <a:lnTo>
                    <a:pt x="2794" y="936"/>
                  </a:lnTo>
                  <a:lnTo>
                    <a:pt x="2797" y="964"/>
                  </a:lnTo>
                  <a:lnTo>
                    <a:pt x="2768" y="972"/>
                  </a:lnTo>
                  <a:lnTo>
                    <a:pt x="2760" y="1004"/>
                  </a:lnTo>
                  <a:lnTo>
                    <a:pt x="2734" y="1035"/>
                  </a:lnTo>
                  <a:lnTo>
                    <a:pt x="2711" y="916"/>
                  </a:lnTo>
                  <a:lnTo>
                    <a:pt x="2716" y="848"/>
                  </a:lnTo>
                  <a:lnTo>
                    <a:pt x="2734" y="810"/>
                  </a:lnTo>
                  <a:lnTo>
                    <a:pt x="2765" y="803"/>
                  </a:lnTo>
                  <a:lnTo>
                    <a:pt x="2836" y="719"/>
                  </a:lnTo>
                  <a:lnTo>
                    <a:pt x="2870" y="704"/>
                  </a:lnTo>
                  <a:lnTo>
                    <a:pt x="2879" y="655"/>
                  </a:lnTo>
                  <a:lnTo>
                    <a:pt x="2894" y="645"/>
                  </a:lnTo>
                  <a:lnTo>
                    <a:pt x="2868" y="645"/>
                  </a:lnTo>
                  <a:lnTo>
                    <a:pt x="2859" y="680"/>
                  </a:lnTo>
                  <a:lnTo>
                    <a:pt x="2801" y="714"/>
                  </a:lnTo>
                  <a:lnTo>
                    <a:pt x="2804" y="666"/>
                  </a:lnTo>
                  <a:lnTo>
                    <a:pt x="2742" y="676"/>
                  </a:lnTo>
                  <a:lnTo>
                    <a:pt x="2681" y="741"/>
                  </a:lnTo>
                  <a:lnTo>
                    <a:pt x="2695" y="766"/>
                  </a:lnTo>
                  <a:lnTo>
                    <a:pt x="2627" y="775"/>
                  </a:lnTo>
                  <a:lnTo>
                    <a:pt x="2619" y="767"/>
                  </a:lnTo>
                  <a:lnTo>
                    <a:pt x="2641" y="762"/>
                  </a:lnTo>
                  <a:lnTo>
                    <a:pt x="2587" y="745"/>
                  </a:lnTo>
                  <a:lnTo>
                    <a:pt x="2572" y="762"/>
                  </a:lnTo>
                  <a:lnTo>
                    <a:pt x="2450" y="762"/>
                  </a:lnTo>
                  <a:lnTo>
                    <a:pt x="2303" y="913"/>
                  </a:lnTo>
                  <a:lnTo>
                    <a:pt x="2335" y="917"/>
                  </a:lnTo>
                  <a:lnTo>
                    <a:pt x="2335" y="945"/>
                  </a:lnTo>
                  <a:lnTo>
                    <a:pt x="2351" y="928"/>
                  </a:lnTo>
                  <a:lnTo>
                    <a:pt x="2344" y="951"/>
                  </a:lnTo>
                  <a:lnTo>
                    <a:pt x="2369" y="939"/>
                  </a:lnTo>
                  <a:lnTo>
                    <a:pt x="2366" y="953"/>
                  </a:lnTo>
                  <a:lnTo>
                    <a:pt x="2373" y="928"/>
                  </a:lnTo>
                  <a:lnTo>
                    <a:pt x="2394" y="928"/>
                  </a:lnTo>
                  <a:lnTo>
                    <a:pt x="2425" y="959"/>
                  </a:lnTo>
                  <a:lnTo>
                    <a:pt x="2398" y="962"/>
                  </a:lnTo>
                  <a:lnTo>
                    <a:pt x="2421" y="973"/>
                  </a:lnTo>
                  <a:lnTo>
                    <a:pt x="2428" y="995"/>
                  </a:lnTo>
                  <a:lnTo>
                    <a:pt x="2408" y="1040"/>
                  </a:lnTo>
                  <a:lnTo>
                    <a:pt x="2404" y="1110"/>
                  </a:lnTo>
                  <a:lnTo>
                    <a:pt x="2301" y="1258"/>
                  </a:lnTo>
                  <a:lnTo>
                    <a:pt x="2266" y="1278"/>
                  </a:lnTo>
                  <a:lnTo>
                    <a:pt x="2237" y="1258"/>
                  </a:lnTo>
                  <a:lnTo>
                    <a:pt x="2213" y="1286"/>
                  </a:lnTo>
                  <a:lnTo>
                    <a:pt x="2210" y="1282"/>
                  </a:lnTo>
                  <a:lnTo>
                    <a:pt x="2224" y="1258"/>
                  </a:lnTo>
                  <a:lnTo>
                    <a:pt x="2219" y="1221"/>
                  </a:lnTo>
                  <a:lnTo>
                    <a:pt x="2261" y="1207"/>
                  </a:lnTo>
                  <a:lnTo>
                    <a:pt x="2295" y="1110"/>
                  </a:lnTo>
                  <a:lnTo>
                    <a:pt x="2222" y="1131"/>
                  </a:lnTo>
                  <a:lnTo>
                    <a:pt x="2210" y="1096"/>
                  </a:lnTo>
                  <a:lnTo>
                    <a:pt x="2149" y="1074"/>
                  </a:lnTo>
                  <a:lnTo>
                    <a:pt x="2113" y="970"/>
                  </a:lnTo>
                  <a:lnTo>
                    <a:pt x="2072" y="953"/>
                  </a:lnTo>
                  <a:lnTo>
                    <a:pt x="2001" y="981"/>
                  </a:lnTo>
                  <a:lnTo>
                    <a:pt x="2014" y="1003"/>
                  </a:lnTo>
                  <a:lnTo>
                    <a:pt x="1984" y="1060"/>
                  </a:lnTo>
                  <a:lnTo>
                    <a:pt x="1956" y="1075"/>
                  </a:lnTo>
                  <a:lnTo>
                    <a:pt x="1927" y="1063"/>
                  </a:lnTo>
                  <a:lnTo>
                    <a:pt x="1891" y="1057"/>
                  </a:lnTo>
                  <a:lnTo>
                    <a:pt x="1794" y="1085"/>
                  </a:lnTo>
                  <a:lnTo>
                    <a:pt x="1713" y="1046"/>
                  </a:lnTo>
                  <a:lnTo>
                    <a:pt x="1661" y="1051"/>
                  </a:lnTo>
                  <a:lnTo>
                    <a:pt x="1640" y="1017"/>
                  </a:lnTo>
                  <a:lnTo>
                    <a:pt x="1587" y="995"/>
                  </a:lnTo>
                  <a:lnTo>
                    <a:pt x="1559" y="1018"/>
                  </a:lnTo>
                  <a:lnTo>
                    <a:pt x="1558" y="1063"/>
                  </a:lnTo>
                  <a:lnTo>
                    <a:pt x="1438" y="1043"/>
                  </a:lnTo>
                  <a:lnTo>
                    <a:pt x="1359" y="1092"/>
                  </a:lnTo>
                  <a:lnTo>
                    <a:pt x="1321" y="1111"/>
                  </a:lnTo>
                  <a:lnTo>
                    <a:pt x="1314" y="1151"/>
                  </a:lnTo>
                  <a:lnTo>
                    <a:pt x="1262" y="1148"/>
                  </a:lnTo>
                  <a:lnTo>
                    <a:pt x="1250" y="1204"/>
                  </a:lnTo>
                  <a:lnTo>
                    <a:pt x="1202" y="1216"/>
                  </a:lnTo>
                  <a:lnTo>
                    <a:pt x="1218" y="1258"/>
                  </a:lnTo>
                  <a:lnTo>
                    <a:pt x="1206" y="1295"/>
                  </a:lnTo>
                  <a:lnTo>
                    <a:pt x="1130" y="1344"/>
                  </a:lnTo>
                  <a:lnTo>
                    <a:pt x="1083" y="1353"/>
                  </a:lnTo>
                  <a:lnTo>
                    <a:pt x="1078" y="1385"/>
                  </a:lnTo>
                  <a:lnTo>
                    <a:pt x="1099" y="1396"/>
                  </a:lnTo>
                  <a:lnTo>
                    <a:pt x="1099" y="1429"/>
                  </a:lnTo>
                  <a:lnTo>
                    <a:pt x="1073" y="1423"/>
                  </a:lnTo>
                  <a:lnTo>
                    <a:pt x="1038" y="1443"/>
                  </a:lnTo>
                  <a:lnTo>
                    <a:pt x="1022" y="1396"/>
                  </a:lnTo>
                  <a:lnTo>
                    <a:pt x="991" y="1432"/>
                  </a:lnTo>
                  <a:lnTo>
                    <a:pt x="905" y="1429"/>
                  </a:lnTo>
                  <a:lnTo>
                    <a:pt x="861" y="1483"/>
                  </a:lnTo>
                  <a:lnTo>
                    <a:pt x="832" y="1466"/>
                  </a:lnTo>
                  <a:lnTo>
                    <a:pt x="828" y="1446"/>
                  </a:lnTo>
                  <a:lnTo>
                    <a:pt x="747" y="1398"/>
                  </a:lnTo>
                  <a:lnTo>
                    <a:pt x="684" y="1423"/>
                  </a:lnTo>
                  <a:lnTo>
                    <a:pt x="686" y="1381"/>
                  </a:lnTo>
                  <a:lnTo>
                    <a:pt x="671" y="1370"/>
                  </a:lnTo>
                  <a:lnTo>
                    <a:pt x="683" y="1357"/>
                  </a:lnTo>
                  <a:lnTo>
                    <a:pt x="662" y="1354"/>
                  </a:lnTo>
                  <a:lnTo>
                    <a:pt x="662" y="1322"/>
                  </a:lnTo>
                  <a:lnTo>
                    <a:pt x="691" y="1334"/>
                  </a:lnTo>
                  <a:lnTo>
                    <a:pt x="700" y="1322"/>
                  </a:lnTo>
                  <a:lnTo>
                    <a:pt x="675" y="1295"/>
                  </a:lnTo>
                  <a:lnTo>
                    <a:pt x="662" y="1319"/>
                  </a:lnTo>
                  <a:lnTo>
                    <a:pt x="660" y="1274"/>
                  </a:lnTo>
                  <a:lnTo>
                    <a:pt x="632" y="1263"/>
                  </a:lnTo>
                  <a:lnTo>
                    <a:pt x="609" y="1224"/>
                  </a:lnTo>
                  <a:lnTo>
                    <a:pt x="636" y="1224"/>
                  </a:lnTo>
                  <a:lnTo>
                    <a:pt x="635" y="1207"/>
                  </a:lnTo>
                  <a:lnTo>
                    <a:pt x="651" y="1198"/>
                  </a:lnTo>
                  <a:lnTo>
                    <a:pt x="700" y="1207"/>
                  </a:lnTo>
                  <a:lnTo>
                    <a:pt x="660" y="1148"/>
                  </a:lnTo>
                  <a:lnTo>
                    <a:pt x="578" y="1162"/>
                  </a:lnTo>
                  <a:lnTo>
                    <a:pt x="587" y="1170"/>
                  </a:lnTo>
                  <a:lnTo>
                    <a:pt x="568" y="1184"/>
                  </a:lnTo>
                  <a:lnTo>
                    <a:pt x="557" y="1172"/>
                  </a:lnTo>
                  <a:lnTo>
                    <a:pt x="541" y="1229"/>
                  </a:lnTo>
                  <a:lnTo>
                    <a:pt x="559" y="1243"/>
                  </a:lnTo>
                  <a:lnTo>
                    <a:pt x="572" y="1299"/>
                  </a:lnTo>
                  <a:lnTo>
                    <a:pt x="613" y="1344"/>
                  </a:lnTo>
                  <a:lnTo>
                    <a:pt x="597" y="1348"/>
                  </a:lnTo>
                  <a:lnTo>
                    <a:pt x="584" y="1393"/>
                  </a:lnTo>
                  <a:lnTo>
                    <a:pt x="566" y="1385"/>
                  </a:lnTo>
                  <a:lnTo>
                    <a:pt x="563" y="1362"/>
                  </a:lnTo>
                  <a:lnTo>
                    <a:pt x="528" y="1384"/>
                  </a:lnTo>
                  <a:lnTo>
                    <a:pt x="499" y="1357"/>
                  </a:lnTo>
                  <a:lnTo>
                    <a:pt x="463" y="1308"/>
                  </a:lnTo>
                  <a:lnTo>
                    <a:pt x="437" y="1308"/>
                  </a:lnTo>
                  <a:lnTo>
                    <a:pt x="434" y="1274"/>
                  </a:lnTo>
                  <a:lnTo>
                    <a:pt x="342" y="1206"/>
                  </a:lnTo>
                  <a:lnTo>
                    <a:pt x="377" y="1179"/>
                  </a:lnTo>
                  <a:lnTo>
                    <a:pt x="364" y="1162"/>
                  </a:lnTo>
                  <a:lnTo>
                    <a:pt x="389" y="1144"/>
                  </a:lnTo>
                  <a:lnTo>
                    <a:pt x="312" y="1168"/>
                  </a:lnTo>
                  <a:lnTo>
                    <a:pt x="306" y="1184"/>
                  </a:lnTo>
                  <a:lnTo>
                    <a:pt x="283" y="1175"/>
                  </a:lnTo>
                  <a:lnTo>
                    <a:pt x="310" y="1201"/>
                  </a:lnTo>
                  <a:lnTo>
                    <a:pt x="342" y="1198"/>
                  </a:lnTo>
                  <a:lnTo>
                    <a:pt x="288" y="1229"/>
                  </a:lnTo>
                  <a:lnTo>
                    <a:pt x="259" y="1198"/>
                  </a:lnTo>
                  <a:lnTo>
                    <a:pt x="282" y="1179"/>
                  </a:lnTo>
                  <a:lnTo>
                    <a:pt x="245" y="1175"/>
                  </a:lnTo>
                  <a:lnTo>
                    <a:pt x="248" y="1158"/>
                  </a:lnTo>
                  <a:lnTo>
                    <a:pt x="211" y="1170"/>
                  </a:lnTo>
                  <a:lnTo>
                    <a:pt x="201" y="1199"/>
                  </a:lnTo>
                  <a:lnTo>
                    <a:pt x="171" y="1198"/>
                  </a:lnTo>
                  <a:lnTo>
                    <a:pt x="169" y="1158"/>
                  </a:lnTo>
                  <a:lnTo>
                    <a:pt x="142" y="1114"/>
                  </a:lnTo>
                  <a:lnTo>
                    <a:pt x="64" y="1123"/>
                  </a:lnTo>
                  <a:lnTo>
                    <a:pt x="50" y="1110"/>
                  </a:lnTo>
                  <a:lnTo>
                    <a:pt x="56" y="1089"/>
                  </a:lnTo>
                  <a:lnTo>
                    <a:pt x="89" y="1043"/>
                  </a:lnTo>
                  <a:lnTo>
                    <a:pt x="72" y="990"/>
                  </a:lnTo>
                  <a:lnTo>
                    <a:pt x="86" y="976"/>
                  </a:lnTo>
                  <a:lnTo>
                    <a:pt x="78" y="934"/>
                  </a:lnTo>
                  <a:lnTo>
                    <a:pt x="0" y="9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1547640" y="1828800"/>
            <a:ext cx="1800" cy="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/>
          <p:nvPr/>
        </p:nvCxnSpPr>
        <p:spPr>
          <a:xfrm>
            <a:off x="2361960" y="3207960"/>
            <a:ext cx="10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2954160" y="3200400"/>
            <a:ext cx="65160" cy="71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1840" y="5105520"/>
            <a:ext cx="1440" cy="14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66840" y="3962520"/>
            <a:ext cx="360" cy="14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45280" y="3124080"/>
            <a:ext cx="66600" cy="71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67560" y="3124080"/>
            <a:ext cx="66600" cy="71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416560" y="1752480"/>
            <a:ext cx="91440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98920" y="1103400"/>
            <a:ext cx="22993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Кодинск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 (22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Вт</a:t>
            </a:r>
            <a:r>
              <a:rPr b="1" lang="fi-FI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 МВ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O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8 МВ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O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38840" y="3200400"/>
            <a:ext cx="10540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29920" y="3922560"/>
            <a:ext cx="13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 Ленс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 МВт B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45280" y="3352680"/>
            <a:ext cx="66600" cy="71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788000" y="3429000"/>
            <a:ext cx="576000" cy="144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57600" y="4876920"/>
            <a:ext cx="196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ноярс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х 2,5 МВт B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90840" y="3200400"/>
            <a:ext cx="65160" cy="71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35320" y="3200400"/>
            <a:ext cx="66600" cy="71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68560" y="990720"/>
            <a:ext cx="17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Сургу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,3 МВт B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692360" y="3213000"/>
            <a:ext cx="129528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213000"/>
            <a:ext cx="197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 Ломонос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х 4 МВт 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B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2556000" y="1483920"/>
            <a:ext cx="792000" cy="15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290840" y="3200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290840" y="167616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95640" y="3276720"/>
            <a:ext cx="65160" cy="71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339640" y="3352680"/>
            <a:ext cx="755640" cy="166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72360" y="4913280"/>
            <a:ext cx="239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 Песто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 МВ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Вт L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25520" y="4989600"/>
            <a:ext cx="22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ноярс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 МВ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64000" y="3429000"/>
            <a:ext cx="684360" cy="144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43120" y="907920"/>
            <a:ext cx="189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Архангельс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х 6 МВт B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9280" y="18900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ТЕЛЬНЫ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НА БИОТОПЛИВЕ в РОСС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4560" y="1546200"/>
            <a:ext cx="3254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628640"/>
            <a:ext cx="1763640" cy="14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порожь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 МВт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IO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+ 3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Вт L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48000" y="3068640"/>
            <a:ext cx="65160" cy="71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1763280" y="2421000"/>
            <a:ext cx="1513080" cy="79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684360" y="1557360"/>
          <a:ext cx="511164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57360"/>
                    <a:ext cx="511164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682560" y="2349360"/>
            <a:ext cx="3526200" cy="16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еспублика Беларусь, г. Минск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р-т Ф. Скорины, 169-602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тел. (017) 218-11-77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факс (017) 218-13-72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ail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ffice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@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ergopro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08640" y="260280"/>
            <a:ext cx="5661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гиональный партне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artsila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Беларуси</a:t>
            </a:r>
            <a:r>
              <a:rPr b="0" lang="ru-RU" sz="1100" spc="-1" strike="noStrike">
                <a:solidFill>
                  <a:srgbClr val="000000"/>
                </a:solidFill>
                <a:latin typeface="Moderne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4716360" y="2708280"/>
            <a:ext cx="3392640" cy="249408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36440" y="260280"/>
            <a:ext cx="88282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ЗУТНЫЕ И ГАЗОВЫЕ КОТЕЛЬНЫЕ УСТАНОВ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6520" y="1187280"/>
            <a:ext cx="858960" cy="2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Moderne"/>
              </a:rPr>
              <a:t>1 - 120 </a:t>
            </a:r>
            <a:r>
              <a:rPr b="1" lang="ru-RU" sz="1100" spc="-1" strike="noStrike">
                <a:solidFill>
                  <a:srgbClr val="ffffff"/>
                </a:solidFill>
                <a:latin typeface="Moderne"/>
              </a:rPr>
              <a:t>МВТ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74160" y="1619280"/>
            <a:ext cx="858960" cy="2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Moderne"/>
              </a:rPr>
              <a:t>1 - 120 </a:t>
            </a:r>
            <a:r>
              <a:rPr b="1" lang="ru-RU" sz="1100" spc="-1" strike="noStrike">
                <a:solidFill>
                  <a:srgbClr val="ffffff"/>
                </a:solidFill>
                <a:latin typeface="Moderne"/>
              </a:rPr>
              <a:t>МВТ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02520" y="1258920"/>
            <a:ext cx="858960" cy="2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Moderne"/>
              </a:rPr>
              <a:t>1 - 120 </a:t>
            </a:r>
            <a:r>
              <a:rPr b="1" lang="ru-RU" sz="1100" spc="-1" strike="noStrike">
                <a:solidFill>
                  <a:srgbClr val="ffffff"/>
                </a:solidFill>
                <a:latin typeface="Moderne"/>
              </a:rPr>
              <a:t>МВТ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7000" y="1546200"/>
            <a:ext cx="1133280" cy="2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Moderne"/>
              </a:rPr>
              <a:t>1 - 120 </a:t>
            </a:r>
            <a:r>
              <a:rPr b="1" lang="ru-RU" sz="1100" spc="-1" strike="noStrike">
                <a:solidFill>
                  <a:srgbClr val="ffffff"/>
                </a:solidFill>
                <a:latin typeface="Moderne"/>
              </a:rPr>
              <a:t>МВТ</a:t>
            </a:r>
            <a:r>
              <a:rPr b="1" lang="fi-FI" sz="1100" spc="-1" strike="noStrike">
                <a:solidFill>
                  <a:srgbClr val="ffffff"/>
                </a:solidFill>
                <a:latin typeface="Moderne"/>
              </a:rPr>
              <a:t>m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74160" y="1619280"/>
            <a:ext cx="858960" cy="2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Moderne"/>
              </a:rPr>
              <a:t>1 - 120 </a:t>
            </a:r>
            <a:r>
              <a:rPr b="1" lang="ru-RU" sz="1100" spc="-1" strike="noStrike">
                <a:solidFill>
                  <a:srgbClr val="ffffff"/>
                </a:solidFill>
                <a:latin typeface="Moderne"/>
              </a:rPr>
              <a:t>МВТ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26920" y="1341360"/>
            <a:ext cx="3745080" cy="14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Moderne"/>
              </a:rPr>
              <a:t>МОДУЛЬНЫЕ КОТЕЛЬНЫЕ УСТАНОВКИ ДЛЯ ЖИДКОГО НЕФТЯНОГО ТОПЛИВА И ПРИРОДНОГО ГАЗ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Moderne"/>
              </a:rPr>
              <a:t>1 - 120 </a:t>
            </a:r>
            <a:r>
              <a:rPr b="1" lang="ru-RU" sz="1800" spc="-1" strike="noStrike">
                <a:solidFill>
                  <a:srgbClr val="000000"/>
                </a:solidFill>
                <a:latin typeface="Moderne"/>
              </a:rPr>
              <a:t>МВТ</a:t>
            </a:r>
            <a:r>
              <a:rPr b="1" lang="fi-FI" sz="2000" spc="-1" strike="noStrike">
                <a:solidFill>
                  <a:srgbClr val="000000"/>
                </a:solidFill>
                <a:latin typeface="Modern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59280" y="2050920"/>
            <a:ext cx="29163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19280" y="3203640"/>
            <a:ext cx="7308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68360" y="3573360"/>
          <a:ext cx="4103640" cy="273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573360"/>
                    <a:ext cx="410364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4643280" y="1341360"/>
            <a:ext cx="39610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АНДАРТНЫЕ ВОДОГРЕЙНЫЕ КОТЕЛЬНЫ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СТАНДАРТНЫЕ ВОДОГРЕЙНЫЕ КОТЕЛЬН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АРОВЫЕ КОТЕЛЬНЫЕ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36440" y="260280"/>
            <a:ext cx="8756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ЗУТНЫЕ И ГАЗОВЫЕ КОТЕЛЬНЫЕ УСТАНОВ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6520" y="1187280"/>
            <a:ext cx="858960" cy="2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Moderne"/>
              </a:rPr>
              <a:t>1 - 120 </a:t>
            </a:r>
            <a:r>
              <a:rPr b="1" lang="ru-RU" sz="1100" spc="-1" strike="noStrike">
                <a:solidFill>
                  <a:srgbClr val="ffffff"/>
                </a:solidFill>
                <a:latin typeface="Moderne"/>
              </a:rPr>
              <a:t>МВТ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74160" y="1619280"/>
            <a:ext cx="858960" cy="2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Moderne"/>
              </a:rPr>
              <a:t>1 - 120 </a:t>
            </a:r>
            <a:r>
              <a:rPr b="1" lang="ru-RU" sz="1100" spc="-1" strike="noStrike">
                <a:solidFill>
                  <a:srgbClr val="ffffff"/>
                </a:solidFill>
                <a:latin typeface="Moderne"/>
              </a:rPr>
              <a:t>МВТ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02520" y="1258920"/>
            <a:ext cx="858960" cy="2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Moderne"/>
              </a:rPr>
              <a:t>1 - 120 </a:t>
            </a:r>
            <a:r>
              <a:rPr b="1" lang="ru-RU" sz="1100" spc="-1" strike="noStrike">
                <a:solidFill>
                  <a:srgbClr val="ffffff"/>
                </a:solidFill>
                <a:latin typeface="Moderne"/>
              </a:rPr>
              <a:t>МВТ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7000" y="1546200"/>
            <a:ext cx="1133280" cy="2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Moderne"/>
              </a:rPr>
              <a:t>1 - 120 </a:t>
            </a:r>
            <a:r>
              <a:rPr b="1" lang="ru-RU" sz="1100" spc="-1" strike="noStrike">
                <a:solidFill>
                  <a:srgbClr val="ffffff"/>
                </a:solidFill>
                <a:latin typeface="Moderne"/>
              </a:rPr>
              <a:t>МВТ</a:t>
            </a:r>
            <a:r>
              <a:rPr b="1" lang="fi-FI" sz="1100" spc="-1" strike="noStrike">
                <a:solidFill>
                  <a:srgbClr val="ffffff"/>
                </a:solidFill>
                <a:latin typeface="Moderne"/>
              </a:rPr>
              <a:t>m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74160" y="1619280"/>
            <a:ext cx="858960" cy="2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Moderne"/>
              </a:rPr>
              <a:t>1 - 120 </a:t>
            </a:r>
            <a:r>
              <a:rPr b="1" lang="ru-RU" sz="1100" spc="-1" strike="noStrike">
                <a:solidFill>
                  <a:srgbClr val="ffffff"/>
                </a:solidFill>
                <a:latin typeface="Moderne"/>
              </a:rPr>
              <a:t>МВТ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59280" y="2050920"/>
            <a:ext cx="29163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19280" y="3203640"/>
            <a:ext cx="7308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30560" y="5219640"/>
            <a:ext cx="730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3744720" cy="2593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256360" y="4643280"/>
            <a:ext cx="727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643280" y="2133720"/>
            <a:ext cx="4249800" cy="2303280"/>
            <a:chOff x="4643280" y="2133720"/>
            <a:chExt cx="4249800" cy="2303280"/>
          </a:xfrm>
        </p:grpSpPr>
        <p:sp>
          <p:nvSpPr>
            <p:cNvPr id="87" name=""/>
            <p:cNvSpPr/>
            <p:nvPr/>
          </p:nvSpPr>
          <p:spPr>
            <a:xfrm>
              <a:off x="4643280" y="2133720"/>
              <a:ext cx="4249800" cy="2303280"/>
            </a:xfrm>
            <a:custGeom>
              <a:avLst/>
              <a:gdLst/>
              <a:ahLst/>
              <a:rect l="l" t="t" r="r" b="b"/>
              <a:pathLst>
                <a:path w="3399" h="1483">
                  <a:moveTo>
                    <a:pt x="0" y="920"/>
                  </a:moveTo>
                  <a:lnTo>
                    <a:pt x="29" y="893"/>
                  </a:lnTo>
                  <a:lnTo>
                    <a:pt x="21" y="903"/>
                  </a:lnTo>
                  <a:lnTo>
                    <a:pt x="31" y="907"/>
                  </a:lnTo>
                  <a:lnTo>
                    <a:pt x="29" y="846"/>
                  </a:lnTo>
                  <a:lnTo>
                    <a:pt x="40" y="818"/>
                  </a:lnTo>
                  <a:lnTo>
                    <a:pt x="59" y="814"/>
                  </a:lnTo>
                  <a:lnTo>
                    <a:pt x="90" y="840"/>
                  </a:lnTo>
                  <a:lnTo>
                    <a:pt x="98" y="790"/>
                  </a:lnTo>
                  <a:lnTo>
                    <a:pt x="82" y="792"/>
                  </a:lnTo>
                  <a:lnTo>
                    <a:pt x="78" y="761"/>
                  </a:lnTo>
                  <a:lnTo>
                    <a:pt x="211" y="736"/>
                  </a:lnTo>
                  <a:lnTo>
                    <a:pt x="179" y="722"/>
                  </a:lnTo>
                  <a:lnTo>
                    <a:pt x="181" y="708"/>
                  </a:lnTo>
                  <a:lnTo>
                    <a:pt x="160" y="714"/>
                  </a:lnTo>
                  <a:lnTo>
                    <a:pt x="236" y="638"/>
                  </a:lnTo>
                  <a:lnTo>
                    <a:pt x="202" y="558"/>
                  </a:lnTo>
                  <a:lnTo>
                    <a:pt x="210" y="521"/>
                  </a:lnTo>
                  <a:lnTo>
                    <a:pt x="192" y="477"/>
                  </a:lnTo>
                  <a:lnTo>
                    <a:pt x="207" y="449"/>
                  </a:lnTo>
                  <a:lnTo>
                    <a:pt x="179" y="418"/>
                  </a:lnTo>
                  <a:lnTo>
                    <a:pt x="189" y="392"/>
                  </a:lnTo>
                  <a:lnTo>
                    <a:pt x="224" y="361"/>
                  </a:lnTo>
                  <a:lnTo>
                    <a:pt x="245" y="355"/>
                  </a:lnTo>
                  <a:lnTo>
                    <a:pt x="269" y="364"/>
                  </a:lnTo>
                  <a:lnTo>
                    <a:pt x="248" y="372"/>
                  </a:lnTo>
                  <a:lnTo>
                    <a:pt x="266" y="383"/>
                  </a:lnTo>
                  <a:lnTo>
                    <a:pt x="323" y="386"/>
                  </a:lnTo>
                  <a:lnTo>
                    <a:pt x="426" y="449"/>
                  </a:lnTo>
                  <a:lnTo>
                    <a:pt x="430" y="483"/>
                  </a:lnTo>
                  <a:lnTo>
                    <a:pt x="385" y="511"/>
                  </a:lnTo>
                  <a:lnTo>
                    <a:pt x="248" y="473"/>
                  </a:lnTo>
                  <a:lnTo>
                    <a:pt x="304" y="519"/>
                  </a:lnTo>
                  <a:lnTo>
                    <a:pt x="301" y="573"/>
                  </a:lnTo>
                  <a:lnTo>
                    <a:pt x="360" y="598"/>
                  </a:lnTo>
                  <a:lnTo>
                    <a:pt x="373" y="595"/>
                  </a:lnTo>
                  <a:lnTo>
                    <a:pt x="365" y="573"/>
                  </a:lnTo>
                  <a:lnTo>
                    <a:pt x="342" y="563"/>
                  </a:lnTo>
                  <a:lnTo>
                    <a:pt x="346" y="545"/>
                  </a:lnTo>
                  <a:lnTo>
                    <a:pt x="370" y="567"/>
                  </a:lnTo>
                  <a:lnTo>
                    <a:pt x="426" y="573"/>
                  </a:lnTo>
                  <a:lnTo>
                    <a:pt x="403" y="528"/>
                  </a:lnTo>
                  <a:lnTo>
                    <a:pt x="452" y="493"/>
                  </a:lnTo>
                  <a:lnTo>
                    <a:pt x="490" y="519"/>
                  </a:lnTo>
                  <a:lnTo>
                    <a:pt x="490" y="420"/>
                  </a:lnTo>
                  <a:lnTo>
                    <a:pt x="472" y="406"/>
                  </a:lnTo>
                  <a:lnTo>
                    <a:pt x="535" y="428"/>
                  </a:lnTo>
                  <a:lnTo>
                    <a:pt x="540" y="442"/>
                  </a:lnTo>
                  <a:lnTo>
                    <a:pt x="507" y="457"/>
                  </a:lnTo>
                  <a:lnTo>
                    <a:pt x="540" y="488"/>
                  </a:lnTo>
                  <a:lnTo>
                    <a:pt x="567" y="449"/>
                  </a:lnTo>
                  <a:lnTo>
                    <a:pt x="682" y="397"/>
                  </a:lnTo>
                  <a:lnTo>
                    <a:pt x="699" y="395"/>
                  </a:lnTo>
                  <a:lnTo>
                    <a:pt x="682" y="401"/>
                  </a:lnTo>
                  <a:lnTo>
                    <a:pt x="700" y="428"/>
                  </a:lnTo>
                  <a:lnTo>
                    <a:pt x="785" y="395"/>
                  </a:lnTo>
                  <a:lnTo>
                    <a:pt x="801" y="420"/>
                  </a:lnTo>
                  <a:lnTo>
                    <a:pt x="823" y="398"/>
                  </a:lnTo>
                  <a:lnTo>
                    <a:pt x="812" y="369"/>
                  </a:lnTo>
                  <a:lnTo>
                    <a:pt x="823" y="360"/>
                  </a:lnTo>
                  <a:lnTo>
                    <a:pt x="888" y="372"/>
                  </a:lnTo>
                  <a:lnTo>
                    <a:pt x="970" y="426"/>
                  </a:lnTo>
                  <a:lnTo>
                    <a:pt x="987" y="400"/>
                  </a:lnTo>
                  <a:lnTo>
                    <a:pt x="967" y="372"/>
                  </a:lnTo>
                  <a:lnTo>
                    <a:pt x="943" y="367"/>
                  </a:lnTo>
                  <a:lnTo>
                    <a:pt x="954" y="322"/>
                  </a:lnTo>
                  <a:lnTo>
                    <a:pt x="935" y="318"/>
                  </a:lnTo>
                  <a:lnTo>
                    <a:pt x="941" y="298"/>
                  </a:lnTo>
                  <a:lnTo>
                    <a:pt x="973" y="276"/>
                  </a:lnTo>
                  <a:lnTo>
                    <a:pt x="991" y="225"/>
                  </a:lnTo>
                  <a:lnTo>
                    <a:pt x="1037" y="226"/>
                  </a:lnTo>
                  <a:lnTo>
                    <a:pt x="1057" y="234"/>
                  </a:lnTo>
                  <a:lnTo>
                    <a:pt x="1040" y="288"/>
                  </a:lnTo>
                  <a:lnTo>
                    <a:pt x="1060" y="316"/>
                  </a:lnTo>
                  <a:lnTo>
                    <a:pt x="1052" y="392"/>
                  </a:lnTo>
                  <a:lnTo>
                    <a:pt x="1073" y="417"/>
                  </a:lnTo>
                  <a:lnTo>
                    <a:pt x="1065" y="446"/>
                  </a:lnTo>
                  <a:lnTo>
                    <a:pt x="1031" y="466"/>
                  </a:lnTo>
                  <a:lnTo>
                    <a:pt x="1043" y="476"/>
                  </a:lnTo>
                  <a:lnTo>
                    <a:pt x="1000" y="487"/>
                  </a:lnTo>
                  <a:lnTo>
                    <a:pt x="1046" y="505"/>
                  </a:lnTo>
                  <a:lnTo>
                    <a:pt x="1098" y="446"/>
                  </a:lnTo>
                  <a:lnTo>
                    <a:pt x="1091" y="406"/>
                  </a:lnTo>
                  <a:lnTo>
                    <a:pt x="1110" y="400"/>
                  </a:lnTo>
                  <a:lnTo>
                    <a:pt x="1134" y="395"/>
                  </a:lnTo>
                  <a:lnTo>
                    <a:pt x="1151" y="415"/>
                  </a:lnTo>
                  <a:lnTo>
                    <a:pt x="1147" y="445"/>
                  </a:lnTo>
                  <a:lnTo>
                    <a:pt x="1183" y="451"/>
                  </a:lnTo>
                  <a:lnTo>
                    <a:pt x="1155" y="443"/>
                  </a:lnTo>
                  <a:lnTo>
                    <a:pt x="1167" y="425"/>
                  </a:lnTo>
                  <a:lnTo>
                    <a:pt x="1156" y="400"/>
                  </a:lnTo>
                  <a:lnTo>
                    <a:pt x="1078" y="386"/>
                  </a:lnTo>
                  <a:lnTo>
                    <a:pt x="1090" y="325"/>
                  </a:lnTo>
                  <a:lnTo>
                    <a:pt x="1064" y="287"/>
                  </a:lnTo>
                  <a:lnTo>
                    <a:pt x="1103" y="254"/>
                  </a:lnTo>
                  <a:lnTo>
                    <a:pt x="1099" y="231"/>
                  </a:lnTo>
                  <a:lnTo>
                    <a:pt x="1115" y="243"/>
                  </a:lnTo>
                  <a:lnTo>
                    <a:pt x="1107" y="293"/>
                  </a:lnTo>
                  <a:lnTo>
                    <a:pt x="1120" y="298"/>
                  </a:lnTo>
                  <a:lnTo>
                    <a:pt x="1172" y="313"/>
                  </a:lnTo>
                  <a:lnTo>
                    <a:pt x="1125" y="273"/>
                  </a:lnTo>
                  <a:lnTo>
                    <a:pt x="1160" y="274"/>
                  </a:lnTo>
                  <a:lnTo>
                    <a:pt x="1153" y="260"/>
                  </a:lnTo>
                  <a:lnTo>
                    <a:pt x="1172" y="251"/>
                  </a:lnTo>
                  <a:lnTo>
                    <a:pt x="1269" y="282"/>
                  </a:lnTo>
                  <a:lnTo>
                    <a:pt x="1250" y="302"/>
                  </a:lnTo>
                  <a:lnTo>
                    <a:pt x="1248" y="333"/>
                  </a:lnTo>
                  <a:lnTo>
                    <a:pt x="1267" y="350"/>
                  </a:lnTo>
                  <a:lnTo>
                    <a:pt x="1276" y="282"/>
                  </a:lnTo>
                  <a:lnTo>
                    <a:pt x="1223" y="248"/>
                  </a:lnTo>
                  <a:lnTo>
                    <a:pt x="1214" y="197"/>
                  </a:lnTo>
                  <a:lnTo>
                    <a:pt x="1335" y="183"/>
                  </a:lnTo>
                  <a:lnTo>
                    <a:pt x="1321" y="138"/>
                  </a:lnTo>
                  <a:lnTo>
                    <a:pt x="1335" y="147"/>
                  </a:lnTo>
                  <a:lnTo>
                    <a:pt x="1356" y="129"/>
                  </a:lnTo>
                  <a:lnTo>
                    <a:pt x="1342" y="124"/>
                  </a:lnTo>
                  <a:lnTo>
                    <a:pt x="1469" y="91"/>
                  </a:lnTo>
                  <a:lnTo>
                    <a:pt x="1459" y="81"/>
                  </a:lnTo>
                  <a:lnTo>
                    <a:pt x="1518" y="76"/>
                  </a:lnTo>
                  <a:lnTo>
                    <a:pt x="1515" y="90"/>
                  </a:lnTo>
                  <a:lnTo>
                    <a:pt x="1531" y="90"/>
                  </a:lnTo>
                  <a:lnTo>
                    <a:pt x="1575" y="70"/>
                  </a:lnTo>
                  <a:lnTo>
                    <a:pt x="1595" y="82"/>
                  </a:lnTo>
                  <a:lnTo>
                    <a:pt x="1578" y="60"/>
                  </a:lnTo>
                  <a:lnTo>
                    <a:pt x="1625" y="56"/>
                  </a:lnTo>
                  <a:lnTo>
                    <a:pt x="1625" y="33"/>
                  </a:lnTo>
                  <a:lnTo>
                    <a:pt x="1683" y="0"/>
                  </a:lnTo>
                  <a:lnTo>
                    <a:pt x="1722" y="17"/>
                  </a:lnTo>
                  <a:lnTo>
                    <a:pt x="1687" y="37"/>
                  </a:lnTo>
                  <a:lnTo>
                    <a:pt x="1747" y="36"/>
                  </a:lnTo>
                  <a:lnTo>
                    <a:pt x="1724" y="60"/>
                  </a:lnTo>
                  <a:lnTo>
                    <a:pt x="1823" y="48"/>
                  </a:lnTo>
                  <a:lnTo>
                    <a:pt x="1876" y="90"/>
                  </a:lnTo>
                  <a:lnTo>
                    <a:pt x="1867" y="104"/>
                  </a:lnTo>
                  <a:lnTo>
                    <a:pt x="1850" y="91"/>
                  </a:lnTo>
                  <a:lnTo>
                    <a:pt x="1875" y="105"/>
                  </a:lnTo>
                  <a:lnTo>
                    <a:pt x="1862" y="127"/>
                  </a:lnTo>
                  <a:lnTo>
                    <a:pt x="1683" y="242"/>
                  </a:lnTo>
                  <a:lnTo>
                    <a:pt x="1739" y="228"/>
                  </a:lnTo>
                  <a:lnTo>
                    <a:pt x="1728" y="214"/>
                  </a:lnTo>
                  <a:lnTo>
                    <a:pt x="1817" y="192"/>
                  </a:lnTo>
                  <a:lnTo>
                    <a:pt x="1794" y="194"/>
                  </a:lnTo>
                  <a:lnTo>
                    <a:pt x="1801" y="175"/>
                  </a:lnTo>
                  <a:lnTo>
                    <a:pt x="1850" y="192"/>
                  </a:lnTo>
                  <a:lnTo>
                    <a:pt x="1857" y="175"/>
                  </a:lnTo>
                  <a:lnTo>
                    <a:pt x="1868" y="212"/>
                  </a:lnTo>
                  <a:lnTo>
                    <a:pt x="1893" y="215"/>
                  </a:lnTo>
                  <a:lnTo>
                    <a:pt x="1871" y="198"/>
                  </a:lnTo>
                  <a:lnTo>
                    <a:pt x="1917" y="192"/>
                  </a:lnTo>
                  <a:lnTo>
                    <a:pt x="1974" y="197"/>
                  </a:lnTo>
                  <a:lnTo>
                    <a:pt x="1970" y="214"/>
                  </a:lnTo>
                  <a:lnTo>
                    <a:pt x="2020" y="225"/>
                  </a:lnTo>
                  <a:lnTo>
                    <a:pt x="2064" y="220"/>
                  </a:lnTo>
                  <a:lnTo>
                    <a:pt x="2067" y="188"/>
                  </a:lnTo>
                  <a:lnTo>
                    <a:pt x="2078" y="183"/>
                  </a:lnTo>
                  <a:lnTo>
                    <a:pt x="2189" y="220"/>
                  </a:lnTo>
                  <a:lnTo>
                    <a:pt x="2175" y="282"/>
                  </a:lnTo>
                  <a:lnTo>
                    <a:pt x="2226" y="322"/>
                  </a:lnTo>
                  <a:lnTo>
                    <a:pt x="2253" y="267"/>
                  </a:lnTo>
                  <a:lnTo>
                    <a:pt x="2274" y="293"/>
                  </a:lnTo>
                  <a:lnTo>
                    <a:pt x="2310" y="282"/>
                  </a:lnTo>
                  <a:lnTo>
                    <a:pt x="2359" y="302"/>
                  </a:lnTo>
                  <a:lnTo>
                    <a:pt x="2398" y="291"/>
                  </a:lnTo>
                  <a:lnTo>
                    <a:pt x="2394" y="267"/>
                  </a:lnTo>
                  <a:lnTo>
                    <a:pt x="2420" y="229"/>
                  </a:lnTo>
                  <a:lnTo>
                    <a:pt x="2585" y="256"/>
                  </a:lnTo>
                  <a:lnTo>
                    <a:pt x="2598" y="273"/>
                  </a:lnTo>
                  <a:lnTo>
                    <a:pt x="2578" y="280"/>
                  </a:lnTo>
                  <a:lnTo>
                    <a:pt x="2630" y="291"/>
                  </a:lnTo>
                  <a:lnTo>
                    <a:pt x="2649" y="318"/>
                  </a:lnTo>
                  <a:lnTo>
                    <a:pt x="2774" y="313"/>
                  </a:lnTo>
                  <a:lnTo>
                    <a:pt x="2797" y="335"/>
                  </a:lnTo>
                  <a:lnTo>
                    <a:pt x="2790" y="361"/>
                  </a:lnTo>
                  <a:lnTo>
                    <a:pt x="2824" y="378"/>
                  </a:lnTo>
                  <a:lnTo>
                    <a:pt x="2844" y="364"/>
                  </a:lnTo>
                  <a:lnTo>
                    <a:pt x="2932" y="373"/>
                  </a:lnTo>
                  <a:lnTo>
                    <a:pt x="2952" y="361"/>
                  </a:lnTo>
                  <a:lnTo>
                    <a:pt x="2961" y="383"/>
                  </a:lnTo>
                  <a:lnTo>
                    <a:pt x="2997" y="403"/>
                  </a:lnTo>
                  <a:lnTo>
                    <a:pt x="3016" y="391"/>
                  </a:lnTo>
                  <a:lnTo>
                    <a:pt x="2996" y="369"/>
                  </a:lnTo>
                  <a:lnTo>
                    <a:pt x="3008" y="350"/>
                  </a:lnTo>
                  <a:lnTo>
                    <a:pt x="3162" y="377"/>
                  </a:lnTo>
                  <a:lnTo>
                    <a:pt x="3265" y="448"/>
                  </a:lnTo>
                  <a:lnTo>
                    <a:pt x="3286" y="448"/>
                  </a:lnTo>
                  <a:lnTo>
                    <a:pt x="3313" y="501"/>
                  </a:lnTo>
                  <a:lnTo>
                    <a:pt x="3303" y="473"/>
                  </a:lnTo>
                  <a:lnTo>
                    <a:pt x="3318" y="470"/>
                  </a:lnTo>
                  <a:lnTo>
                    <a:pt x="3327" y="482"/>
                  </a:lnTo>
                  <a:lnTo>
                    <a:pt x="3359" y="477"/>
                  </a:lnTo>
                  <a:lnTo>
                    <a:pt x="3399" y="508"/>
                  </a:lnTo>
                  <a:lnTo>
                    <a:pt x="3340" y="542"/>
                  </a:lnTo>
                  <a:lnTo>
                    <a:pt x="3352" y="550"/>
                  </a:lnTo>
                  <a:lnTo>
                    <a:pt x="3333" y="561"/>
                  </a:lnTo>
                  <a:lnTo>
                    <a:pt x="3348" y="573"/>
                  </a:lnTo>
                  <a:lnTo>
                    <a:pt x="3313" y="575"/>
                  </a:lnTo>
                  <a:lnTo>
                    <a:pt x="3301" y="552"/>
                  </a:lnTo>
                  <a:lnTo>
                    <a:pt x="3287" y="561"/>
                  </a:lnTo>
                  <a:lnTo>
                    <a:pt x="3265" y="528"/>
                  </a:lnTo>
                  <a:lnTo>
                    <a:pt x="3226" y="530"/>
                  </a:lnTo>
                  <a:lnTo>
                    <a:pt x="3215" y="511"/>
                  </a:lnTo>
                  <a:lnTo>
                    <a:pt x="3224" y="501"/>
                  </a:lnTo>
                  <a:lnTo>
                    <a:pt x="3207" y="501"/>
                  </a:lnTo>
                  <a:lnTo>
                    <a:pt x="3196" y="508"/>
                  </a:lnTo>
                  <a:lnTo>
                    <a:pt x="3207" y="532"/>
                  </a:lnTo>
                  <a:lnTo>
                    <a:pt x="3198" y="545"/>
                  </a:lnTo>
                  <a:lnTo>
                    <a:pt x="3166" y="567"/>
                  </a:lnTo>
                  <a:lnTo>
                    <a:pt x="3142" y="561"/>
                  </a:lnTo>
                  <a:lnTo>
                    <a:pt x="3183" y="626"/>
                  </a:lnTo>
                  <a:lnTo>
                    <a:pt x="3175" y="651"/>
                  </a:lnTo>
                  <a:lnTo>
                    <a:pt x="3134" y="631"/>
                  </a:lnTo>
                  <a:lnTo>
                    <a:pt x="3137" y="645"/>
                  </a:lnTo>
                  <a:lnTo>
                    <a:pt x="3065" y="673"/>
                  </a:lnTo>
                  <a:lnTo>
                    <a:pt x="3001" y="738"/>
                  </a:lnTo>
                  <a:lnTo>
                    <a:pt x="2958" y="714"/>
                  </a:lnTo>
                  <a:lnTo>
                    <a:pt x="2918" y="741"/>
                  </a:lnTo>
                  <a:lnTo>
                    <a:pt x="2918" y="717"/>
                  </a:lnTo>
                  <a:lnTo>
                    <a:pt x="2894" y="742"/>
                  </a:lnTo>
                  <a:lnTo>
                    <a:pt x="2867" y="739"/>
                  </a:lnTo>
                  <a:lnTo>
                    <a:pt x="2836" y="801"/>
                  </a:lnTo>
                  <a:lnTo>
                    <a:pt x="2859" y="814"/>
                  </a:lnTo>
                  <a:lnTo>
                    <a:pt x="2850" y="834"/>
                  </a:lnTo>
                  <a:lnTo>
                    <a:pt x="2859" y="868"/>
                  </a:lnTo>
                  <a:lnTo>
                    <a:pt x="2841" y="860"/>
                  </a:lnTo>
                  <a:lnTo>
                    <a:pt x="2829" y="889"/>
                  </a:lnTo>
                  <a:lnTo>
                    <a:pt x="2837" y="916"/>
                  </a:lnTo>
                  <a:lnTo>
                    <a:pt x="2794" y="936"/>
                  </a:lnTo>
                  <a:lnTo>
                    <a:pt x="2797" y="964"/>
                  </a:lnTo>
                  <a:lnTo>
                    <a:pt x="2768" y="972"/>
                  </a:lnTo>
                  <a:lnTo>
                    <a:pt x="2760" y="1004"/>
                  </a:lnTo>
                  <a:lnTo>
                    <a:pt x="2734" y="1035"/>
                  </a:lnTo>
                  <a:lnTo>
                    <a:pt x="2711" y="916"/>
                  </a:lnTo>
                  <a:lnTo>
                    <a:pt x="2716" y="848"/>
                  </a:lnTo>
                  <a:lnTo>
                    <a:pt x="2734" y="810"/>
                  </a:lnTo>
                  <a:lnTo>
                    <a:pt x="2765" y="803"/>
                  </a:lnTo>
                  <a:lnTo>
                    <a:pt x="2836" y="719"/>
                  </a:lnTo>
                  <a:lnTo>
                    <a:pt x="2870" y="704"/>
                  </a:lnTo>
                  <a:lnTo>
                    <a:pt x="2879" y="655"/>
                  </a:lnTo>
                  <a:lnTo>
                    <a:pt x="2894" y="645"/>
                  </a:lnTo>
                  <a:lnTo>
                    <a:pt x="2868" y="645"/>
                  </a:lnTo>
                  <a:lnTo>
                    <a:pt x="2859" y="680"/>
                  </a:lnTo>
                  <a:lnTo>
                    <a:pt x="2801" y="714"/>
                  </a:lnTo>
                  <a:lnTo>
                    <a:pt x="2804" y="666"/>
                  </a:lnTo>
                  <a:lnTo>
                    <a:pt x="2742" y="676"/>
                  </a:lnTo>
                  <a:lnTo>
                    <a:pt x="2681" y="741"/>
                  </a:lnTo>
                  <a:lnTo>
                    <a:pt x="2695" y="766"/>
                  </a:lnTo>
                  <a:lnTo>
                    <a:pt x="2627" y="775"/>
                  </a:lnTo>
                  <a:lnTo>
                    <a:pt x="2619" y="767"/>
                  </a:lnTo>
                  <a:lnTo>
                    <a:pt x="2641" y="762"/>
                  </a:lnTo>
                  <a:lnTo>
                    <a:pt x="2587" y="745"/>
                  </a:lnTo>
                  <a:lnTo>
                    <a:pt x="2572" y="762"/>
                  </a:lnTo>
                  <a:lnTo>
                    <a:pt x="2450" y="762"/>
                  </a:lnTo>
                  <a:lnTo>
                    <a:pt x="2303" y="913"/>
                  </a:lnTo>
                  <a:lnTo>
                    <a:pt x="2335" y="917"/>
                  </a:lnTo>
                  <a:lnTo>
                    <a:pt x="2335" y="945"/>
                  </a:lnTo>
                  <a:lnTo>
                    <a:pt x="2351" y="928"/>
                  </a:lnTo>
                  <a:lnTo>
                    <a:pt x="2344" y="951"/>
                  </a:lnTo>
                  <a:lnTo>
                    <a:pt x="2369" y="939"/>
                  </a:lnTo>
                  <a:lnTo>
                    <a:pt x="2366" y="953"/>
                  </a:lnTo>
                  <a:lnTo>
                    <a:pt x="2373" y="928"/>
                  </a:lnTo>
                  <a:lnTo>
                    <a:pt x="2394" y="928"/>
                  </a:lnTo>
                  <a:lnTo>
                    <a:pt x="2425" y="959"/>
                  </a:lnTo>
                  <a:lnTo>
                    <a:pt x="2398" y="962"/>
                  </a:lnTo>
                  <a:lnTo>
                    <a:pt x="2421" y="973"/>
                  </a:lnTo>
                  <a:lnTo>
                    <a:pt x="2428" y="995"/>
                  </a:lnTo>
                  <a:lnTo>
                    <a:pt x="2408" y="1040"/>
                  </a:lnTo>
                  <a:lnTo>
                    <a:pt x="2404" y="1110"/>
                  </a:lnTo>
                  <a:lnTo>
                    <a:pt x="2301" y="1258"/>
                  </a:lnTo>
                  <a:lnTo>
                    <a:pt x="2266" y="1278"/>
                  </a:lnTo>
                  <a:lnTo>
                    <a:pt x="2237" y="1258"/>
                  </a:lnTo>
                  <a:lnTo>
                    <a:pt x="2213" y="1286"/>
                  </a:lnTo>
                  <a:lnTo>
                    <a:pt x="2210" y="1282"/>
                  </a:lnTo>
                  <a:lnTo>
                    <a:pt x="2224" y="1258"/>
                  </a:lnTo>
                  <a:lnTo>
                    <a:pt x="2219" y="1221"/>
                  </a:lnTo>
                  <a:lnTo>
                    <a:pt x="2261" y="1207"/>
                  </a:lnTo>
                  <a:lnTo>
                    <a:pt x="2295" y="1110"/>
                  </a:lnTo>
                  <a:lnTo>
                    <a:pt x="2222" y="1131"/>
                  </a:lnTo>
                  <a:lnTo>
                    <a:pt x="2210" y="1096"/>
                  </a:lnTo>
                  <a:lnTo>
                    <a:pt x="2149" y="1074"/>
                  </a:lnTo>
                  <a:lnTo>
                    <a:pt x="2113" y="970"/>
                  </a:lnTo>
                  <a:lnTo>
                    <a:pt x="2072" y="953"/>
                  </a:lnTo>
                  <a:lnTo>
                    <a:pt x="2001" y="981"/>
                  </a:lnTo>
                  <a:lnTo>
                    <a:pt x="2014" y="1003"/>
                  </a:lnTo>
                  <a:lnTo>
                    <a:pt x="1984" y="1060"/>
                  </a:lnTo>
                  <a:lnTo>
                    <a:pt x="1956" y="1075"/>
                  </a:lnTo>
                  <a:lnTo>
                    <a:pt x="1927" y="1063"/>
                  </a:lnTo>
                  <a:lnTo>
                    <a:pt x="1891" y="1057"/>
                  </a:lnTo>
                  <a:lnTo>
                    <a:pt x="1794" y="1085"/>
                  </a:lnTo>
                  <a:lnTo>
                    <a:pt x="1713" y="1046"/>
                  </a:lnTo>
                  <a:lnTo>
                    <a:pt x="1661" y="1051"/>
                  </a:lnTo>
                  <a:lnTo>
                    <a:pt x="1640" y="1017"/>
                  </a:lnTo>
                  <a:lnTo>
                    <a:pt x="1587" y="995"/>
                  </a:lnTo>
                  <a:lnTo>
                    <a:pt x="1559" y="1018"/>
                  </a:lnTo>
                  <a:lnTo>
                    <a:pt x="1558" y="1063"/>
                  </a:lnTo>
                  <a:lnTo>
                    <a:pt x="1438" y="1043"/>
                  </a:lnTo>
                  <a:lnTo>
                    <a:pt x="1359" y="1092"/>
                  </a:lnTo>
                  <a:lnTo>
                    <a:pt x="1321" y="1111"/>
                  </a:lnTo>
                  <a:lnTo>
                    <a:pt x="1314" y="1151"/>
                  </a:lnTo>
                  <a:lnTo>
                    <a:pt x="1262" y="1148"/>
                  </a:lnTo>
                  <a:lnTo>
                    <a:pt x="1250" y="1204"/>
                  </a:lnTo>
                  <a:lnTo>
                    <a:pt x="1202" y="1216"/>
                  </a:lnTo>
                  <a:lnTo>
                    <a:pt x="1218" y="1258"/>
                  </a:lnTo>
                  <a:lnTo>
                    <a:pt x="1206" y="1295"/>
                  </a:lnTo>
                  <a:lnTo>
                    <a:pt x="1130" y="1344"/>
                  </a:lnTo>
                  <a:lnTo>
                    <a:pt x="1083" y="1353"/>
                  </a:lnTo>
                  <a:lnTo>
                    <a:pt x="1078" y="1385"/>
                  </a:lnTo>
                  <a:lnTo>
                    <a:pt x="1099" y="1396"/>
                  </a:lnTo>
                  <a:lnTo>
                    <a:pt x="1099" y="1429"/>
                  </a:lnTo>
                  <a:lnTo>
                    <a:pt x="1073" y="1423"/>
                  </a:lnTo>
                  <a:lnTo>
                    <a:pt x="1038" y="1443"/>
                  </a:lnTo>
                  <a:lnTo>
                    <a:pt x="1022" y="1396"/>
                  </a:lnTo>
                  <a:lnTo>
                    <a:pt x="991" y="1432"/>
                  </a:lnTo>
                  <a:lnTo>
                    <a:pt x="905" y="1429"/>
                  </a:lnTo>
                  <a:lnTo>
                    <a:pt x="861" y="1483"/>
                  </a:lnTo>
                  <a:lnTo>
                    <a:pt x="832" y="1466"/>
                  </a:lnTo>
                  <a:lnTo>
                    <a:pt x="828" y="1446"/>
                  </a:lnTo>
                  <a:lnTo>
                    <a:pt x="747" y="1398"/>
                  </a:lnTo>
                  <a:lnTo>
                    <a:pt x="684" y="1423"/>
                  </a:lnTo>
                  <a:lnTo>
                    <a:pt x="686" y="1381"/>
                  </a:lnTo>
                  <a:lnTo>
                    <a:pt x="671" y="1370"/>
                  </a:lnTo>
                  <a:lnTo>
                    <a:pt x="683" y="1357"/>
                  </a:lnTo>
                  <a:lnTo>
                    <a:pt x="662" y="1354"/>
                  </a:lnTo>
                  <a:lnTo>
                    <a:pt x="662" y="1322"/>
                  </a:lnTo>
                  <a:lnTo>
                    <a:pt x="691" y="1334"/>
                  </a:lnTo>
                  <a:lnTo>
                    <a:pt x="700" y="1322"/>
                  </a:lnTo>
                  <a:lnTo>
                    <a:pt x="675" y="1295"/>
                  </a:lnTo>
                  <a:lnTo>
                    <a:pt x="662" y="1319"/>
                  </a:lnTo>
                  <a:lnTo>
                    <a:pt x="660" y="1274"/>
                  </a:lnTo>
                  <a:lnTo>
                    <a:pt x="632" y="1263"/>
                  </a:lnTo>
                  <a:lnTo>
                    <a:pt x="609" y="1224"/>
                  </a:lnTo>
                  <a:lnTo>
                    <a:pt x="636" y="1224"/>
                  </a:lnTo>
                  <a:lnTo>
                    <a:pt x="635" y="1207"/>
                  </a:lnTo>
                  <a:lnTo>
                    <a:pt x="651" y="1198"/>
                  </a:lnTo>
                  <a:lnTo>
                    <a:pt x="700" y="1207"/>
                  </a:lnTo>
                  <a:lnTo>
                    <a:pt x="660" y="1148"/>
                  </a:lnTo>
                  <a:lnTo>
                    <a:pt x="578" y="1162"/>
                  </a:lnTo>
                  <a:lnTo>
                    <a:pt x="587" y="1170"/>
                  </a:lnTo>
                  <a:lnTo>
                    <a:pt x="568" y="1184"/>
                  </a:lnTo>
                  <a:lnTo>
                    <a:pt x="557" y="1172"/>
                  </a:lnTo>
                  <a:lnTo>
                    <a:pt x="541" y="1229"/>
                  </a:lnTo>
                  <a:lnTo>
                    <a:pt x="559" y="1243"/>
                  </a:lnTo>
                  <a:lnTo>
                    <a:pt x="572" y="1299"/>
                  </a:lnTo>
                  <a:lnTo>
                    <a:pt x="613" y="1344"/>
                  </a:lnTo>
                  <a:lnTo>
                    <a:pt x="597" y="1348"/>
                  </a:lnTo>
                  <a:lnTo>
                    <a:pt x="584" y="1393"/>
                  </a:lnTo>
                  <a:lnTo>
                    <a:pt x="566" y="1385"/>
                  </a:lnTo>
                  <a:lnTo>
                    <a:pt x="563" y="1362"/>
                  </a:lnTo>
                  <a:lnTo>
                    <a:pt x="528" y="1384"/>
                  </a:lnTo>
                  <a:lnTo>
                    <a:pt x="499" y="1357"/>
                  </a:lnTo>
                  <a:lnTo>
                    <a:pt x="463" y="1308"/>
                  </a:lnTo>
                  <a:lnTo>
                    <a:pt x="437" y="1308"/>
                  </a:lnTo>
                  <a:lnTo>
                    <a:pt x="434" y="1274"/>
                  </a:lnTo>
                  <a:lnTo>
                    <a:pt x="342" y="1206"/>
                  </a:lnTo>
                  <a:lnTo>
                    <a:pt x="377" y="1179"/>
                  </a:lnTo>
                  <a:lnTo>
                    <a:pt x="364" y="1162"/>
                  </a:lnTo>
                  <a:lnTo>
                    <a:pt x="389" y="1144"/>
                  </a:lnTo>
                  <a:lnTo>
                    <a:pt x="312" y="1168"/>
                  </a:lnTo>
                  <a:lnTo>
                    <a:pt x="306" y="1184"/>
                  </a:lnTo>
                  <a:lnTo>
                    <a:pt x="283" y="1175"/>
                  </a:lnTo>
                  <a:lnTo>
                    <a:pt x="310" y="1201"/>
                  </a:lnTo>
                  <a:lnTo>
                    <a:pt x="342" y="1198"/>
                  </a:lnTo>
                  <a:lnTo>
                    <a:pt x="288" y="1229"/>
                  </a:lnTo>
                  <a:lnTo>
                    <a:pt x="259" y="1198"/>
                  </a:lnTo>
                  <a:lnTo>
                    <a:pt x="282" y="1179"/>
                  </a:lnTo>
                  <a:lnTo>
                    <a:pt x="245" y="1175"/>
                  </a:lnTo>
                  <a:lnTo>
                    <a:pt x="248" y="1158"/>
                  </a:lnTo>
                  <a:lnTo>
                    <a:pt x="211" y="1170"/>
                  </a:lnTo>
                  <a:lnTo>
                    <a:pt x="201" y="1199"/>
                  </a:lnTo>
                  <a:lnTo>
                    <a:pt x="171" y="1198"/>
                  </a:lnTo>
                  <a:lnTo>
                    <a:pt x="169" y="1158"/>
                  </a:lnTo>
                  <a:lnTo>
                    <a:pt x="142" y="1114"/>
                  </a:lnTo>
                  <a:lnTo>
                    <a:pt x="64" y="1123"/>
                  </a:lnTo>
                  <a:lnTo>
                    <a:pt x="50" y="1110"/>
                  </a:lnTo>
                  <a:lnTo>
                    <a:pt x="56" y="1089"/>
                  </a:lnTo>
                  <a:lnTo>
                    <a:pt x="89" y="1043"/>
                  </a:lnTo>
                  <a:lnTo>
                    <a:pt x="72" y="990"/>
                  </a:lnTo>
                  <a:lnTo>
                    <a:pt x="86" y="976"/>
                  </a:lnTo>
                  <a:lnTo>
                    <a:pt x="78" y="934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7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643280" y="2133720"/>
              <a:ext cx="4249800" cy="2303280"/>
            </a:xfrm>
            <a:custGeom>
              <a:avLst/>
              <a:gdLst/>
              <a:ahLst/>
              <a:rect l="l" t="t" r="r" b="b"/>
              <a:pathLst>
                <a:path w="3399" h="1483">
                  <a:moveTo>
                    <a:pt x="0" y="920"/>
                  </a:moveTo>
                  <a:lnTo>
                    <a:pt x="29" y="893"/>
                  </a:lnTo>
                  <a:lnTo>
                    <a:pt x="21" y="903"/>
                  </a:lnTo>
                  <a:lnTo>
                    <a:pt x="31" y="907"/>
                  </a:lnTo>
                  <a:lnTo>
                    <a:pt x="29" y="846"/>
                  </a:lnTo>
                  <a:lnTo>
                    <a:pt x="40" y="818"/>
                  </a:lnTo>
                  <a:lnTo>
                    <a:pt x="59" y="814"/>
                  </a:lnTo>
                  <a:lnTo>
                    <a:pt x="90" y="840"/>
                  </a:lnTo>
                  <a:lnTo>
                    <a:pt x="98" y="790"/>
                  </a:lnTo>
                  <a:lnTo>
                    <a:pt x="82" y="792"/>
                  </a:lnTo>
                  <a:lnTo>
                    <a:pt x="78" y="761"/>
                  </a:lnTo>
                  <a:lnTo>
                    <a:pt x="211" y="736"/>
                  </a:lnTo>
                  <a:lnTo>
                    <a:pt x="179" y="722"/>
                  </a:lnTo>
                  <a:lnTo>
                    <a:pt x="181" y="708"/>
                  </a:lnTo>
                  <a:lnTo>
                    <a:pt x="160" y="714"/>
                  </a:lnTo>
                  <a:lnTo>
                    <a:pt x="236" y="638"/>
                  </a:lnTo>
                  <a:lnTo>
                    <a:pt x="202" y="558"/>
                  </a:lnTo>
                  <a:lnTo>
                    <a:pt x="210" y="521"/>
                  </a:lnTo>
                  <a:lnTo>
                    <a:pt x="192" y="477"/>
                  </a:lnTo>
                  <a:lnTo>
                    <a:pt x="207" y="449"/>
                  </a:lnTo>
                  <a:lnTo>
                    <a:pt x="179" y="418"/>
                  </a:lnTo>
                  <a:lnTo>
                    <a:pt x="189" y="392"/>
                  </a:lnTo>
                  <a:lnTo>
                    <a:pt x="224" y="361"/>
                  </a:lnTo>
                  <a:lnTo>
                    <a:pt x="245" y="355"/>
                  </a:lnTo>
                  <a:lnTo>
                    <a:pt x="269" y="364"/>
                  </a:lnTo>
                  <a:lnTo>
                    <a:pt x="248" y="372"/>
                  </a:lnTo>
                  <a:lnTo>
                    <a:pt x="266" y="383"/>
                  </a:lnTo>
                  <a:lnTo>
                    <a:pt x="323" y="386"/>
                  </a:lnTo>
                  <a:lnTo>
                    <a:pt x="426" y="449"/>
                  </a:lnTo>
                  <a:lnTo>
                    <a:pt x="430" y="483"/>
                  </a:lnTo>
                  <a:lnTo>
                    <a:pt x="385" y="511"/>
                  </a:lnTo>
                  <a:lnTo>
                    <a:pt x="248" y="473"/>
                  </a:lnTo>
                  <a:lnTo>
                    <a:pt x="304" y="519"/>
                  </a:lnTo>
                  <a:lnTo>
                    <a:pt x="301" y="573"/>
                  </a:lnTo>
                  <a:lnTo>
                    <a:pt x="360" y="598"/>
                  </a:lnTo>
                  <a:lnTo>
                    <a:pt x="373" y="595"/>
                  </a:lnTo>
                  <a:lnTo>
                    <a:pt x="365" y="573"/>
                  </a:lnTo>
                  <a:lnTo>
                    <a:pt x="342" y="563"/>
                  </a:lnTo>
                  <a:lnTo>
                    <a:pt x="346" y="545"/>
                  </a:lnTo>
                  <a:lnTo>
                    <a:pt x="370" y="567"/>
                  </a:lnTo>
                  <a:lnTo>
                    <a:pt x="426" y="573"/>
                  </a:lnTo>
                  <a:lnTo>
                    <a:pt x="403" y="528"/>
                  </a:lnTo>
                  <a:lnTo>
                    <a:pt x="452" y="493"/>
                  </a:lnTo>
                  <a:lnTo>
                    <a:pt x="490" y="519"/>
                  </a:lnTo>
                  <a:lnTo>
                    <a:pt x="490" y="420"/>
                  </a:lnTo>
                  <a:lnTo>
                    <a:pt x="472" y="406"/>
                  </a:lnTo>
                  <a:lnTo>
                    <a:pt x="535" y="428"/>
                  </a:lnTo>
                  <a:lnTo>
                    <a:pt x="540" y="442"/>
                  </a:lnTo>
                  <a:lnTo>
                    <a:pt x="507" y="457"/>
                  </a:lnTo>
                  <a:lnTo>
                    <a:pt x="540" y="488"/>
                  </a:lnTo>
                  <a:lnTo>
                    <a:pt x="567" y="449"/>
                  </a:lnTo>
                  <a:lnTo>
                    <a:pt x="682" y="397"/>
                  </a:lnTo>
                  <a:lnTo>
                    <a:pt x="699" y="395"/>
                  </a:lnTo>
                  <a:lnTo>
                    <a:pt x="682" y="401"/>
                  </a:lnTo>
                  <a:lnTo>
                    <a:pt x="700" y="428"/>
                  </a:lnTo>
                  <a:lnTo>
                    <a:pt x="785" y="395"/>
                  </a:lnTo>
                  <a:lnTo>
                    <a:pt x="801" y="420"/>
                  </a:lnTo>
                  <a:lnTo>
                    <a:pt x="823" y="398"/>
                  </a:lnTo>
                  <a:lnTo>
                    <a:pt x="812" y="369"/>
                  </a:lnTo>
                  <a:lnTo>
                    <a:pt x="823" y="360"/>
                  </a:lnTo>
                  <a:lnTo>
                    <a:pt x="888" y="372"/>
                  </a:lnTo>
                  <a:lnTo>
                    <a:pt x="970" y="426"/>
                  </a:lnTo>
                  <a:lnTo>
                    <a:pt x="987" y="400"/>
                  </a:lnTo>
                  <a:lnTo>
                    <a:pt x="967" y="372"/>
                  </a:lnTo>
                  <a:lnTo>
                    <a:pt x="943" y="367"/>
                  </a:lnTo>
                  <a:lnTo>
                    <a:pt x="954" y="322"/>
                  </a:lnTo>
                  <a:lnTo>
                    <a:pt x="935" y="318"/>
                  </a:lnTo>
                  <a:lnTo>
                    <a:pt x="941" y="298"/>
                  </a:lnTo>
                  <a:lnTo>
                    <a:pt x="973" y="276"/>
                  </a:lnTo>
                  <a:lnTo>
                    <a:pt x="991" y="225"/>
                  </a:lnTo>
                  <a:lnTo>
                    <a:pt x="1037" y="226"/>
                  </a:lnTo>
                  <a:lnTo>
                    <a:pt x="1057" y="234"/>
                  </a:lnTo>
                  <a:lnTo>
                    <a:pt x="1040" y="288"/>
                  </a:lnTo>
                  <a:lnTo>
                    <a:pt x="1060" y="316"/>
                  </a:lnTo>
                  <a:lnTo>
                    <a:pt x="1052" y="392"/>
                  </a:lnTo>
                  <a:lnTo>
                    <a:pt x="1073" y="417"/>
                  </a:lnTo>
                  <a:lnTo>
                    <a:pt x="1065" y="446"/>
                  </a:lnTo>
                  <a:lnTo>
                    <a:pt x="1031" y="466"/>
                  </a:lnTo>
                  <a:lnTo>
                    <a:pt x="1043" y="476"/>
                  </a:lnTo>
                  <a:lnTo>
                    <a:pt x="1000" y="487"/>
                  </a:lnTo>
                  <a:lnTo>
                    <a:pt x="1046" y="505"/>
                  </a:lnTo>
                  <a:lnTo>
                    <a:pt x="1098" y="446"/>
                  </a:lnTo>
                  <a:lnTo>
                    <a:pt x="1091" y="406"/>
                  </a:lnTo>
                  <a:lnTo>
                    <a:pt x="1110" y="400"/>
                  </a:lnTo>
                  <a:lnTo>
                    <a:pt x="1134" y="395"/>
                  </a:lnTo>
                  <a:lnTo>
                    <a:pt x="1151" y="415"/>
                  </a:lnTo>
                  <a:lnTo>
                    <a:pt x="1147" y="445"/>
                  </a:lnTo>
                  <a:lnTo>
                    <a:pt x="1183" y="451"/>
                  </a:lnTo>
                  <a:lnTo>
                    <a:pt x="1155" y="443"/>
                  </a:lnTo>
                  <a:lnTo>
                    <a:pt x="1167" y="425"/>
                  </a:lnTo>
                  <a:lnTo>
                    <a:pt x="1156" y="400"/>
                  </a:lnTo>
                  <a:lnTo>
                    <a:pt x="1078" y="386"/>
                  </a:lnTo>
                  <a:lnTo>
                    <a:pt x="1090" y="325"/>
                  </a:lnTo>
                  <a:lnTo>
                    <a:pt x="1064" y="287"/>
                  </a:lnTo>
                  <a:lnTo>
                    <a:pt x="1103" y="254"/>
                  </a:lnTo>
                  <a:lnTo>
                    <a:pt x="1099" y="231"/>
                  </a:lnTo>
                  <a:lnTo>
                    <a:pt x="1115" y="243"/>
                  </a:lnTo>
                  <a:lnTo>
                    <a:pt x="1107" y="293"/>
                  </a:lnTo>
                  <a:lnTo>
                    <a:pt x="1120" y="298"/>
                  </a:lnTo>
                  <a:lnTo>
                    <a:pt x="1172" y="313"/>
                  </a:lnTo>
                  <a:lnTo>
                    <a:pt x="1125" y="273"/>
                  </a:lnTo>
                  <a:lnTo>
                    <a:pt x="1160" y="274"/>
                  </a:lnTo>
                  <a:lnTo>
                    <a:pt x="1153" y="260"/>
                  </a:lnTo>
                  <a:lnTo>
                    <a:pt x="1172" y="251"/>
                  </a:lnTo>
                  <a:lnTo>
                    <a:pt x="1269" y="282"/>
                  </a:lnTo>
                  <a:lnTo>
                    <a:pt x="1250" y="302"/>
                  </a:lnTo>
                  <a:lnTo>
                    <a:pt x="1248" y="333"/>
                  </a:lnTo>
                  <a:lnTo>
                    <a:pt x="1267" y="350"/>
                  </a:lnTo>
                  <a:lnTo>
                    <a:pt x="1276" y="282"/>
                  </a:lnTo>
                  <a:lnTo>
                    <a:pt x="1223" y="248"/>
                  </a:lnTo>
                  <a:lnTo>
                    <a:pt x="1214" y="197"/>
                  </a:lnTo>
                  <a:lnTo>
                    <a:pt x="1335" y="183"/>
                  </a:lnTo>
                  <a:lnTo>
                    <a:pt x="1321" y="138"/>
                  </a:lnTo>
                  <a:lnTo>
                    <a:pt x="1335" y="147"/>
                  </a:lnTo>
                  <a:lnTo>
                    <a:pt x="1356" y="129"/>
                  </a:lnTo>
                  <a:lnTo>
                    <a:pt x="1342" y="124"/>
                  </a:lnTo>
                  <a:lnTo>
                    <a:pt x="1469" y="91"/>
                  </a:lnTo>
                  <a:lnTo>
                    <a:pt x="1459" y="81"/>
                  </a:lnTo>
                  <a:lnTo>
                    <a:pt x="1518" y="76"/>
                  </a:lnTo>
                  <a:lnTo>
                    <a:pt x="1515" y="90"/>
                  </a:lnTo>
                  <a:lnTo>
                    <a:pt x="1531" y="90"/>
                  </a:lnTo>
                  <a:lnTo>
                    <a:pt x="1575" y="70"/>
                  </a:lnTo>
                  <a:lnTo>
                    <a:pt x="1595" y="82"/>
                  </a:lnTo>
                  <a:lnTo>
                    <a:pt x="1578" y="60"/>
                  </a:lnTo>
                  <a:lnTo>
                    <a:pt x="1625" y="56"/>
                  </a:lnTo>
                  <a:lnTo>
                    <a:pt x="1625" y="33"/>
                  </a:lnTo>
                  <a:lnTo>
                    <a:pt x="1683" y="0"/>
                  </a:lnTo>
                  <a:lnTo>
                    <a:pt x="1722" y="17"/>
                  </a:lnTo>
                  <a:lnTo>
                    <a:pt x="1687" y="37"/>
                  </a:lnTo>
                  <a:lnTo>
                    <a:pt x="1747" y="36"/>
                  </a:lnTo>
                  <a:lnTo>
                    <a:pt x="1724" y="60"/>
                  </a:lnTo>
                  <a:lnTo>
                    <a:pt x="1823" y="48"/>
                  </a:lnTo>
                  <a:lnTo>
                    <a:pt x="1876" y="90"/>
                  </a:lnTo>
                  <a:lnTo>
                    <a:pt x="1867" y="104"/>
                  </a:lnTo>
                  <a:lnTo>
                    <a:pt x="1850" y="91"/>
                  </a:lnTo>
                  <a:lnTo>
                    <a:pt x="1875" y="105"/>
                  </a:lnTo>
                  <a:lnTo>
                    <a:pt x="1862" y="127"/>
                  </a:lnTo>
                  <a:lnTo>
                    <a:pt x="1683" y="242"/>
                  </a:lnTo>
                  <a:lnTo>
                    <a:pt x="1739" y="228"/>
                  </a:lnTo>
                  <a:lnTo>
                    <a:pt x="1728" y="214"/>
                  </a:lnTo>
                  <a:lnTo>
                    <a:pt x="1817" y="192"/>
                  </a:lnTo>
                  <a:lnTo>
                    <a:pt x="1794" y="194"/>
                  </a:lnTo>
                  <a:lnTo>
                    <a:pt x="1801" y="175"/>
                  </a:lnTo>
                  <a:lnTo>
                    <a:pt x="1850" y="192"/>
                  </a:lnTo>
                  <a:lnTo>
                    <a:pt x="1857" y="175"/>
                  </a:lnTo>
                  <a:lnTo>
                    <a:pt x="1868" y="212"/>
                  </a:lnTo>
                  <a:lnTo>
                    <a:pt x="1893" y="215"/>
                  </a:lnTo>
                  <a:lnTo>
                    <a:pt x="1871" y="198"/>
                  </a:lnTo>
                  <a:lnTo>
                    <a:pt x="1917" y="192"/>
                  </a:lnTo>
                  <a:lnTo>
                    <a:pt x="1974" y="197"/>
                  </a:lnTo>
                  <a:lnTo>
                    <a:pt x="1970" y="214"/>
                  </a:lnTo>
                  <a:lnTo>
                    <a:pt x="2020" y="225"/>
                  </a:lnTo>
                  <a:lnTo>
                    <a:pt x="2064" y="220"/>
                  </a:lnTo>
                  <a:lnTo>
                    <a:pt x="2067" y="188"/>
                  </a:lnTo>
                  <a:lnTo>
                    <a:pt x="2078" y="183"/>
                  </a:lnTo>
                  <a:lnTo>
                    <a:pt x="2189" y="220"/>
                  </a:lnTo>
                  <a:lnTo>
                    <a:pt x="2175" y="282"/>
                  </a:lnTo>
                  <a:lnTo>
                    <a:pt x="2226" y="322"/>
                  </a:lnTo>
                  <a:lnTo>
                    <a:pt x="2253" y="267"/>
                  </a:lnTo>
                  <a:lnTo>
                    <a:pt x="2274" y="293"/>
                  </a:lnTo>
                  <a:lnTo>
                    <a:pt x="2310" y="282"/>
                  </a:lnTo>
                  <a:lnTo>
                    <a:pt x="2359" y="302"/>
                  </a:lnTo>
                  <a:lnTo>
                    <a:pt x="2398" y="291"/>
                  </a:lnTo>
                  <a:lnTo>
                    <a:pt x="2394" y="267"/>
                  </a:lnTo>
                  <a:lnTo>
                    <a:pt x="2420" y="229"/>
                  </a:lnTo>
                  <a:lnTo>
                    <a:pt x="2585" y="256"/>
                  </a:lnTo>
                  <a:lnTo>
                    <a:pt x="2598" y="273"/>
                  </a:lnTo>
                  <a:lnTo>
                    <a:pt x="2578" y="280"/>
                  </a:lnTo>
                  <a:lnTo>
                    <a:pt x="2630" y="291"/>
                  </a:lnTo>
                  <a:lnTo>
                    <a:pt x="2649" y="318"/>
                  </a:lnTo>
                  <a:lnTo>
                    <a:pt x="2774" y="313"/>
                  </a:lnTo>
                  <a:lnTo>
                    <a:pt x="2797" y="335"/>
                  </a:lnTo>
                  <a:lnTo>
                    <a:pt x="2790" y="361"/>
                  </a:lnTo>
                  <a:lnTo>
                    <a:pt x="2824" y="378"/>
                  </a:lnTo>
                  <a:lnTo>
                    <a:pt x="2844" y="364"/>
                  </a:lnTo>
                  <a:lnTo>
                    <a:pt x="2932" y="373"/>
                  </a:lnTo>
                  <a:lnTo>
                    <a:pt x="2952" y="361"/>
                  </a:lnTo>
                  <a:lnTo>
                    <a:pt x="2961" y="383"/>
                  </a:lnTo>
                  <a:lnTo>
                    <a:pt x="2997" y="403"/>
                  </a:lnTo>
                  <a:lnTo>
                    <a:pt x="3016" y="391"/>
                  </a:lnTo>
                  <a:lnTo>
                    <a:pt x="2996" y="369"/>
                  </a:lnTo>
                  <a:lnTo>
                    <a:pt x="3008" y="350"/>
                  </a:lnTo>
                  <a:lnTo>
                    <a:pt x="3162" y="377"/>
                  </a:lnTo>
                  <a:lnTo>
                    <a:pt x="3265" y="448"/>
                  </a:lnTo>
                  <a:lnTo>
                    <a:pt x="3286" y="448"/>
                  </a:lnTo>
                  <a:lnTo>
                    <a:pt x="3313" y="501"/>
                  </a:lnTo>
                  <a:lnTo>
                    <a:pt x="3303" y="473"/>
                  </a:lnTo>
                  <a:lnTo>
                    <a:pt x="3318" y="470"/>
                  </a:lnTo>
                  <a:lnTo>
                    <a:pt x="3327" y="482"/>
                  </a:lnTo>
                  <a:lnTo>
                    <a:pt x="3359" y="477"/>
                  </a:lnTo>
                  <a:lnTo>
                    <a:pt x="3399" y="508"/>
                  </a:lnTo>
                  <a:lnTo>
                    <a:pt x="3340" y="542"/>
                  </a:lnTo>
                  <a:lnTo>
                    <a:pt x="3352" y="550"/>
                  </a:lnTo>
                  <a:lnTo>
                    <a:pt x="3333" y="561"/>
                  </a:lnTo>
                  <a:lnTo>
                    <a:pt x="3348" y="573"/>
                  </a:lnTo>
                  <a:lnTo>
                    <a:pt x="3313" y="575"/>
                  </a:lnTo>
                  <a:lnTo>
                    <a:pt x="3301" y="552"/>
                  </a:lnTo>
                  <a:lnTo>
                    <a:pt x="3287" y="561"/>
                  </a:lnTo>
                  <a:lnTo>
                    <a:pt x="3265" y="528"/>
                  </a:lnTo>
                  <a:lnTo>
                    <a:pt x="3226" y="530"/>
                  </a:lnTo>
                  <a:lnTo>
                    <a:pt x="3215" y="511"/>
                  </a:lnTo>
                  <a:lnTo>
                    <a:pt x="3224" y="501"/>
                  </a:lnTo>
                  <a:lnTo>
                    <a:pt x="3207" y="501"/>
                  </a:lnTo>
                  <a:lnTo>
                    <a:pt x="3196" y="508"/>
                  </a:lnTo>
                  <a:lnTo>
                    <a:pt x="3207" y="532"/>
                  </a:lnTo>
                  <a:lnTo>
                    <a:pt x="3198" y="545"/>
                  </a:lnTo>
                  <a:lnTo>
                    <a:pt x="3166" y="567"/>
                  </a:lnTo>
                  <a:lnTo>
                    <a:pt x="3142" y="561"/>
                  </a:lnTo>
                  <a:lnTo>
                    <a:pt x="3183" y="626"/>
                  </a:lnTo>
                  <a:lnTo>
                    <a:pt x="3175" y="651"/>
                  </a:lnTo>
                  <a:lnTo>
                    <a:pt x="3134" y="631"/>
                  </a:lnTo>
                  <a:lnTo>
                    <a:pt x="3137" y="645"/>
                  </a:lnTo>
                  <a:lnTo>
                    <a:pt x="3065" y="673"/>
                  </a:lnTo>
                  <a:lnTo>
                    <a:pt x="3001" y="738"/>
                  </a:lnTo>
                  <a:lnTo>
                    <a:pt x="2958" y="714"/>
                  </a:lnTo>
                  <a:lnTo>
                    <a:pt x="2918" y="741"/>
                  </a:lnTo>
                  <a:lnTo>
                    <a:pt x="2918" y="717"/>
                  </a:lnTo>
                  <a:lnTo>
                    <a:pt x="2894" y="742"/>
                  </a:lnTo>
                  <a:lnTo>
                    <a:pt x="2867" y="739"/>
                  </a:lnTo>
                  <a:lnTo>
                    <a:pt x="2836" y="801"/>
                  </a:lnTo>
                  <a:lnTo>
                    <a:pt x="2859" y="814"/>
                  </a:lnTo>
                  <a:lnTo>
                    <a:pt x="2850" y="834"/>
                  </a:lnTo>
                  <a:lnTo>
                    <a:pt x="2859" y="868"/>
                  </a:lnTo>
                  <a:lnTo>
                    <a:pt x="2841" y="860"/>
                  </a:lnTo>
                  <a:lnTo>
                    <a:pt x="2829" y="889"/>
                  </a:lnTo>
                  <a:lnTo>
                    <a:pt x="2837" y="916"/>
                  </a:lnTo>
                  <a:lnTo>
                    <a:pt x="2794" y="936"/>
                  </a:lnTo>
                  <a:lnTo>
                    <a:pt x="2797" y="964"/>
                  </a:lnTo>
                  <a:lnTo>
                    <a:pt x="2768" y="972"/>
                  </a:lnTo>
                  <a:lnTo>
                    <a:pt x="2760" y="1004"/>
                  </a:lnTo>
                  <a:lnTo>
                    <a:pt x="2734" y="1035"/>
                  </a:lnTo>
                  <a:lnTo>
                    <a:pt x="2711" y="916"/>
                  </a:lnTo>
                  <a:lnTo>
                    <a:pt x="2716" y="848"/>
                  </a:lnTo>
                  <a:lnTo>
                    <a:pt x="2734" y="810"/>
                  </a:lnTo>
                  <a:lnTo>
                    <a:pt x="2765" y="803"/>
                  </a:lnTo>
                  <a:lnTo>
                    <a:pt x="2836" y="719"/>
                  </a:lnTo>
                  <a:lnTo>
                    <a:pt x="2870" y="704"/>
                  </a:lnTo>
                  <a:lnTo>
                    <a:pt x="2879" y="655"/>
                  </a:lnTo>
                  <a:lnTo>
                    <a:pt x="2894" y="645"/>
                  </a:lnTo>
                  <a:lnTo>
                    <a:pt x="2868" y="645"/>
                  </a:lnTo>
                  <a:lnTo>
                    <a:pt x="2859" y="680"/>
                  </a:lnTo>
                  <a:lnTo>
                    <a:pt x="2801" y="714"/>
                  </a:lnTo>
                  <a:lnTo>
                    <a:pt x="2804" y="666"/>
                  </a:lnTo>
                  <a:lnTo>
                    <a:pt x="2742" y="676"/>
                  </a:lnTo>
                  <a:lnTo>
                    <a:pt x="2681" y="741"/>
                  </a:lnTo>
                  <a:lnTo>
                    <a:pt x="2695" y="766"/>
                  </a:lnTo>
                  <a:lnTo>
                    <a:pt x="2627" y="775"/>
                  </a:lnTo>
                  <a:lnTo>
                    <a:pt x="2619" y="767"/>
                  </a:lnTo>
                  <a:lnTo>
                    <a:pt x="2641" y="762"/>
                  </a:lnTo>
                  <a:lnTo>
                    <a:pt x="2587" y="745"/>
                  </a:lnTo>
                  <a:lnTo>
                    <a:pt x="2572" y="762"/>
                  </a:lnTo>
                  <a:lnTo>
                    <a:pt x="2450" y="762"/>
                  </a:lnTo>
                  <a:lnTo>
                    <a:pt x="2303" y="913"/>
                  </a:lnTo>
                  <a:lnTo>
                    <a:pt x="2335" y="917"/>
                  </a:lnTo>
                  <a:lnTo>
                    <a:pt x="2335" y="945"/>
                  </a:lnTo>
                  <a:lnTo>
                    <a:pt x="2351" y="928"/>
                  </a:lnTo>
                  <a:lnTo>
                    <a:pt x="2344" y="951"/>
                  </a:lnTo>
                  <a:lnTo>
                    <a:pt x="2369" y="939"/>
                  </a:lnTo>
                  <a:lnTo>
                    <a:pt x="2366" y="953"/>
                  </a:lnTo>
                  <a:lnTo>
                    <a:pt x="2373" y="928"/>
                  </a:lnTo>
                  <a:lnTo>
                    <a:pt x="2394" y="928"/>
                  </a:lnTo>
                  <a:lnTo>
                    <a:pt x="2425" y="959"/>
                  </a:lnTo>
                  <a:lnTo>
                    <a:pt x="2398" y="962"/>
                  </a:lnTo>
                  <a:lnTo>
                    <a:pt x="2421" y="973"/>
                  </a:lnTo>
                  <a:lnTo>
                    <a:pt x="2428" y="995"/>
                  </a:lnTo>
                  <a:lnTo>
                    <a:pt x="2408" y="1040"/>
                  </a:lnTo>
                  <a:lnTo>
                    <a:pt x="2404" y="1110"/>
                  </a:lnTo>
                  <a:lnTo>
                    <a:pt x="2301" y="1258"/>
                  </a:lnTo>
                  <a:lnTo>
                    <a:pt x="2266" y="1278"/>
                  </a:lnTo>
                  <a:lnTo>
                    <a:pt x="2237" y="1258"/>
                  </a:lnTo>
                  <a:lnTo>
                    <a:pt x="2213" y="1286"/>
                  </a:lnTo>
                  <a:lnTo>
                    <a:pt x="2210" y="1282"/>
                  </a:lnTo>
                  <a:lnTo>
                    <a:pt x="2224" y="1258"/>
                  </a:lnTo>
                  <a:lnTo>
                    <a:pt x="2219" y="1221"/>
                  </a:lnTo>
                  <a:lnTo>
                    <a:pt x="2261" y="1207"/>
                  </a:lnTo>
                  <a:lnTo>
                    <a:pt x="2295" y="1110"/>
                  </a:lnTo>
                  <a:lnTo>
                    <a:pt x="2222" y="1131"/>
                  </a:lnTo>
                  <a:lnTo>
                    <a:pt x="2210" y="1096"/>
                  </a:lnTo>
                  <a:lnTo>
                    <a:pt x="2149" y="1074"/>
                  </a:lnTo>
                  <a:lnTo>
                    <a:pt x="2113" y="970"/>
                  </a:lnTo>
                  <a:lnTo>
                    <a:pt x="2072" y="953"/>
                  </a:lnTo>
                  <a:lnTo>
                    <a:pt x="2001" y="981"/>
                  </a:lnTo>
                  <a:lnTo>
                    <a:pt x="2014" y="1003"/>
                  </a:lnTo>
                  <a:lnTo>
                    <a:pt x="1984" y="1060"/>
                  </a:lnTo>
                  <a:lnTo>
                    <a:pt x="1956" y="1075"/>
                  </a:lnTo>
                  <a:lnTo>
                    <a:pt x="1927" y="1063"/>
                  </a:lnTo>
                  <a:lnTo>
                    <a:pt x="1891" y="1057"/>
                  </a:lnTo>
                  <a:lnTo>
                    <a:pt x="1794" y="1085"/>
                  </a:lnTo>
                  <a:lnTo>
                    <a:pt x="1713" y="1046"/>
                  </a:lnTo>
                  <a:lnTo>
                    <a:pt x="1661" y="1051"/>
                  </a:lnTo>
                  <a:lnTo>
                    <a:pt x="1640" y="1017"/>
                  </a:lnTo>
                  <a:lnTo>
                    <a:pt x="1587" y="995"/>
                  </a:lnTo>
                  <a:lnTo>
                    <a:pt x="1559" y="1018"/>
                  </a:lnTo>
                  <a:lnTo>
                    <a:pt x="1558" y="1063"/>
                  </a:lnTo>
                  <a:lnTo>
                    <a:pt x="1438" y="1043"/>
                  </a:lnTo>
                  <a:lnTo>
                    <a:pt x="1359" y="1092"/>
                  </a:lnTo>
                  <a:lnTo>
                    <a:pt x="1321" y="1111"/>
                  </a:lnTo>
                  <a:lnTo>
                    <a:pt x="1314" y="1151"/>
                  </a:lnTo>
                  <a:lnTo>
                    <a:pt x="1262" y="1148"/>
                  </a:lnTo>
                  <a:lnTo>
                    <a:pt x="1250" y="1204"/>
                  </a:lnTo>
                  <a:lnTo>
                    <a:pt x="1202" y="1216"/>
                  </a:lnTo>
                  <a:lnTo>
                    <a:pt x="1218" y="1258"/>
                  </a:lnTo>
                  <a:lnTo>
                    <a:pt x="1206" y="1295"/>
                  </a:lnTo>
                  <a:lnTo>
                    <a:pt x="1130" y="1344"/>
                  </a:lnTo>
                  <a:lnTo>
                    <a:pt x="1083" y="1353"/>
                  </a:lnTo>
                  <a:lnTo>
                    <a:pt x="1078" y="1385"/>
                  </a:lnTo>
                  <a:lnTo>
                    <a:pt x="1099" y="1396"/>
                  </a:lnTo>
                  <a:lnTo>
                    <a:pt x="1099" y="1429"/>
                  </a:lnTo>
                  <a:lnTo>
                    <a:pt x="1073" y="1423"/>
                  </a:lnTo>
                  <a:lnTo>
                    <a:pt x="1038" y="1443"/>
                  </a:lnTo>
                  <a:lnTo>
                    <a:pt x="1022" y="1396"/>
                  </a:lnTo>
                  <a:lnTo>
                    <a:pt x="991" y="1432"/>
                  </a:lnTo>
                  <a:lnTo>
                    <a:pt x="905" y="1429"/>
                  </a:lnTo>
                  <a:lnTo>
                    <a:pt x="861" y="1483"/>
                  </a:lnTo>
                  <a:lnTo>
                    <a:pt x="832" y="1466"/>
                  </a:lnTo>
                  <a:lnTo>
                    <a:pt x="828" y="1446"/>
                  </a:lnTo>
                  <a:lnTo>
                    <a:pt x="747" y="1398"/>
                  </a:lnTo>
                  <a:lnTo>
                    <a:pt x="684" y="1423"/>
                  </a:lnTo>
                  <a:lnTo>
                    <a:pt x="686" y="1381"/>
                  </a:lnTo>
                  <a:lnTo>
                    <a:pt x="671" y="1370"/>
                  </a:lnTo>
                  <a:lnTo>
                    <a:pt x="683" y="1357"/>
                  </a:lnTo>
                  <a:lnTo>
                    <a:pt x="662" y="1354"/>
                  </a:lnTo>
                  <a:lnTo>
                    <a:pt x="662" y="1322"/>
                  </a:lnTo>
                  <a:lnTo>
                    <a:pt x="691" y="1334"/>
                  </a:lnTo>
                  <a:lnTo>
                    <a:pt x="700" y="1322"/>
                  </a:lnTo>
                  <a:lnTo>
                    <a:pt x="675" y="1295"/>
                  </a:lnTo>
                  <a:lnTo>
                    <a:pt x="662" y="1319"/>
                  </a:lnTo>
                  <a:lnTo>
                    <a:pt x="660" y="1274"/>
                  </a:lnTo>
                  <a:lnTo>
                    <a:pt x="632" y="1263"/>
                  </a:lnTo>
                  <a:lnTo>
                    <a:pt x="609" y="1224"/>
                  </a:lnTo>
                  <a:lnTo>
                    <a:pt x="636" y="1224"/>
                  </a:lnTo>
                  <a:lnTo>
                    <a:pt x="635" y="1207"/>
                  </a:lnTo>
                  <a:lnTo>
                    <a:pt x="651" y="1198"/>
                  </a:lnTo>
                  <a:lnTo>
                    <a:pt x="700" y="1207"/>
                  </a:lnTo>
                  <a:lnTo>
                    <a:pt x="660" y="1148"/>
                  </a:lnTo>
                  <a:lnTo>
                    <a:pt x="578" y="1162"/>
                  </a:lnTo>
                  <a:lnTo>
                    <a:pt x="587" y="1170"/>
                  </a:lnTo>
                  <a:lnTo>
                    <a:pt x="568" y="1184"/>
                  </a:lnTo>
                  <a:lnTo>
                    <a:pt x="557" y="1172"/>
                  </a:lnTo>
                  <a:lnTo>
                    <a:pt x="541" y="1229"/>
                  </a:lnTo>
                  <a:lnTo>
                    <a:pt x="559" y="1243"/>
                  </a:lnTo>
                  <a:lnTo>
                    <a:pt x="572" y="1299"/>
                  </a:lnTo>
                  <a:lnTo>
                    <a:pt x="613" y="1344"/>
                  </a:lnTo>
                  <a:lnTo>
                    <a:pt x="597" y="1348"/>
                  </a:lnTo>
                  <a:lnTo>
                    <a:pt x="584" y="1393"/>
                  </a:lnTo>
                  <a:lnTo>
                    <a:pt x="566" y="1385"/>
                  </a:lnTo>
                  <a:lnTo>
                    <a:pt x="563" y="1362"/>
                  </a:lnTo>
                  <a:lnTo>
                    <a:pt x="528" y="1384"/>
                  </a:lnTo>
                  <a:lnTo>
                    <a:pt x="499" y="1357"/>
                  </a:lnTo>
                  <a:lnTo>
                    <a:pt x="463" y="1308"/>
                  </a:lnTo>
                  <a:lnTo>
                    <a:pt x="437" y="1308"/>
                  </a:lnTo>
                  <a:lnTo>
                    <a:pt x="434" y="1274"/>
                  </a:lnTo>
                  <a:lnTo>
                    <a:pt x="342" y="1206"/>
                  </a:lnTo>
                  <a:lnTo>
                    <a:pt x="377" y="1179"/>
                  </a:lnTo>
                  <a:lnTo>
                    <a:pt x="364" y="1162"/>
                  </a:lnTo>
                  <a:lnTo>
                    <a:pt x="389" y="1144"/>
                  </a:lnTo>
                  <a:lnTo>
                    <a:pt x="312" y="1168"/>
                  </a:lnTo>
                  <a:lnTo>
                    <a:pt x="306" y="1184"/>
                  </a:lnTo>
                  <a:lnTo>
                    <a:pt x="283" y="1175"/>
                  </a:lnTo>
                  <a:lnTo>
                    <a:pt x="310" y="1201"/>
                  </a:lnTo>
                  <a:lnTo>
                    <a:pt x="342" y="1198"/>
                  </a:lnTo>
                  <a:lnTo>
                    <a:pt x="288" y="1229"/>
                  </a:lnTo>
                  <a:lnTo>
                    <a:pt x="259" y="1198"/>
                  </a:lnTo>
                  <a:lnTo>
                    <a:pt x="282" y="1179"/>
                  </a:lnTo>
                  <a:lnTo>
                    <a:pt x="245" y="1175"/>
                  </a:lnTo>
                  <a:lnTo>
                    <a:pt x="248" y="1158"/>
                  </a:lnTo>
                  <a:lnTo>
                    <a:pt x="211" y="1170"/>
                  </a:lnTo>
                  <a:lnTo>
                    <a:pt x="201" y="1199"/>
                  </a:lnTo>
                  <a:lnTo>
                    <a:pt x="171" y="1198"/>
                  </a:lnTo>
                  <a:lnTo>
                    <a:pt x="169" y="1158"/>
                  </a:lnTo>
                  <a:lnTo>
                    <a:pt x="142" y="1114"/>
                  </a:lnTo>
                  <a:lnTo>
                    <a:pt x="64" y="1123"/>
                  </a:lnTo>
                  <a:lnTo>
                    <a:pt x="50" y="1110"/>
                  </a:lnTo>
                  <a:lnTo>
                    <a:pt x="56" y="1089"/>
                  </a:lnTo>
                  <a:lnTo>
                    <a:pt x="89" y="1043"/>
                  </a:lnTo>
                  <a:lnTo>
                    <a:pt x="72" y="990"/>
                  </a:lnTo>
                  <a:lnTo>
                    <a:pt x="86" y="976"/>
                  </a:lnTo>
                  <a:lnTo>
                    <a:pt x="78" y="934"/>
                  </a:lnTo>
                  <a:lnTo>
                    <a:pt x="0" y="9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4211640" y="2997360"/>
            <a:ext cx="428148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Moderne"/>
              </a:rPr>
              <a:t>Более </a:t>
            </a:r>
            <a:r>
              <a:rPr b="1" lang="fi-FI" sz="1200" spc="-1" strike="noStrike">
                <a:solidFill>
                  <a:srgbClr val="ff0000"/>
                </a:solidFill>
                <a:latin typeface="Moderne"/>
              </a:rPr>
              <a:t>500</a:t>
            </a:r>
            <a:r>
              <a:rPr b="1" lang="ru-RU" sz="1100" spc="-1" strike="noStrike">
                <a:solidFill>
                  <a:srgbClr val="000000"/>
                </a:solidFill>
                <a:latin typeface="Moderne"/>
              </a:rPr>
              <a:t> котельных установок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Moderne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Moderne"/>
              </a:rPr>
              <a:t>на природном газе и жидком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Moderne"/>
              </a:rPr>
              <a:t>нефтяном топливе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60436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вые решения для производства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оэнерг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-108000" y="189000"/>
            <a:ext cx="92520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тельные установки и ТЭЦ на отходах деревообрабо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87640" y="4427640"/>
            <a:ext cx="7308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335640" y="2565360"/>
            <a:ext cx="2808360" cy="2117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98920" y="3419640"/>
            <a:ext cx="7308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1916280"/>
            <a:ext cx="6119640" cy="444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588000" y="907920"/>
            <a:ext cx="1944720" cy="29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дели котель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-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-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-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-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4200" y="1403280"/>
            <a:ext cx="41418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588000" y="4005360"/>
            <a:ext cx="1873440" cy="1800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55640" y="189000"/>
            <a:ext cx="8282160" cy="4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Wartsila BioEnergy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ельные установки</a:t>
            </a:r>
            <a:r>
              <a:rPr b="0" lang="ru-RU" sz="1100" spc="-1" strike="noStrike">
                <a:solidFill>
                  <a:srgbClr val="000000"/>
                </a:solidFill>
                <a:latin typeface="Moderne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98920" y="5003640"/>
            <a:ext cx="730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34920" y="2554200"/>
            <a:ext cx="730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6372360" cy="5040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772080" y="3327120"/>
            <a:ext cx="1601640" cy="2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derne"/>
              </a:rPr>
              <a:t>котельные</a:t>
            </a:r>
            <a:r>
              <a:rPr b="1" lang="ru-RU" sz="1100" spc="-1" strike="noStrike">
                <a:solidFill>
                  <a:srgbClr val="000000"/>
                </a:solidFill>
                <a:latin typeface="Moderne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Moderne"/>
              </a:rPr>
              <a:t>установки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692360" y="1052280"/>
            <a:ext cx="5256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45160" indent="0">
              <a:lnSpc>
                <a:spcPct val="80000"/>
              </a:lnSpc>
              <a:spcAft>
                <a:spcPts val="249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BP 2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 1,0 - 2,3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Вт 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э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/  7,7 -8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пло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эл</a:t>
            </a:r>
            <a:r>
              <a:rPr b="1" lang="fi-FI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5160" indent="0">
              <a:lnSpc>
                <a:spcPct val="80000"/>
              </a:lnSpc>
              <a:spcAft>
                <a:spcPts val="99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5160" indent="0">
              <a:lnSpc>
                <a:spcPct val="80000"/>
              </a:lnSpc>
              <a:spcAft>
                <a:spcPts val="249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BP 5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 2,3 - 4,5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Вт 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э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/ 13  - 13,5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пло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э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5160" indent="0">
              <a:lnSpc>
                <a:spcPct val="80000"/>
              </a:lnSpc>
              <a:spcAft>
                <a:spcPts val="99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5160" indent="0">
              <a:lnSpc>
                <a:spcPct val="80000"/>
              </a:lnSpc>
              <a:spcAft>
                <a:spcPts val="99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5160" indent="0">
              <a:lnSpc>
                <a:spcPct val="80000"/>
              </a:lnSpc>
              <a:spcAft>
                <a:spcPts val="99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5160" indent="0">
              <a:lnSpc>
                <a:spcPct val="80000"/>
              </a:lnSpc>
              <a:spcAft>
                <a:spcPts val="99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796000" y="3213000"/>
            <a:ext cx="2735280" cy="224316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1727280" y="3490920"/>
            <a:ext cx="7308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08000" y="3429000"/>
            <a:ext cx="55436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50920" y="3635280"/>
            <a:ext cx="730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30440" y="260280"/>
            <a:ext cx="7513560" cy="4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Wartsila BioPower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ни-ТЭ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66920" y="3635280"/>
            <a:ext cx="730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52280" y="2637000"/>
          <a:ext cx="4851360" cy="374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637000"/>
                    <a:ext cx="4851360" cy="37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56000" y="0"/>
            <a:ext cx="6408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Wartsila BioPower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ни-ТЭ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4920" y="836640"/>
            <a:ext cx="8309160" cy="50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6400" indent="0">
              <a:lnSpc>
                <a:spcPct val="90000"/>
              </a:lnSpc>
              <a:spcAft>
                <a:spcPts val="249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характеристики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ни-ТЭЦ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P 2: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р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р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/ 45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6400" indent="0">
              <a:lnSpc>
                <a:spcPct val="90000"/>
              </a:lnSpc>
              <a:spcAft>
                <a:spcPts val="176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6400" indent="0">
              <a:lnSpc>
                <a:spcPct val="90000"/>
              </a:lnSpc>
              <a:spcAft>
                <a:spcPts val="201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ип установки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Вт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эл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пло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Среда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6400" indent="-356400">
              <a:lnSpc>
                <a:spcPct val="90000"/>
              </a:lnSpc>
              <a:spcAft>
                <a:spcPts val="201"/>
              </a:spcAft>
              <a:buClr>
                <a:srgbClr val="0094cf"/>
              </a:buClr>
              <a:buSzPct val="120000"/>
              <a:buFont typeface="Wingdings" charset="2"/>
              <a:buChar char="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ioPower 2 D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.7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7.7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Вт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50 /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Теплофик. в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6400" indent="-356400">
              <a:lnSpc>
                <a:spcPct val="90000"/>
              </a:lnSpc>
              <a:spcAft>
                <a:spcPts val="201"/>
              </a:spcAft>
              <a:buClr>
                <a:srgbClr val="0094cf"/>
              </a:buClr>
              <a:buSzPct val="120000"/>
              <a:buFont typeface="Wingdings" charset="2"/>
              <a:buChar char="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ioPower 2 HW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.3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8.0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Вт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90 /115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Горячая в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6400" indent="-356400">
              <a:lnSpc>
                <a:spcPct val="90000"/>
              </a:lnSpc>
              <a:spcAft>
                <a:spcPts val="201"/>
              </a:spcAft>
              <a:buClr>
                <a:srgbClr val="0094cf"/>
              </a:buClr>
              <a:buSzPct val="120000"/>
              <a:buFont typeface="Wingdings" charset="2"/>
              <a:buChar char="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ioPower 2 S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.0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1.5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 bar / 95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П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6400" indent="0">
              <a:lnSpc>
                <a:spcPct val="90000"/>
              </a:lnSpc>
              <a:spcAft>
                <a:spcPts val="249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6400" indent="0">
              <a:lnSpc>
                <a:spcPct val="90000"/>
              </a:lnSpc>
              <a:spcAft>
                <a:spcPts val="249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характеристики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ни-ТЭЦ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P 5: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р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5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р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/ 45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6400" indent="0">
              <a:lnSpc>
                <a:spcPct val="90000"/>
              </a:lnSpc>
              <a:spcAft>
                <a:spcPts val="176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6400" indent="0">
              <a:lnSpc>
                <a:spcPct val="90000"/>
              </a:lnSpc>
              <a:spcAft>
                <a:spcPts val="201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ип установки      МВт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э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Тепло              Сре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6400" indent="-356400">
              <a:lnSpc>
                <a:spcPct val="90000"/>
              </a:lnSpc>
              <a:spcAft>
                <a:spcPts val="201"/>
              </a:spcAft>
              <a:buClr>
                <a:srgbClr val="0094cf"/>
              </a:buClr>
              <a:buSzPct val="120000"/>
              <a:buFont typeface="Wingdings" charset="2"/>
              <a:buChar char="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ioPower 5 D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3.0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Вт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50 /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Теплофик. в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6400" indent="-356400">
              <a:lnSpc>
                <a:spcPct val="90000"/>
              </a:lnSpc>
              <a:spcAft>
                <a:spcPts val="201"/>
              </a:spcAft>
              <a:buClr>
                <a:srgbClr val="0094cf"/>
              </a:buClr>
              <a:buSzPct val="120000"/>
              <a:buFont typeface="Wingdings" charset="2"/>
              <a:buChar char="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ioPower 5 HW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.9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3.5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Вт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90 /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15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Горячая в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6400" indent="-356400">
              <a:lnSpc>
                <a:spcPct val="90000"/>
              </a:lnSpc>
              <a:spcAft>
                <a:spcPts val="201"/>
              </a:spcAft>
              <a:buClr>
                <a:srgbClr val="0094cf"/>
              </a:buClr>
              <a:buSzPct val="120000"/>
              <a:buFont typeface="Wingdings" charset="2"/>
              <a:buChar char="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ioPower 5 S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.5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р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/ 95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П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6400" indent="0">
              <a:lnSpc>
                <a:spcPct val="90000"/>
              </a:lnSpc>
              <a:spcAft>
                <a:spcPts val="249"/>
              </a:spcAft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6400" indent="0">
              <a:lnSpc>
                <a:spcPct val="90000"/>
              </a:lnSpc>
              <a:spcAft>
                <a:spcPts val="249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характеристики Конденсационных электростанций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6400" indent="0">
              <a:lnSpc>
                <a:spcPct val="90000"/>
              </a:lnSpc>
              <a:spcAft>
                <a:spcPts val="201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6400" indent="0">
              <a:lnSpc>
                <a:spcPct val="90000"/>
              </a:lnSpc>
              <a:spcAft>
                <a:spcPts val="201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ип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Вт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эл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. давление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щий КПД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6400" indent="-356400">
              <a:lnSpc>
                <a:spcPct val="90000"/>
              </a:lnSpc>
              <a:spcAft>
                <a:spcPts val="201"/>
              </a:spcAft>
              <a:buClr>
                <a:srgbClr val="0094cf"/>
              </a:buClr>
              <a:buSzPct val="120000"/>
              <a:buFont typeface="Wingdings" charset="2"/>
              <a:buChar char="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ioPower 2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р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/ 450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6400" indent="-356400">
              <a:lnSpc>
                <a:spcPct val="90000"/>
              </a:lnSpc>
              <a:spcAft>
                <a:spcPts val="201"/>
              </a:spcAft>
              <a:buClr>
                <a:srgbClr val="0094cf"/>
              </a:buClr>
              <a:buSzPct val="120000"/>
              <a:buFont typeface="Wingdings" charset="2"/>
              <a:buChar char="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ioPower 5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50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р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/ 450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64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8209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сс сжигания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ioG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0800" y="1143000"/>
            <a:ext cx="5978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1520" indent="-371520">
              <a:spcBef>
                <a:spcPts val="224"/>
              </a:spcBef>
              <a:spcAft>
                <a:spcPts val="224"/>
              </a:spcAft>
              <a:buClr>
                <a:srgbClr val="0066a1"/>
              </a:buClr>
              <a:buSzPct val="120000"/>
              <a:buFont typeface="Wingdings" charset="2"/>
              <a:buChar char="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ача топлива осуществляется снизу из центра топки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ioG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224"/>
              </a:spcBef>
              <a:spcAft>
                <a:spcPts val="224"/>
              </a:spcAft>
              <a:buClr>
                <a:srgbClr val="0066a1"/>
              </a:buClr>
              <a:buSzPct val="120000"/>
              <a:buFont typeface="Wingdings" charset="2"/>
              <a:buChar char="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пливо поступает на кольцеобразные реше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224"/>
              </a:spcBef>
              <a:spcAft>
                <a:spcPts val="224"/>
              </a:spcAft>
              <a:buClr>
                <a:srgbClr val="0066a1"/>
              </a:buClr>
              <a:buSzPct val="120000"/>
              <a:buFont typeface="Wingdings" charset="2"/>
              <a:buChar char="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енья решетки вращаются через одно и в различном направл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224"/>
              </a:spcBef>
              <a:spcAft>
                <a:spcPts val="224"/>
              </a:spcAft>
              <a:buClr>
                <a:srgbClr val="0066a1"/>
              </a:buClr>
              <a:buSzPct val="120000"/>
              <a:buFont typeface="Wingdings" charset="2"/>
              <a:buChar char="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ижение и форма решеток равномерно распределяет топли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224"/>
              </a:spcBef>
              <a:spcAft>
                <a:spcPts val="224"/>
              </a:spcAft>
              <a:buClr>
                <a:srgbClr val="0066a1"/>
              </a:buClr>
              <a:buSzPct val="120000"/>
              <a:buFont typeface="Wingdings" charset="2"/>
              <a:buChar char="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га и вода испаряются благодаря тепловому излучению от горячих стенок топки и горящих газов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224"/>
              </a:spcBef>
              <a:spcAft>
                <a:spcPts val="224"/>
              </a:spcAft>
              <a:buClr>
                <a:srgbClr val="0066a1"/>
              </a:buClr>
              <a:buSzPct val="120000"/>
              <a:buFont typeface="Wingdings" charset="2"/>
              <a:buChar char="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время движения топлива к внешней зоне решетки происходит газификация и видимое горение газов и угле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457960" y="1143000"/>
            <a:ext cx="368604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8511" b="7261"/>
          <a:stretch/>
        </p:blipFill>
        <p:spPr>
          <a:xfrm>
            <a:off x="3446640" y="2567160"/>
            <a:ext cx="5697360" cy="33829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7848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сс сжигания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ioG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0800" y="1125360"/>
            <a:ext cx="8089560" cy="44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1520" indent="-371520">
              <a:spcBef>
                <a:spcPts val="201"/>
              </a:spcBef>
              <a:spcAft>
                <a:spcPts val="201"/>
              </a:spcAft>
              <a:buClr>
                <a:srgbClr val="0066a1"/>
              </a:buClr>
              <a:buSzPct val="120000"/>
              <a:buFont typeface="Wingdings" charset="2"/>
              <a:buChar char="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ола попадает на пластину решетки, а оттуда падает в специальное пространство для золы, наполненное водой и располагающееся на дне топки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201"/>
              </a:spcBef>
              <a:spcAft>
                <a:spcPts val="201"/>
              </a:spcAft>
              <a:buClr>
                <a:srgbClr val="0066a1"/>
              </a:buClr>
              <a:buSzPct val="120000"/>
              <a:buFont typeface="Wingdings" charset="2"/>
              <a:buChar char="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ый воздух для горения подается в слой топлива через решетки в нескольких зон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201"/>
              </a:spcBef>
              <a:spcAft>
                <a:spcPts val="201"/>
              </a:spcAft>
              <a:buClr>
                <a:srgbClr val="0066a1"/>
              </a:buClr>
              <a:buSzPct val="120000"/>
              <a:buFont typeface="Wingdings" charset="2"/>
              <a:buChar char="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пределение воздуха по зонам регулируе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мпфер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201"/>
              </a:spcBef>
              <a:spcAft>
                <a:spcPts val="201"/>
              </a:spcAft>
              <a:buClr>
                <a:srgbClr val="0066a1"/>
              </a:buClr>
              <a:buSzPct val="120000"/>
              <a:buFont typeface="Wingdings" charset="2"/>
              <a:buChar char="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мпферы обеспечивают решеткам оптимальну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ффективность в широком диапазоне мощ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201"/>
              </a:spcBef>
              <a:spcAft>
                <a:spcPts val="201"/>
              </a:spcAft>
              <a:buClr>
                <a:srgbClr val="0066a1"/>
              </a:buClr>
              <a:buSzPct val="120000"/>
              <a:buFont typeface="Wingdings" charset="2"/>
              <a:buChar char="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торичный и третичный воздух используется д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рения с эффективным перемешиванием д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еспечения полного сгорания минимизации выбросов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x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7T12:36:33Z</dcterms:created>
  <dc:creator>Markku Haataja</dc:creator>
  <dc:description/>
  <dc:language>en-US</dc:language>
  <cp:lastModifiedBy>SN</cp:lastModifiedBy>
  <cp:lastPrinted>2003-05-07T13:17:30Z</cp:lastPrinted>
  <dcterms:modified xsi:type="dcterms:W3CDTF">2005-02-12T17:48:42Z</dcterms:modified>
  <cp:revision>129</cp:revision>
  <dc:subject/>
  <dc:title>Slide 1</dc:title>
</cp:coreProperties>
</file>