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1581D-AAB0-4E4C-99EC-5F2D6F5F7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21F33-5B84-4641-97E1-C8AC8C22D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1E009-CC55-4896-B1C3-4CE01B57E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81A35-36C8-41C0-9006-4057A0606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960D9-0F8C-4772-AB64-8C1D404F8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05A7A-0890-4807-BB7B-BAF039BDF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C2B60-A50D-4798-B973-89DAE4FC1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9A995-B055-40BA-A97B-A09C86C3F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0B36E-52D1-4327-86B5-7CFE6E650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261A2-2D9B-4C21-89F3-134E45F88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CF9F8-50EA-430E-8989-CDB988CEE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4F3F4-345F-4F32-A5BA-17C868672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2693F-45F0-406E-8A80-095961DDD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90CF7-5DE4-4989-ADB0-93D9BE718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4F617-FF7B-463C-BDA3-6A49360BB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A0439-3496-41E5-8FD6-F62BABD8A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A3975-938F-4D7C-8D79-9D34E6DB6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DE6E1-744D-4167-A378-8F0716109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EFCEA-D199-4AC8-AB53-1C99613A9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3820A-F30A-47FE-B79A-EF10DDA27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EE3A8-5891-4ECB-A6A7-6C07F1F0F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F8FAB-EC3B-4703-AEDF-B1BE9B22C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769E0-F44F-42C0-AC35-94B81BDD2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732F1-16CC-4471-AE5B-14F643D17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37E1E-A6C9-47AB-B10D-842194CB39E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6332C-9334-4528-83C7-95B7298D59B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hyperlink" Target="mailto:monte@kiirtee.ee" TargetMode="External"/><Relationship Id="rId2" Type="http://schemas.openxmlformats.org/officeDocument/2006/relationships/hyperlink" Target="http://www.monte.ee/" TargetMode="External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458200" cy="266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66"/>
                </a:solidFill>
                <a:latin typeface="Arial"/>
              </a:rPr>
              <a:t>Опыт перевода малых и средних котельных на биотопливо</a:t>
            </a:r>
            <a:br>
              <a:rPr sz="4000"/>
            </a:b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2971440"/>
            <a:ext cx="7848720" cy="289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авел Богданов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к.т.н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ООО Мярья Монте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Эстони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03.02</a:t>
            </a:r>
            <a:r>
              <a:rPr b="0" lang="et-EE" sz="2400" spc="-1" strike="noStrike">
                <a:solidFill>
                  <a:srgbClr val="ffffff"/>
                </a:solidFill>
                <a:latin typeface="Times New Roman"/>
              </a:rPr>
              <a:t>.200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5. Минск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75438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66"/>
                </a:solidFill>
                <a:latin typeface="Arial"/>
              </a:rPr>
              <a:t>Планирование инвестиций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Малые коммунальные котельные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- на дровах        75 – 100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UR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/КВ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- на жидком топливе 75 – 100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UR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/КВт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редние коммунальные котельные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- на древесных отходах и щепе 160 – 250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UR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/КВ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- на сланцевом масле 80 – 100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UR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/КВ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Теплотрассы   65 - 95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UR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/п.м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66"/>
                </a:solidFill>
                <a:latin typeface="Arial"/>
              </a:rPr>
              <a:t>Малые котельные на биотопливе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480" y="1294920"/>
            <a:ext cx="7848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ри работе на дровах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одача топлива вручную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еобходимо использовать аккумуляционные бак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ри работе на пеллетах или щеп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Автоматическая подача топлив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Работа котельной в автоматическом режим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66"/>
                </a:solidFill>
                <a:latin typeface="Arial"/>
              </a:rPr>
              <a:t>Схема малой котельной на дровах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066680" y="1523880"/>
            <a:ext cx="70866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66"/>
                </a:solidFill>
                <a:latin typeface="Arial"/>
              </a:rPr>
              <a:t>Котельная на дровах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990720" y="914400"/>
            <a:ext cx="701028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66"/>
                </a:solidFill>
                <a:latin typeface="Arial"/>
              </a:rPr>
              <a:t>Малая котельная  на щепе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685800" y="1143000"/>
            <a:ext cx="777240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66"/>
                </a:solidFill>
                <a:latin typeface="Arial"/>
              </a:rPr>
              <a:t>Малая котельная  на щепе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914400" y="1219320"/>
            <a:ext cx="739152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66"/>
                </a:solidFill>
                <a:latin typeface="Arial"/>
              </a:rPr>
              <a:t>Средняя себестоимость тепла </a:t>
            </a:r>
            <a:br>
              <a:rPr sz="3200"/>
            </a:br>
            <a:r>
              <a:rPr b="0" lang="ru-RU" sz="3200" spc="-1" strike="noStrike">
                <a:solidFill>
                  <a:srgbClr val="ffcc66"/>
                </a:solidFill>
                <a:latin typeface="Arial"/>
              </a:rPr>
              <a:t>после реконструкции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66"/>
                </a:solidFill>
                <a:latin typeface="Arial"/>
              </a:rPr>
              <a:t>                                          </a:t>
            </a: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EUR</a:t>
            </a:r>
            <a:r>
              <a:rPr b="0" lang="ru-RU" sz="2800" spc="-1" strike="noStrike">
                <a:solidFill>
                  <a:srgbClr val="ffcc66"/>
                </a:solidFill>
                <a:latin typeface="Arial"/>
              </a:rPr>
              <a:t>/МВт.час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66"/>
                </a:solidFill>
                <a:latin typeface="Arial"/>
              </a:rPr>
              <a:t>Котельная на дровах </a:t>
            </a:r>
            <a:r>
              <a:rPr b="0" lang="et-EE" sz="3200" spc="-1" strike="noStrike">
                <a:solidFill>
                  <a:srgbClr val="ffcc6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         25 – 35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66"/>
                </a:solidFill>
                <a:latin typeface="Arial"/>
              </a:rPr>
              <a:t>                   </a:t>
            </a:r>
            <a:r>
              <a:rPr b="0" lang="ru-RU" sz="3200" spc="-1" strike="noStrike">
                <a:solidFill>
                  <a:srgbClr val="ffcc66"/>
                </a:solidFill>
                <a:latin typeface="Arial"/>
              </a:rPr>
              <a:t>на пеллетах       28 - 37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66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cc66"/>
                </a:solidFill>
                <a:latin typeface="Arial"/>
              </a:rPr>
              <a:t>(на жидком топливе </a:t>
            </a:r>
            <a:r>
              <a:rPr b="0" lang="en-US" sz="2400" spc="-1" strike="noStrike">
                <a:solidFill>
                  <a:srgbClr val="ffcc66"/>
                </a:solidFill>
                <a:latin typeface="Arial"/>
              </a:rPr>
              <a:t>         </a:t>
            </a:r>
            <a:r>
              <a:rPr b="0" lang="ru-RU" sz="2400" spc="-1" strike="noStrike">
                <a:solidFill>
                  <a:srgbClr val="ffcc66"/>
                </a:solidFill>
                <a:latin typeface="Arial"/>
              </a:rPr>
              <a:t>свыше </a:t>
            </a:r>
            <a:r>
              <a:rPr b="0" lang="en-US" sz="2400" spc="-1" strike="noStrike">
                <a:solidFill>
                  <a:srgbClr val="ffcc66"/>
                </a:solidFill>
                <a:latin typeface="Arial"/>
              </a:rPr>
              <a:t>45</a:t>
            </a:r>
            <a:r>
              <a:rPr b="0" lang="ru-RU" sz="2400" spc="-1" strike="noStrike">
                <a:solidFill>
                  <a:srgbClr val="ffcc66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cc66"/>
                </a:solidFill>
                <a:latin typeface="Arial"/>
              </a:rPr>
              <a:t>на древ. отходах</a:t>
            </a:r>
            <a:r>
              <a:rPr b="0" lang="et-EE" sz="32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                19 - 22</a:t>
            </a:r>
            <a:r>
              <a:rPr b="0" lang="et-EE" sz="32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cc66"/>
                </a:solidFill>
                <a:latin typeface="Arial"/>
              </a:rPr>
              <a:t>(</a:t>
            </a:r>
            <a:r>
              <a:rPr b="0" lang="ru-RU" sz="2400" spc="-1" strike="noStrike">
                <a:solidFill>
                  <a:srgbClr val="ffcc66"/>
                </a:solidFill>
                <a:latin typeface="Arial"/>
              </a:rPr>
              <a:t>на сланцевом масле           30 – 35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83818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ru-RU" sz="3200" spc="-1" strike="noStrike">
                <a:solidFill>
                  <a:srgbClr val="ffcc66"/>
                </a:solidFill>
                <a:latin typeface="Arial"/>
              </a:rPr>
              <a:t>Теплоснабжение поселка Авинурме</a:t>
            </a:r>
            <a:br>
              <a:rPr sz="3200"/>
            </a:b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оселок Авинурме расположен на северо-востоке Эстонии вдали от районных центров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 поселке проживает 950 жителей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редпринмательская деятельность традиционно связана с лесом. Работает 7 предприятий по переработке древесин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отребители тепла (культурно-административный центр, школа,  детсад, пять 12- и 18-квартирных домов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истема теплоснабжения: две котельных – одна на жидком топливе (мазут) – 2 котла по 3,6 МВт, вторая – 2 котла по 0,6 Мвт на твердом топливе (каменный уголь, дрова)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Теплотрассы в аварийном состоянии, большие теплопотери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Большие затраты на персонал (6 работников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ысокая себестоимость тепла, нестабильность теплоснабжения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83818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ru-RU" sz="3200" spc="-1" strike="noStrike">
                <a:solidFill>
                  <a:srgbClr val="ffcc66"/>
                </a:solidFill>
                <a:latin typeface="Arial"/>
              </a:rPr>
              <a:t>Реконструкция системы теплоснабжения поселка Авинурме</a:t>
            </a:r>
            <a:br>
              <a:rPr sz="3200"/>
            </a:b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 1998 году было принято решение о реконструкции системы теплоснабжения поселка за счет кредита Всемирного Банка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Условия кредита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отельная переводится на биотопливо (отходы дере-вообрабатыващих предприятий)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редит на 12 лет, годовой интрес 10%, погашение кредита начинается через 2 года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Международный конкурс выиграла наша фирма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Инвестиции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- котельная              215 тыс. </a:t>
            </a:r>
            <a:r>
              <a:rPr b="0" lang="et-EE" sz="2400" spc="-1" strike="noStrike">
                <a:solidFill>
                  <a:srgbClr val="ffffff"/>
                </a:solidFill>
                <a:latin typeface="Times New Roman"/>
              </a:rPr>
              <a:t>EU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- теплотрассы           60 тыс.</a:t>
            </a:r>
            <a:r>
              <a:rPr b="0" lang="et-EE" sz="2400" spc="-1" strike="noStrike">
                <a:solidFill>
                  <a:srgbClr val="ffffff"/>
                </a:solidFill>
                <a:latin typeface="Times New Roman"/>
              </a:rPr>
              <a:t> EU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- тепловые узлы       30 тыс.</a:t>
            </a:r>
            <a:r>
              <a:rPr b="0" lang="et-EE" sz="2400" spc="-1" strike="noStrike">
                <a:solidFill>
                  <a:srgbClr val="ffffff"/>
                </a:solidFill>
                <a:latin typeface="Times New Roman"/>
              </a:rPr>
              <a:t> EU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90360" y="-36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66"/>
                </a:solidFill>
                <a:latin typeface="Arial"/>
              </a:rPr>
              <a:t>Котельная после реконструкции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560" y="304560"/>
            <a:ext cx="883908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40120" indent="-24012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 котельной установлены два водогрейных котла: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40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- базовый </a:t>
            </a:r>
            <a:r>
              <a:rPr b="0" lang="et-EE" sz="2400" spc="-1" strike="noStrike">
                <a:solidFill>
                  <a:srgbClr val="ffffff"/>
                </a:solidFill>
                <a:latin typeface="Times New Roman"/>
              </a:rPr>
              <a:t>REKA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1,3 МВт  на древесных отходах (в основном опилки влажностью до 60%).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40120" indent="-24012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- пиковый – </a:t>
            </a:r>
            <a:r>
              <a:rPr b="0" lang="et-EE" sz="2400" spc="-1" strike="noStrike">
                <a:solidFill>
                  <a:srgbClr val="ffffff"/>
                </a:solidFill>
                <a:latin typeface="Times New Roman"/>
              </a:rPr>
              <a:t>De Dietrich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1,0 МВт на жидком топлив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40120" indent="-24012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одземный механизированный бункер для топлива объемом 165 м3 (12,5х4,5х3 м) с гидравлически поднимаемой крышей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40120" indent="-24012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истема подачи опилок: горизонтальным и наклонным шнеками через шлюз на подающий шнек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40120" indent="-24012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истема пожаротушения в случае обратного горени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40120" indent="-24012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Работа котельной  автоматизирована. Режимом управляет микроконтроллер в зависимости от содержания О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в дымовых газах. При отказах сигнал из котельной поступает по мобиль-ному телефону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40120" indent="-24012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Автоматическое удаление пепла шнеком в бункер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40120" indent="-24012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чистка дымовых газов в мультициклоне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40120" indent="-24012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истема водоподготовки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40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40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40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40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40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40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40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40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40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40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         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84872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66"/>
                </a:solidFill>
                <a:latin typeface="Arial"/>
              </a:rPr>
              <a:t>Предпосылки перевода котельных на биотопливо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Дрова исторически наиболее широко применя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лись в Эстонии в качестве топлив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Лесом покрыто 4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9,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7% территории Эстонии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Теоретический потенциал биотоплива  достаточен для покрытия всей потребности Эстонии в тепловой и электрической энерги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еревод котельных на биотопливо снижает уровень загрязнения окружающей среды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Финансовая  поддержка Европейского Союза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90360" y="0"/>
            <a:ext cx="792468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66"/>
                </a:solidFill>
                <a:latin typeface="Arial"/>
              </a:rPr>
              <a:t>Схема котельной Авинурме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320" y="1295280"/>
            <a:ext cx="7875720" cy="476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1066680" y="762120"/>
            <a:ext cx="7848720" cy="57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90360" y="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66"/>
                </a:solidFill>
                <a:latin typeface="Arial"/>
              </a:rPr>
              <a:t>План котельной Авинурме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90360" y="990360"/>
            <a:ext cx="784836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295280" y="838080"/>
            <a:ext cx="723924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69608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66"/>
                </a:solidFill>
                <a:latin typeface="Arial"/>
              </a:rPr>
              <a:t>Котельная Авинурме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685800" y="1177920"/>
            <a:ext cx="7772400" cy="491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84872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66"/>
                </a:solidFill>
                <a:latin typeface="Arial"/>
              </a:rPr>
              <a:t>Котельная Авинурме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685800" y="1154160"/>
            <a:ext cx="7848720" cy="498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66"/>
                </a:solidFill>
                <a:latin typeface="Arial"/>
              </a:rPr>
              <a:t>Результаты</a:t>
            </a: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cc66"/>
                </a:solidFill>
                <a:latin typeface="Arial"/>
              </a:rPr>
              <a:t>реконструкции системы теплоснабжения Авинурме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066320" y="1066320"/>
            <a:ext cx="7875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табильное теплоснабжение как теплом, так и горячей водой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окращение персонала (1 инженер и 2 сезонных рабочих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Использование дешевого топлива: стоимость опилок 1-1,5 </a:t>
            </a:r>
            <a:r>
              <a:rPr b="0" lang="et-EE" sz="2400" spc="-1" strike="noStrike">
                <a:solidFill>
                  <a:srgbClr val="ffffff"/>
                </a:solidFill>
                <a:latin typeface="Times New Roman"/>
              </a:rPr>
              <a:t>EUR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/м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реднегодовой расход топлива: 6500-5000 м3 опилок и 5-15 т жидкого топлива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реднегодовое производство тепла 4250 Мвт.час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редняя себестоимость 22 </a:t>
            </a:r>
            <a:r>
              <a:rPr b="0" lang="et-EE" sz="2400" spc="-1" strike="noStrike">
                <a:solidFill>
                  <a:srgbClr val="ffffff"/>
                </a:solidFill>
                <a:latin typeface="Times New Roman"/>
              </a:rPr>
              <a:t>EUR/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МВт.час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ru-RU" sz="2800" spc="-1" strike="noStrike">
                <a:solidFill>
                  <a:srgbClr val="ffcc66"/>
                </a:solidFill>
                <a:latin typeface="Times New Roman"/>
              </a:rPr>
              <a:t>Признан лучшим энергетическим          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66"/>
                </a:solidFill>
                <a:latin typeface="Times New Roman"/>
              </a:rPr>
              <a:t>                            </a:t>
            </a:r>
            <a:r>
              <a:rPr b="0" lang="ru-RU" sz="2800" spc="-1" strike="noStrike">
                <a:solidFill>
                  <a:srgbClr val="ffcc66"/>
                </a:solidFill>
                <a:latin typeface="Times New Roman"/>
              </a:rPr>
              <a:t>объектом 2000 г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66"/>
                </a:solidFill>
                <a:latin typeface="Arial"/>
              </a:rPr>
              <a:t>Реконструкция котельной Тыстамаа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9144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66"/>
                </a:solidFill>
                <a:latin typeface="Times New Roman"/>
              </a:rPr>
              <a:t>До реконструкции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6 котлов «Универсал» на торфе, подача вручную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66"/>
                </a:solidFill>
                <a:latin typeface="Times New Roman"/>
              </a:rPr>
              <a:t>После реконструкции</a:t>
            </a:r>
            <a:r>
              <a:rPr b="0" lang="ru-RU" sz="2800" spc="-1" strike="noStrike">
                <a:solidFill>
                  <a:srgbClr val="ffcc66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2 котла: базовый  </a:t>
            </a:r>
            <a:r>
              <a:rPr b="0" lang="et-EE" sz="3200" spc="-1" strike="noStrike">
                <a:solidFill>
                  <a:srgbClr val="ffffff"/>
                </a:solidFill>
                <a:latin typeface="Times New Roman"/>
              </a:rPr>
              <a:t>Arimax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700 КВт на щепе; пиковый </a:t>
            </a:r>
            <a:r>
              <a:rPr b="0" lang="et-EE" sz="3200" spc="-1" strike="noStrike">
                <a:solidFill>
                  <a:srgbClr val="ffffff"/>
                </a:solidFill>
                <a:latin typeface="Times New Roman"/>
              </a:rPr>
              <a:t>Viadrus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500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КВт на сланцевом масле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Наземный механизированный бункер для щепы на 72 м3</a:t>
            </a:r>
            <a:r>
              <a:rPr b="0" lang="et-EE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 реконструированной котельной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0010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66"/>
                </a:solidFill>
                <a:latin typeface="Arial"/>
              </a:rPr>
              <a:t>План котельной Тыстамаа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52280" y="1676520"/>
            <a:ext cx="899172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66"/>
                </a:solidFill>
                <a:latin typeface="Arial"/>
              </a:rPr>
              <a:t>Разрез  котельной Тыстамаа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914400" y="1447920"/>
            <a:ext cx="74674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75438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66"/>
                </a:solidFill>
                <a:latin typeface="Arial"/>
              </a:rPr>
              <a:t>Котельная Тыстамаа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685800" y="1143000"/>
            <a:ext cx="8001000" cy="516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0"/>
            <a:ext cx="76201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66"/>
                </a:solidFill>
                <a:latin typeface="Arial"/>
              </a:rPr>
              <a:t>Котельная Тыстамаа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609480" y="1295280"/>
            <a:ext cx="8077320" cy="481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66"/>
                </a:solidFill>
                <a:latin typeface="Arial"/>
              </a:rPr>
              <a:t>Подготовительная работа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Анализ состояния системы теплоснабжени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Определение мощности котельной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ыбор вида биотоплив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ыбор оборудования котельной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Определение размера инвестиций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ыбор источников финансировани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8487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66"/>
                </a:solidFill>
                <a:latin typeface="Arial"/>
              </a:rPr>
              <a:t>Реконструкция котельной школы </a:t>
            </a:r>
            <a:br>
              <a:rPr sz="3200"/>
            </a:br>
            <a:r>
              <a:rPr b="0" lang="ru-RU" sz="3200" spc="-1" strike="noStrike">
                <a:solidFill>
                  <a:srgbClr val="ffcc66"/>
                </a:solidFill>
                <a:latin typeface="Arial"/>
              </a:rPr>
              <a:t>в Ваекюла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66"/>
                </a:solidFill>
                <a:latin typeface="Times New Roman"/>
              </a:rPr>
              <a:t>До реконструкции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2 котла на жидком топливе и угле в подвале школы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66"/>
                </a:solidFill>
                <a:latin typeface="Times New Roman"/>
              </a:rPr>
              <a:t>После реконструкции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2 котла: базовый  </a:t>
            </a:r>
            <a:r>
              <a:rPr b="0" lang="et-EE" sz="2800" spc="-1" strike="noStrike">
                <a:solidFill>
                  <a:srgbClr val="ffffff"/>
                </a:solidFill>
                <a:latin typeface="Times New Roman"/>
              </a:rPr>
              <a:t> REKA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400 КВт на пеллетах и щепе (влажностью до 40%);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иковый </a:t>
            </a:r>
            <a:r>
              <a:rPr b="0" lang="et-EE" sz="2800" spc="-1" strike="noStrike">
                <a:solidFill>
                  <a:srgbClr val="ffffff"/>
                </a:solidFill>
                <a:latin typeface="Times New Roman"/>
              </a:rPr>
              <a:t>SIME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0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КВт на жидком топлив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одземный механизированный бункер для щепы на 55 м3</a:t>
            </a:r>
            <a:r>
              <a:rPr b="0" lang="et-EE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овые теплотрассы и теплоузлы в школе и двух интернатах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66"/>
                </a:solidFill>
                <a:latin typeface="Arial"/>
              </a:rPr>
              <a:t>Котельная  школы в Ваекюла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685800" y="1295280"/>
            <a:ext cx="77724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66"/>
                </a:solidFill>
                <a:latin typeface="Arial"/>
              </a:rPr>
              <a:t>Котельная  школы в Ваекюла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685800" y="1143000"/>
            <a:ext cx="77724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66"/>
                </a:solidFill>
                <a:latin typeface="Arial"/>
              </a:rPr>
              <a:t>Котельная  школы в Ваекюла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685800" y="1143000"/>
            <a:ext cx="777240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762012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66"/>
                </a:solidFill>
                <a:latin typeface="Arial"/>
              </a:rPr>
              <a:t>Реконструкция котельной </a:t>
            </a:r>
            <a:br>
              <a:rPr sz="3200"/>
            </a:br>
            <a:r>
              <a:rPr b="0" lang="ru-RU" sz="3200" spc="-1" strike="noStrike">
                <a:solidFill>
                  <a:srgbClr val="ffcc66"/>
                </a:solidFill>
                <a:latin typeface="Arial"/>
              </a:rPr>
              <a:t>школы и детсада в Ракке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66"/>
                </a:solidFill>
                <a:latin typeface="Times New Roman"/>
              </a:rPr>
              <a:t>До реконструкции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2 котла на жидком топливе (мазут, сланцевое масло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66"/>
                </a:solidFill>
                <a:latin typeface="Times New Roman"/>
              </a:rPr>
              <a:t>После реконструкции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2 котла: базовый  </a:t>
            </a:r>
            <a:r>
              <a:rPr b="0" lang="et-EE" sz="2800" spc="-1" strike="noStrike">
                <a:solidFill>
                  <a:srgbClr val="ffffff"/>
                </a:solidFill>
                <a:latin typeface="Times New Roman"/>
              </a:rPr>
              <a:t>Arimax Bio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300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КВт на</a:t>
            </a:r>
            <a:r>
              <a:rPr b="0" lang="et-EE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щепе; пиковый </a:t>
            </a:r>
            <a:r>
              <a:rPr b="0" lang="et-EE" sz="2800" spc="-1" strike="noStrike">
                <a:solidFill>
                  <a:srgbClr val="ffffff"/>
                </a:solidFill>
                <a:latin typeface="Times New Roman"/>
              </a:rPr>
              <a:t>SIME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250 КВт на жидком топлив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Механизированный металлический бункер для щепы на </a:t>
            </a:r>
            <a:r>
              <a:rPr b="0" lang="et-EE" sz="2800" spc="-1" strike="noStrike">
                <a:solidFill>
                  <a:srgbClr val="ffffff"/>
                </a:solidFill>
                <a:latin typeface="Times New Roman"/>
              </a:rPr>
              <a:t>20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м3</a:t>
            </a:r>
            <a:r>
              <a:rPr b="0" lang="et-EE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66"/>
                </a:solidFill>
                <a:latin typeface="Arial"/>
              </a:rPr>
              <a:t>Котельная  школы и детсада в Ракке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685800" y="990720"/>
            <a:ext cx="77724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8487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66"/>
                </a:solidFill>
                <a:latin typeface="Arial"/>
              </a:rPr>
              <a:t>Котельной школы и детсада в Ракке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685800" y="1219320"/>
            <a:ext cx="792468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66"/>
                </a:solidFill>
                <a:latin typeface="Arial"/>
              </a:rPr>
              <a:t>Котельная школы и детсада в Ракке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685800" y="1219320"/>
            <a:ext cx="792468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66"/>
                </a:solidFill>
                <a:latin typeface="Arial"/>
              </a:rPr>
              <a:t>Котельная </a:t>
            </a:r>
            <a:r>
              <a:rPr b="0" lang="et-EE" sz="3200" spc="-1" strike="noStrike">
                <a:solidFill>
                  <a:srgbClr val="ffcc66"/>
                </a:solidFill>
                <a:latin typeface="Arial"/>
              </a:rPr>
              <a:t>Norkar BSB Eesti AS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монтирована в насосной мазутного хозяйства бывшей котельной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Топливо - опилки после осушки лисьих шкурок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ысокая телотворная способность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Котел </a:t>
            </a:r>
            <a:r>
              <a:rPr b="0" lang="et-EE" sz="3200" spc="-1" strike="noStrike">
                <a:solidFill>
                  <a:srgbClr val="ffffff"/>
                </a:solidFill>
                <a:latin typeface="Times New Roman"/>
              </a:rPr>
              <a:t>Arimax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 горелкой </a:t>
            </a:r>
            <a:r>
              <a:rPr b="0" lang="et-EE" sz="3200" spc="-1" strike="noStrike">
                <a:solidFill>
                  <a:srgbClr val="ffffff"/>
                </a:solidFill>
                <a:latin typeface="Times New Roman"/>
              </a:rPr>
              <a:t>Bio Je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Бункер 5 м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66"/>
                </a:solidFill>
                <a:latin typeface="Arial"/>
              </a:rPr>
              <a:t>Котельная </a:t>
            </a:r>
            <a:r>
              <a:rPr b="0" lang="et-EE" sz="3200" spc="-1" strike="noStrike">
                <a:solidFill>
                  <a:srgbClr val="ffcc66"/>
                </a:solidFill>
                <a:latin typeface="Arial"/>
              </a:rPr>
              <a:t>Norkar BSB Eesti AS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685800" y="1066680"/>
            <a:ext cx="80010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8487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66"/>
                </a:solidFill>
                <a:latin typeface="Arial"/>
              </a:rPr>
              <a:t>Анализ реконструемых систем теплоснабжения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ысокая стоимость тепловой энерги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Большинство реконструируемых котельных имеют избыточную мощность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отельное оборудование физически и морально амортизировано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изкий КПД котлов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Большие утечки и теплопотери в теплотрассах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лохая работа водоподготовк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Большие затраты рабочей сил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Загрязнение окружающей сред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66"/>
                </a:solidFill>
                <a:latin typeface="Arial"/>
              </a:rPr>
              <a:t>Котельная </a:t>
            </a:r>
            <a:r>
              <a:rPr b="0" lang="et-EE" sz="3200" spc="-1" strike="noStrike">
                <a:solidFill>
                  <a:srgbClr val="ffcc66"/>
                </a:solidFill>
                <a:latin typeface="Arial"/>
              </a:rPr>
              <a:t>Norkar BSB Eesti AS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762120" y="990720"/>
            <a:ext cx="7772400" cy="55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ffcc66"/>
                </a:solidFill>
                <a:latin typeface="Arial"/>
              </a:rPr>
              <a:t>ООО Мярья Монте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480" y="837720"/>
            <a:ext cx="7848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ffffff"/>
                </a:solidFill>
                <a:latin typeface="Times New Roman"/>
              </a:rPr>
              <a:t>51015 Tartumaa, Märja, Eston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Тел. +372 7 493 597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Факс + 372 7 493 497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et-EE" sz="2800" spc="-1" strike="noStrike">
                <a:solidFill>
                  <a:srgbClr val="ffffff"/>
                </a:solidFill>
                <a:latin typeface="Times New Roman"/>
              </a:rPr>
              <a:t>-mail: </a:t>
            </a:r>
            <a:r>
              <a:rPr b="0" lang="et-EE" sz="2800" spc="-1" strike="noStrike" u="sng">
                <a:solidFill>
                  <a:srgbClr val="ff0033"/>
                </a:solidFill>
                <a:uFillTx/>
                <a:latin typeface="Times New Roman"/>
                <a:hlinkClick r:id="rId1"/>
              </a:rPr>
              <a:t>monte@kiirtee.e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t-EE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i="1" lang="et-EE" sz="2800" spc="-1" strike="noStrike" u="sng">
                <a:solidFill>
                  <a:srgbClr val="ff0033"/>
                </a:solidFill>
                <a:uFillTx/>
                <a:latin typeface="Times New Roman"/>
                <a:hlinkClick r:id="rId2"/>
              </a:rPr>
              <a:t>www.monte.e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артнер в Белоруссии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 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овитерБел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 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Шаранговича 19, Минск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 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тел. 211 58 39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66"/>
                </a:solidFill>
                <a:latin typeface="Arial"/>
              </a:rPr>
              <a:t>Выбор мощности котельной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76960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о графику тепловой загрузки сети или объекта определяется пиковая, базовая и минимальная тепловая мощность котельной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50% мощности =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85% тепловой энергии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Базовая мощность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Дорогой котел –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дешевое топливо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иковая мощность –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дешевый котел –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дорогое топливо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886200" y="2286000"/>
            <a:ext cx="502920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66"/>
                </a:solidFill>
                <a:latin typeface="Arial"/>
              </a:rPr>
              <a:t>Биомасса как топливо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 CE"/>
              </a:rPr>
              <a:t>                                  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Arial CE"/>
              </a:rPr>
              <a:t>Влажность        </a:t>
            </a:r>
            <a:r>
              <a:rPr b="1" lang="ru-RU" sz="2000" spc="-1" strike="noStrike">
                <a:solidFill>
                  <a:srgbClr val="ffffff"/>
                </a:solidFill>
                <a:latin typeface="Arial CE"/>
              </a:rPr>
              <a:t>Теплотворность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CE"/>
              </a:rPr>
              <a:t>      </a:t>
            </a:r>
            <a:r>
              <a:rPr b="1" lang="ru-RU" sz="2000" spc="-1" strike="noStrike">
                <a:solidFill>
                  <a:srgbClr val="ffffff"/>
                </a:solidFill>
                <a:latin typeface="Arial CE"/>
              </a:rPr>
              <a:t>                                   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Arial CE"/>
              </a:rPr>
              <a:t>%                       МВт.час/м3(т*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Arial C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CE"/>
              </a:rPr>
              <a:t>Дров</a:t>
            </a:r>
            <a:r>
              <a:rPr b="0" lang="ru-RU" sz="2800" spc="-1" strike="noStrike">
                <a:solidFill>
                  <a:srgbClr val="ffffff"/>
                </a:solidFill>
                <a:latin typeface="Arial CE"/>
              </a:rPr>
              <a:t>а  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 CE"/>
              </a:rPr>
              <a:t>25</a:t>
            </a:r>
            <a:r>
              <a:rPr b="0" lang="ru-RU" sz="2800" spc="-1" strike="noStrike">
                <a:solidFill>
                  <a:srgbClr val="ffffff"/>
                </a:solidFill>
                <a:latin typeface="Arial CE"/>
              </a:rPr>
              <a:t>                 1,4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Arial C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CE"/>
              </a:rPr>
              <a:t>Щепа </a:t>
            </a:r>
            <a:r>
              <a:rPr b="0" lang="ru-RU" sz="2800" spc="-1" strike="noStrike">
                <a:solidFill>
                  <a:srgbClr val="ffffff"/>
                </a:solidFill>
                <a:latin typeface="Arial CE"/>
              </a:rPr>
              <a:t>                             25                 1,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Arial C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CE"/>
              </a:rPr>
              <a:t>Щепа </a:t>
            </a:r>
            <a:r>
              <a:rPr b="0" lang="ru-RU" sz="2800" spc="-1" strike="noStrike">
                <a:solidFill>
                  <a:srgbClr val="ffffff"/>
                </a:solidFill>
                <a:latin typeface="Arial CE"/>
              </a:rPr>
              <a:t>                         40 - 55          0,7 - 0,9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Arial C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CE"/>
              </a:rPr>
              <a:t>Дробленые отходы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Arial C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CE"/>
              </a:rPr>
              <a:t>л</a:t>
            </a:r>
            <a:r>
              <a:rPr b="0" lang="en-US" sz="2400" spc="-1" strike="noStrike">
                <a:solidFill>
                  <a:srgbClr val="ffffff"/>
                </a:solidFill>
                <a:latin typeface="Arial CE"/>
              </a:rPr>
              <a:t>есозаго</a:t>
            </a:r>
            <a:r>
              <a:rPr b="0" lang="ru-RU" sz="2400" spc="-1" strike="noStrike">
                <a:solidFill>
                  <a:srgbClr val="ffffff"/>
                </a:solidFill>
                <a:latin typeface="Arial CE"/>
              </a:rPr>
              <a:t>товки</a:t>
            </a:r>
            <a:r>
              <a:rPr b="0" lang="ru-RU" sz="2800" spc="-1" strike="noStrike">
                <a:solidFill>
                  <a:srgbClr val="ffffff"/>
                </a:solidFill>
                <a:latin typeface="Arial CE"/>
              </a:rPr>
              <a:t>  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 CE"/>
              </a:rPr>
              <a:t>45 – 60</a:t>
            </a:r>
            <a:r>
              <a:rPr b="0" lang="ru-RU" sz="2800" spc="-1" strike="noStrike">
                <a:solidFill>
                  <a:srgbClr val="ffffff"/>
                </a:solidFill>
                <a:latin typeface="Arial CE"/>
              </a:rPr>
              <a:t>         0,7 – 0,9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Arial C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CE"/>
              </a:rPr>
              <a:t>Древесные брикеты</a:t>
            </a:r>
            <a:r>
              <a:rPr b="0" lang="ru-RU" sz="2800" spc="-1" strike="noStrike">
                <a:solidFill>
                  <a:srgbClr val="ffffff"/>
                </a:solidFill>
                <a:latin typeface="Arial CE"/>
              </a:rPr>
              <a:t>         </a:t>
            </a:r>
            <a:r>
              <a:rPr b="0" lang="en-US" sz="2800" spc="-1" strike="noStrike">
                <a:solidFill>
                  <a:srgbClr val="ffffff"/>
                </a:solidFill>
                <a:latin typeface="Arial CE"/>
              </a:rPr>
              <a:t>8 – 12</a:t>
            </a:r>
            <a:r>
              <a:rPr b="0" lang="ru-RU" sz="2800" spc="-1" strike="noStrike">
                <a:solidFill>
                  <a:srgbClr val="ffffff"/>
                </a:solidFill>
                <a:latin typeface="Arial CE"/>
              </a:rPr>
              <a:t>            4,5</a:t>
            </a:r>
            <a:r>
              <a:rPr b="0" lang="en-US" sz="2800" spc="-1" strike="noStrike">
                <a:solidFill>
                  <a:srgbClr val="ffffff"/>
                </a:solidFill>
                <a:latin typeface="Arial CE"/>
              </a:rPr>
              <a:t>*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Arial C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CE"/>
              </a:rPr>
              <a:t>Пеллеты</a:t>
            </a:r>
            <a:r>
              <a:rPr b="0" lang="ru-RU" sz="2800" spc="-1" strike="noStrike">
                <a:solidFill>
                  <a:srgbClr val="ffffff"/>
                </a:solidFill>
                <a:latin typeface="Arial CE"/>
              </a:rPr>
              <a:t>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 CE"/>
              </a:rPr>
              <a:t>менее 10</a:t>
            </a:r>
            <a:r>
              <a:rPr b="0" lang="ru-RU" sz="2800" spc="-1" strike="noStrike">
                <a:solidFill>
                  <a:srgbClr val="ffffff"/>
                </a:solidFill>
                <a:latin typeface="Arial CE"/>
              </a:rPr>
              <a:t>           4,7</a:t>
            </a:r>
            <a:r>
              <a:rPr b="0" lang="en-US" sz="2800" spc="-1" strike="noStrike">
                <a:solidFill>
                  <a:srgbClr val="ffffff"/>
                </a:solidFill>
                <a:latin typeface="Arial CE"/>
              </a:rPr>
              <a:t>*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Arial C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CE"/>
              </a:rPr>
              <a:t>Опилки</a:t>
            </a:r>
            <a:r>
              <a:rPr b="0" lang="ru-RU" sz="2800" spc="-1" strike="noStrike">
                <a:solidFill>
                  <a:srgbClr val="ffffff"/>
                </a:solidFill>
                <a:latin typeface="Arial CE"/>
              </a:rPr>
              <a:t>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 CE"/>
              </a:rPr>
              <a:t>40</a:t>
            </a:r>
            <a:r>
              <a:rPr b="0" lang="ru-RU" sz="2800" spc="-1" strike="noStrike">
                <a:solidFill>
                  <a:srgbClr val="ffffff"/>
                </a:solidFill>
                <a:latin typeface="Arial CE"/>
              </a:rPr>
              <a:t>                 0,6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Arial C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CE"/>
              </a:rPr>
              <a:t>Тростник                   10 – 16</a:t>
            </a:r>
            <a:r>
              <a:rPr b="0" lang="ru-RU" sz="2400" spc="-1" strike="noStrike">
                <a:solidFill>
                  <a:srgbClr val="ffffff"/>
                </a:solidFill>
                <a:latin typeface="Arial CE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 CE"/>
              </a:rPr>
              <a:t>            3,9 – 4,2*</a:t>
            </a:r>
            <a:r>
              <a:rPr b="0" lang="ru-RU" sz="2400" spc="-1" strike="noStrike">
                <a:solidFill>
                  <a:srgbClr val="ffffff"/>
                </a:solidFill>
                <a:latin typeface="Arial CE"/>
              </a:rPr>
              <a:t>                 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66"/>
                </a:solidFill>
                <a:latin typeface="Arial"/>
              </a:rPr>
              <a:t>Выбор оборудования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62120" y="1066680"/>
            <a:ext cx="76960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ыбор котла зависит от вида топлива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ырые отходы (опилки, кора, щепа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лажностью до 60%)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         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 котлы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KA,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Дания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Щепа влажностью до 45%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         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 котлы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rimax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, Финляндия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Дрова и обрезк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         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 котлы </a:t>
            </a:r>
            <a:r>
              <a:rPr b="0" lang="et-EE" sz="2800" spc="-1" strike="noStrike">
                <a:solidFill>
                  <a:srgbClr val="ffffff"/>
                </a:solidFill>
                <a:latin typeface="Times New Roman"/>
              </a:rPr>
              <a:t>Fesma Alu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, Эстония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66"/>
                </a:solidFill>
                <a:latin typeface="Arial"/>
              </a:rPr>
              <a:t>Котлы фирмы </a:t>
            </a:r>
            <a:r>
              <a:rPr b="0" lang="et-EE" sz="3200" spc="-1" strike="noStrike">
                <a:solidFill>
                  <a:srgbClr val="ffcc66"/>
                </a:solidFill>
                <a:latin typeface="Arial"/>
              </a:rPr>
              <a:t>REKA,</a:t>
            </a:r>
            <a:r>
              <a:rPr b="0" lang="ru-RU" sz="3200" spc="-1" strike="noStrike">
                <a:solidFill>
                  <a:srgbClr val="ffcc66"/>
                </a:solidFill>
                <a:latin typeface="Arial"/>
              </a:rPr>
              <a:t> Дания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609480" y="1523880"/>
            <a:ext cx="792504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66"/>
                </a:solidFill>
                <a:latin typeface="Arial"/>
              </a:rPr>
              <a:t>Котлы фирмы </a:t>
            </a:r>
            <a:r>
              <a:rPr b="0" lang="et-EE" sz="3200" spc="-1" strike="noStrike">
                <a:solidFill>
                  <a:srgbClr val="ffcc66"/>
                </a:solidFill>
                <a:latin typeface="Arial"/>
              </a:rPr>
              <a:t>REKA,</a:t>
            </a:r>
            <a:r>
              <a:rPr b="0" lang="ru-RU" sz="3200" spc="-1" strike="noStrike">
                <a:solidFill>
                  <a:srgbClr val="ffcc66"/>
                </a:solidFill>
                <a:latin typeface="Arial"/>
              </a:rPr>
              <a:t> Дания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8487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Жаротрубные четырехходовые котлы типа </a:t>
            </a:r>
            <a:r>
              <a:rPr b="0" lang="et-EE" sz="2400" spc="-1" strike="noStrike">
                <a:solidFill>
                  <a:srgbClr val="ffffff"/>
                </a:solidFill>
                <a:latin typeface="Times New Roman"/>
              </a:rPr>
              <a:t>HKRSV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и </a:t>
            </a:r>
            <a:r>
              <a:rPr b="0" lang="et-EE" sz="2400" spc="-1" strike="noStrike">
                <a:solidFill>
                  <a:srgbClr val="ffffff"/>
                </a:solidFill>
                <a:latin typeface="Times New Roman"/>
              </a:rPr>
              <a:t>HKRST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выпускаются мощностью </a:t>
            </a:r>
            <a:r>
              <a:rPr b="0" lang="et-EE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т  0,1 до 3,5 МВ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редназначены для сжигания щепы и древесных отходов абсолютной влажностью до 60% </a:t>
            </a:r>
            <a:r>
              <a:rPr b="0" lang="et-EE" sz="2400" spc="-1" strike="noStrike">
                <a:solidFill>
                  <a:srgbClr val="ffffff"/>
                </a:solidFill>
                <a:latin typeface="Times New Roman"/>
              </a:rPr>
              <a:t>(HKRSV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и до 30%  </a:t>
            </a:r>
            <a:r>
              <a:rPr b="0" lang="et-EE" sz="2400" spc="-1" strike="noStrike">
                <a:solidFill>
                  <a:srgbClr val="ffffff"/>
                </a:solidFill>
                <a:latin typeface="Times New Roman"/>
              </a:rPr>
              <a:t>(HKRST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Топка с подвижной решеткой, со встроенными вен-тиляторами первичной и вторичной подачи воздух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Режимом управляет микроконтроллер в зависимости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т содержания О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в дымовых газах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озможна ступенчатая или плавная регулировка мощности вентиляторов и дымосос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Автоматическое удаление пепла шнеко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26T17:54:34Z</dcterms:created>
  <dc:creator>Kask Ülo</dc:creator>
  <dc:description/>
  <dc:language>en-US</dc:language>
  <cp:lastModifiedBy>SN</cp:lastModifiedBy>
  <dcterms:modified xsi:type="dcterms:W3CDTF">2005-02-12T17:47:47Z</dcterms:modified>
  <cp:revision>83</cp:revision>
  <dc:subject/>
  <dc:title>Edukatest Biomassi projektidest Eestis Successful Biomass Projects in Estonia</dc:title>
</cp:coreProperties>
</file>