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EB0-1AB7-4F64-B250-8828465C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906C-765E-431A-A46D-D140000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3BE-06EB-40A0-8252-A657D71E9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9C2D-1C49-4CD3-9613-3B56A0C0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4F6F-B9DF-4D19-A2D2-789F0EF0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DACD-1A78-4D99-8AB8-1867ECBD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A515-2E0A-4115-A579-0B635918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4644-2411-4B9B-B36F-66ED732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366D-ECB2-4C70-B34E-1B56665B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EBF2-A20B-4361-8724-2C91898D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DDB-C8C1-49D0-9001-5607BF1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23C-AC94-4EBB-9C2B-20600D5C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DA0-1EB9-43B4-963A-083CBA9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4FB-D73F-4287-A9C2-B72D0C72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6F40-B855-405D-9EDB-8A52FE78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2EF2-7F42-43A5-8892-81983B8D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7710-3926-4928-A8EE-3BD8A88B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0BC4-AC7F-43AB-A486-9DB1BB08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862-0EBB-4AC4-B740-235F606F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0F1-3FFD-4086-9867-6E5DA6B2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0D8-94F9-42F9-A0E2-61FCA6E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26B-9762-4A4B-9D01-1FF031D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6356-F1FB-4CD1-ABA7-C5E6F77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FA1-8264-49C5-8904-DCCC2F40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733-F9EA-443C-8A60-F5083E00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A975-86BE-4856-AAA2-1B57EC2F6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monte@kiirtee.ee" TargetMode="External"/><Relationship Id="rId2" Type="http://schemas.openxmlformats.org/officeDocument/2006/relationships/hyperlink" Target="http://www.monte.ee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пыт перевода малых и средних котельных на биотопливо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вел Богдан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.т.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ОО Мярья Монт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3.02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.20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Минс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ирование инвестиц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е коммунальные ко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дровах        75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жидком топливе 75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ие коммунальные котельны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древесных отходах и щепе 160 – 25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сланцевом масле 80 – 100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КВ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еплотрассы   65 - 95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/п.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ые котельные на биотоплив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боте на дрова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топлива вручн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использовать аккумуляционные б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работе на пеллетах или щеп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втоматическая подача топл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котельной в автоматическом режим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хема малой котельной на дровах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на дровах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ая котельная  на щеп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алая котельная  на щеп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редняя себестоимость тепла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осле реконструкци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UR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/МВт.ча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на дровах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    25 – 3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 пеллетах       28 - 3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(на жидком топливе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свыше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45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 древ. отходах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            19 - 22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на сланцевом масле           30 – 3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Теплоснабжение поселка Авинурме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елок Авинурме расположен на северо-востоке Эстонии вдали от районных цент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оселке проживает 950 ж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принмательская деятельность традиционно связана с лесом. Работает 7 предприятий по переработке древес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ители тепла (культурно-административный центр, школа,  детсад, пять 12- и 18-квартирных домов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теплоснабжения: две котельных – одна на жидком топливе (мазут) – 2 котла по 3,6 МВт, вторая – 2 котла по 0,6 Мвт на твердом топливе (каменный уголь, дров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плотрассы в аварийном состоянии, большие теплопотер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затраты на персонал (6 работнико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себестоимость тепла, нестабильность теплоснабжени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системы теплоснабжения поселка Авинурме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1998 году было принято решение о реконструкции системы теплоснабжения поселка за счет кредита Всемирного Бан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ловия кредита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ельная переводится на биотопливо (отходы дере-вообрабатыващих предприятий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редит на 12 лет, годовой интрес 10%, погашение кредита начинается через 2 год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дународный конкурс выиграла наша фирм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вести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котельная              215 тыс.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теплотрассы           60 тыс.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тепловые узлы       30 тыс.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после реконструкции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котельной установлены два водогрейных котла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базовый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REKA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1,3 МВт  на древесных отходах (в основном опилки влажностью до 60%)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иковый –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De Dietrich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,0 МВт на жидком топли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земный механизированный бункер для топлива объемом 165 м3 (12,5х4,5х3 м) с гидравлически поднимаемой крыш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подачи опилок: горизонтальным и наклонным шнеками через шлюз на подающий шн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пожаротушения в случае обратного го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котельной  автоматизирована. Режимом управляет микроконтроллер в зависимости от содержания 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дымовых газах. При отказах сигнал из котельной поступает по мобиль-ному телефон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ое удаление пепла шнеком в бунк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чистка дымовых газов в мультициклон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водоподготов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редпосылки перевода котельных на биотопливо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ва исторически наиболее широко примен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сь в Эстонии в качестве топл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ом покрыто 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% территории Эстони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оретический потенциал биотоплива  достаточен для покрытия всей потребности Эстонии в тепловой и электрической энерг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евод котельных на биотопливо снижает уровень загрязнения окружающей сре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нансовая  поддержка Европейского Сою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хема котельной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87572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8487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 котельной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784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7239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177920"/>
            <a:ext cx="7772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154160"/>
            <a:ext cx="784872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зультаты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и системы теплоснабжения Авинурм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875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бильное теплоснабжение как теплом, так и горячей вод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кращение персонала (1 инженер и 2 сезонных рабочих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ользование дешевого топлива: стоимость опилок 1-1,5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/м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годовой расход топлива: 6500-5000 м3 опилок и 5-15 т жидкого топли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егодовое производство тепла 4250 Мвт.ч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редняя себестоимость 22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EUR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Вт.ча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ризнан лучшим энергетическим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бъектом 200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котлов «Универсал» на торфе, подача вручну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</a:t>
            </a: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Arima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00 КВт на щепе; пиковый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Viadru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0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Вт на сланцевом масл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земный механизированный бункер для щепы на 72 м3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реконструированной котельно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ан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991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азрез  котельной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67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Тыстама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807732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одготовительная работ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ализ состояния системы теплоснаб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мощности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вида биотопл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оборудования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ение размера инвестиц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ор источников финансир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школы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 на жидком топливе и угле в подвале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REK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00 КВт на пеллетах и щепе (влажностью до 40%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ковый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SI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т на жидком топли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земный механизированный бункер для щепы на 55 м3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е теплотрассы и теплоузлы в школе и двух интерната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в Ваекюла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Реконструкция котельной 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До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 на жидком топливе (мазут, сланцевое масл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После реконстру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котла: базовый 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Arimax Bi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Вт на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пе; пиковый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SIME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0 КВт на жидком топлив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ханизированный металлический бункер для щепы на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3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ой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школы и детсада в Ракке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9246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онтирована в насосной мазутного хозяйства бывшей котельн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пливо - опилки после осушки лисьих шкурок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сокая телотворная способн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тел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Arimax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горелкой </a:t>
            </a:r>
            <a:r>
              <a:rPr b="0" lang="et-EE" sz="3200" spc="-1" strike="noStrike">
                <a:solidFill>
                  <a:srgbClr val="ffffff"/>
                </a:solidFill>
                <a:latin typeface="Times New Roman"/>
              </a:rPr>
              <a:t>Bio 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нкер 5 м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01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Анализ реконструемых систем теплоснабже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сокая стоимость тепловой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нство реконструируемых котельных имеют избыточную мощно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тельное оборудование физически и морально амортизирова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зкий КПД котл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утечки и теплопотери в теплотрасс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хая работа водоподгото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льшие затраты рабочей си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грязнение окружающей сре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ельная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Norkar BSB Eesti A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ООО Мярья Монт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51015 Tartumaa, Märja, Esto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. +372 7 493 5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с + 372 7 493 4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-mail: </a:t>
            </a:r>
            <a:r>
              <a:rPr b="0" lang="et-EE" sz="28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monte@kiirtee.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t-EE" sz="28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monte.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ртнер в Белорусс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итерБе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аранговича 19, Минс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. 211 58 3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ыбор мощности котельно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графику тепловой загрузки сети или объекта определяется пиковая, базовая и минимальная тепловая мощность котель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0% мощности =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5% тепловой энерг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азовая мощ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гой котел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шевое топли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иковая мощность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шевый котел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огое топли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5029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Биомасса как топливо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Влажность        </a:t>
            </a: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Теплотво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 CE"/>
              </a:rPr>
              <a:t>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 CE"/>
              </a:rPr>
              <a:t>%                       МВт.час/м3(т*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Дров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а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25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1,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Щепа 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    25                 1,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Щепа 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40 - 55          0,7 - 0,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Дробленые отход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л</a:t>
            </a: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есозаго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товки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45 – 6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0,7 – 0,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Древесные брикеты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8 – 12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4,5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Пеллеты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менее 1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4,7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Опилки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 CE"/>
              </a:rPr>
              <a:t>40</a:t>
            </a: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                 0,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Arial C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E"/>
              </a:rPr>
              <a:t>Тростник                   10 – 16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 CE"/>
              </a:rPr>
              <a:t>            3,9 – 4,2*</a:t>
            </a:r>
            <a:r>
              <a:rPr b="0" lang="ru-RU" sz="2400" spc="-1" strike="noStrike">
                <a:solidFill>
                  <a:srgbClr val="ffffff"/>
                </a:solidFill>
                <a:latin typeface="Arial CE"/>
              </a:rPr>
              <a:t>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Выбор оборудов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бор котла зависит от вида топлив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ырые отходы (опилки, кора, щепа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ю до 60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KA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Щепа влажностью до 4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imax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Финлянд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ова и обрез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отлы </a:t>
            </a:r>
            <a:r>
              <a:rPr b="0" lang="et-EE" sz="2800" spc="-1" strike="noStrike">
                <a:solidFill>
                  <a:srgbClr val="ffffff"/>
                </a:solidFill>
                <a:latin typeface="Times New Roman"/>
              </a:rPr>
              <a:t>Fesma Alu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Эстон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лы фирмы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REKA,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Д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отлы фирмы </a:t>
            </a:r>
            <a:r>
              <a:rPr b="0" lang="et-EE" sz="3200" spc="-1" strike="noStrike">
                <a:solidFill>
                  <a:srgbClr val="ffcc66"/>
                </a:solidFill>
                <a:latin typeface="Arial"/>
              </a:rPr>
              <a:t>REKA,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Да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аротрубные четырехходовые котлы типа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HKRSV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HKRS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пускаются мощностью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 0,1 до 3,5 МВ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назначены для сжигания щепы и древесных отходов абсолютной влажностью до 60%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(HKRS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до 30%  </a:t>
            </a:r>
            <a:r>
              <a:rPr b="0" lang="et-EE" sz="2400" spc="-1" strike="noStrike">
                <a:solidFill>
                  <a:srgbClr val="ffffff"/>
                </a:solidFill>
                <a:latin typeface="Times New Roman"/>
              </a:rPr>
              <a:t>(HKR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пка с подвижной решеткой, со встроенными вен-тиляторами первичной и вторичной подачи возду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жимом управляет микроконтроллер в зависим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одержания 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дымовых газа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можна ступенчатая или плавная регулировка мощности вентиляторов и дымосо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матическое удаление пепла шнеко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7:54:34Z</dcterms:created>
  <dc:creator>Kask Ülo</dc:creator>
  <dc:description/>
  <dc:language>en-US</dc:language>
  <cp:lastModifiedBy>SN</cp:lastModifiedBy>
  <dcterms:modified xsi:type="dcterms:W3CDTF">2005-02-12T17:47:47Z</dcterms:modified>
  <cp:revision>83</cp:revision>
  <dc:subject/>
  <dc:title>Edukatest Biomassi projektidest Eestis Successful Biomass Projects in Estonia</dc:title>
</cp:coreProperties>
</file>