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30F-1FED-49C0-AC1B-D2D4E5C1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8BD-6AFA-4393-BE3E-24A99912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DE3-6388-49D6-AFC9-DE6BF47E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694-98B8-4D9F-B627-AC58AF47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5C662-7B2C-4D4A-803C-F551918C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B9EF7-A5FB-49BE-99C4-982823B5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2F97C-EED8-409A-BFF7-0D6C6764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B2923-D162-4E35-8133-9F15B928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F9E29-2EBB-418E-A111-81AD1C1B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9E492-657A-4C40-8681-5E6713E1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A120B-48AD-4C17-B8B5-4F98A554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0B53-51C7-4651-A6CD-9CDB7CEC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8C65E-A674-444C-85D7-E5DFD943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3D2B8-35B4-4767-8D5E-3964A1D4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A904E-5DF5-464F-81B5-6D772115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69660-CE01-4DA4-8089-532F4949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C4280-442F-498E-BE91-BD288D71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9E8-A389-47F1-B8B9-30C5CFCB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45F-4301-4E6D-8E10-89DD5448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BF1-739A-4A83-BF11-FB4AB41A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B48-513C-46D8-ACDE-E6DF8AF9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5DA-0469-482A-A980-AE052A50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C163-366A-4EBB-840D-9A3BA811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2F5-AC81-42B2-8C45-9B2D4AFB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8A35-75BF-4404-BD6F-9DB6BEDE4B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CA37-5F44-4872-9788-C1AA54F30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2923920"/>
            <a:ext cx="730584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BC_TypeWriterRussian"/>
              </a:rPr>
              <a:t>Опыт работы первой демонстрационной котельной в г.Узда (Волат-1). Выгоды и проблемы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BC_TypeWriterRussian"/>
              </a:rPr>
              <a:t>Г-н В.Л.Ганжа, д.т.н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8524800" cy="885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835280" y="1484280"/>
            <a:ext cx="50814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50814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050920" y="1484280"/>
            <a:ext cx="508176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908000" y="1484280"/>
            <a:ext cx="508176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50814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52:25Z</dcterms:created>
  <dc:creator>SN</dc:creator>
  <dc:description/>
  <dc:language>en-US</dc:language>
  <cp:lastModifiedBy>SN</cp:lastModifiedBy>
  <dcterms:modified xsi:type="dcterms:W3CDTF">2005-02-11T17:14:23Z</dcterms:modified>
  <cp:revision>4</cp:revision>
  <dc:subject/>
  <dc:title>Опыт работы первой демонстрационной котельной в г.Узда (Волат-1). Выгоды и проблемы.  Г-н В.Л.Ганжа, д.т.н. </dc:title>
</cp:coreProperties>
</file>