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3EF3-1F83-4047-8CCA-653955F9E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2351-FA45-48FF-BFCB-55C49DEF6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2A00-D92E-40BD-8815-6483D57D7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7130-B5B4-4738-AD9E-70385469F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0699B7-C8CD-4CED-B9F4-D75E684F5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E3E0B7-1118-4F20-8191-D26DF1E91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7583EE-08B4-47DF-B835-B008883C8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6FC434-6F7A-494B-B5A8-AB971886F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68AA40-B26D-4394-8618-E0F1E7900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EB1125-6BFA-437D-92F5-7CC3D50ED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A28980-34C3-4515-9E94-195E9D11B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88FF-2505-4662-BA2B-CDAD1E903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2D9F69-15FD-4529-ABCA-21A7AE93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1198E7-1EED-43A8-9814-7E28581C7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C47A9F-C14C-44EB-B229-DC9666268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1887DD-4E56-42D6-BB1A-7C68293C4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BF2B38-1405-444D-B6E9-86110010D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DE9E-10F5-45DF-8DEE-0FBB52F5F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79B4-CADF-4B71-8F43-776B49699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DB7E-C637-4CC1-8F36-3E9A0E59F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40A2-7944-4D4E-84FF-917629398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46E8-798D-4E58-B871-913DD3F1B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C29E-64CE-4C51-A5FE-6EFB4461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88EA-9A74-4C48-B789-FA0FF932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3132C-379C-4DAE-9366-7386FCC058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F0CC6-8E19-4D2A-BA5F-D0CCB0EB10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00000" y="2923920"/>
            <a:ext cx="730584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BC_TypeWriterRussian"/>
              </a:rPr>
              <a:t>Опыт работы первой демонстрационной котельной в г.Узда (Волат-1). Выгоды и проблемы.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BC_TypeWriterRussian"/>
              </a:rPr>
              <a:t>Г-н В.Л.Ганжа, д.т.н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24000" y="0"/>
            <a:ext cx="8524800" cy="885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835280" y="1484280"/>
            <a:ext cx="508140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835280" y="1268280"/>
            <a:ext cx="508140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050920" y="1484280"/>
            <a:ext cx="508176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908000" y="1484280"/>
            <a:ext cx="508176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340000" y="1628640"/>
            <a:ext cx="508140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4T13:52:25Z</dcterms:created>
  <dc:creator>SN</dc:creator>
  <dc:description/>
  <dc:language>en-US</dc:language>
  <cp:lastModifiedBy>SN</cp:lastModifiedBy>
  <dcterms:modified xsi:type="dcterms:W3CDTF">2005-02-11T17:14:23Z</dcterms:modified>
  <cp:revision>4</cp:revision>
  <dc:subject/>
  <dc:title>Опыт работы первой демонстрационной котельной в г.Узда (Волат-1). Выгоды и проблемы.  Г-н В.Л.Ганжа, д.т.н. </dc:title>
</cp:coreProperties>
</file>