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BB63-6696-4203-87FD-244A34C1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37A-61E5-4AA0-B441-20D14EAD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90E7-02C8-4FB2-9652-07392EFB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6914-7E06-4314-B423-047B91EE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F289-CB66-49D3-8A0D-EE7CD4D2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6AF5-D329-4618-B479-F233BE72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C1AF-B624-4ACE-B016-070F55E2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18C6-8949-429A-973A-B74EF4EE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2D4D-5EDD-4E97-9CA6-C431B119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DC5B-B75F-4E10-9830-19B13048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97F5-D650-40FD-BF39-690E55AC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5D5C-20AB-472E-A542-0DF5ACCA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402D-24D5-46D0-99C7-11923FB5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0325-F609-4C47-A9BD-96A18227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580A-719F-4BD9-8D45-9D3855BA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3F21-A0C7-4D5C-B3E0-00B4F98A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35AD-FC78-4AB5-9138-A7986A6B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8DAC-3BA4-4093-8F77-BB7C4D3A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11C8-880B-4B08-910C-A300904E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2DB2-8272-4585-B839-D9FC11DC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8636-9AAD-4084-862F-69417D09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BEBD-8ED9-4427-8275-6ABF5402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680E-440D-44DC-BD72-9DBF4360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0780-721A-40A5-AF6E-CD069715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339933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7828-1AF3-46ED-BB13-468167EBCB93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7C52-B155-478E-9E84-802B50D84A0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339933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47B6-0D0F-4D61-8D91-25EEEEE6E5E9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CA5C-A62D-4C3C-A299-E6343ECB534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560" y="609120"/>
            <a:ext cx="783612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РООН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ГЭФ, ЕЭК ООН,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br>
              <a:rPr sz="4800"/>
            </a:br>
            <a:br>
              <a:rPr sz="4800"/>
            </a:b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Комэнергоэффективности, </a:t>
            </a:r>
            <a:br>
              <a:rPr sz="4400"/>
            </a:br>
            <a:br>
              <a:rPr sz="4400"/>
            </a:b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 «Энергия Биомассы»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819160" y="3429000"/>
            <a:ext cx="60958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. Войтехови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итель прое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80880" y="4648320"/>
          <a:ext cx="9241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648320"/>
                    <a:ext cx="9241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A636-248E-4C3A-BD41-31865AC4F2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8920" y="609120"/>
            <a:ext cx="8736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Вилейка. Котельная Минскэнерго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47640" y="1981080"/>
            <a:ext cx="5832720" cy="425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1C95-6D79-4A4C-B69F-24CBB69AB7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Вилейский р-н. Отходы лесозаготовки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6048360" cy="38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5E88-6E82-46E0-9816-49BD2E4053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830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 Narrow"/>
              </a:rPr>
              <a:t>Нижний склад лесозаготовительного предприятия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6502680" cy="393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A636-2476-4B22-85F5-6FB5A54045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Ожидаемое снижение выбросов парниковых газов в результате замещения ископаемого топлива отходам древесины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81080" y="3047760"/>
            <a:ext cx="69343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1.08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миллионов тонн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i="1" lang="en-GB" sz="40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за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15‑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летний период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4495680"/>
            <a:ext cx="106704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4648320"/>
          <a:ext cx="92376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48320"/>
                    <a:ext cx="92376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F36E-901B-4694-9D4D-03F349E897CD}" type="slidenum">
              <a:t>13</a:t>
            </a:fld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71600" y="251460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Спасибо за внима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9234-B558-422D-AD7B-C4D5F333BB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06436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 Narrow"/>
              </a:rPr>
              <a:t>Энергия биомассы из отходов древесины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14600" y="3015720"/>
            <a:ext cx="62532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ем финансирован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8,936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лн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Э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 3,374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лн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 них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1,54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лн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оборотный фонд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энергоэффективност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2,19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лн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кт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 3,37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лн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80880" y="4648320"/>
          <a:ext cx="9241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648320"/>
                    <a:ext cx="9241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9F3B-114E-4B5B-A94A-36423F1E88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609120"/>
            <a:ext cx="8736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 Narrow"/>
              </a:rPr>
              <a:t>Перечень демонстрационных объектов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отельная частного предприятия Волат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2. Мини ТЭЦ ОАО Мостовдр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3. Мини ТЭЦ котельной Минскэнерго в г. Вилей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4. Вилейский лесхоз (заготовка и поставка древесного топлив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Котельная санатория «Радон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. Котельная завода «Стройдетал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6FF9-4FA6-4B56-8A34-82ED286327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60912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Строительство котельной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920000" cy="443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62CF-03A7-4ABE-8C55-0902EC753B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Склад топлива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129440" cy="38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AE42-8B69-4FAE-A2BD-5B5E6036C8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920" y="6091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Пуск котельной Волат - 1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00000" y="1981080"/>
            <a:ext cx="6985080" cy="425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4B7E-A0EC-4E8C-ADCA-3B30D8F500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892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Мостовдрев. Производство фанеры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19280" y="1981080"/>
            <a:ext cx="6502320" cy="418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4B96-B801-4F2A-9DF8-B206BAA3F9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Мостовдрев. Внешний вид котельной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981080"/>
            <a:ext cx="601488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A400-1BE2-4263-8209-FA3AA13635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Вилейка. Котельная Минскэнерго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5904000" cy="38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455D-CC75-48C5-A25C-1C1A54A676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N</cp:lastModifiedBy>
  <dcterms:modified xsi:type="dcterms:W3CDTF">2005-02-12T18:01:45Z</dcterms:modified>
  <cp:revision>43</cp:revision>
  <dc:subject/>
  <dc:title>Презентация PowerPoint</dc:title>
</cp:coreProperties>
</file>