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5ED-A59E-4A91-8198-F1561BDA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6F2-FEC9-495F-A4CB-BF4C393E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C3D8-8AE5-4A2F-BE3C-79365CEB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654-6332-49C8-9561-F751317E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0145-2DD0-4A88-926D-D0394804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4BB2-38FE-491D-BFBF-BACCB497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2A09-85D5-424F-8B5E-38EDA67E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245F-B7E9-40F4-9505-2A6BA770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07EF-ED68-40DF-9FDF-8DE53827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FADA-427E-48FD-82DA-44D99F2A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32E0-8E15-421A-8516-A00F3E19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AE3-A92E-40A9-BDFB-9F686E41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D58F-C1DA-4CCF-9541-23E00440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B604-8CCC-449C-AF38-F0473BE1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5CA3-5D6B-49A7-A4CA-5E01DE79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9611-D29A-45C8-B254-428812C9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9022-EF19-4FED-B334-0E1E2E14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3ED-73F7-4ECB-9566-037D1CFD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B7F-BE59-4857-94F0-28B6EF1D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0E8-10B1-4696-8B81-2C82D5B7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0869-4F9E-4145-9735-D88AA52E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F1F-DE2C-4AB1-A048-8B78BEC4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B49-2C96-4C5A-9598-9CE68F96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E92-8A05-46BC-8F9F-9C6B8BEC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E2B5-5D4C-4FFE-957A-BD59A416EAC8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AB54-70C1-40B7-A497-EBBFF14433A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C3C6-8560-4FED-8503-CE0C478FF317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93BA-9FB2-4000-9604-F89EA8EA12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560" y="609120"/>
            <a:ext cx="78361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РООН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ГЭФ, ЕЭК ООН,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Комэнергоэффективности, </a:t>
            </a: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 «Энергия Биомассы»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19160" y="3429000"/>
            <a:ext cx="60958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 Войтехови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C07-9213-46D9-B759-CECB6CEA6E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8920" y="609120"/>
            <a:ext cx="8736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Вилейка. Котельная Минскэнерго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47640" y="1981080"/>
            <a:ext cx="5832720" cy="425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587C-A2DD-495E-B722-FAC1A719BD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Вилейский р-н. Отходы лесозаготовк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604836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5B2D-2F2C-41C5-8B31-233D1947C9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3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Нижний склад лесозаготовительного предприятия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502680" cy="393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ECA8-7A62-4FE7-9EB1-6E9EB8B8A1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Ожидаемое снижение выбросов парниковых газов в результате замещения ископаемого топлива отходам древесины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81080" y="3047760"/>
            <a:ext cx="69343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1.08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иллионов тонн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i="1" lang="en-GB" sz="4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за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15‑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летний период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4495680"/>
            <a:ext cx="106704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4648320"/>
          <a:ext cx="92376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48320"/>
                    <a:ext cx="92376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089-8EA9-43A9-B6A8-EBE14D7562DA}" type="slidenum">
              <a:t>13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251460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Спасибо за внима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00C-51EA-44A2-BA50-4D18275DDC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 Narrow"/>
              </a:rPr>
              <a:t>Энергия биомассы из отходов древесины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14600" y="3015720"/>
            <a:ext cx="62532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ем финансирован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8,936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лн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Э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 3,374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лн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них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1,54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лн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оборотный фонд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энергоэффективност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2,19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лн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 3,37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лн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9338-C34F-4141-B733-E489DE9A7C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609120"/>
            <a:ext cx="8736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Перечень демонстрационных объектов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отельная частного предприятия Волат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2. Мини ТЭЦ ОАО Мостовдр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3. Мини ТЭЦ котельной Минскэнерго в г. Вилей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4. Вилейский лесхоз (заготовка и поставка древесного топлив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Котельная санатория «Радон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6. Котельная завода «Стройдетал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29EC-A376-4629-BE76-612D214940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60912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троительство котельной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920000" cy="443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626-8ABF-4E5F-B53D-81D0AEFD43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Склад топлива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129440" cy="388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281-56EB-4702-993E-0747DDCCA3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609120"/>
            <a:ext cx="7872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Пуск котельной Волат - 1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1981080"/>
            <a:ext cx="6985080" cy="425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0DE-AE7F-4122-B2B4-87B80AF3BB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8920" y="6091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Мостовдрев. Производство фанеры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1981080"/>
            <a:ext cx="6502320" cy="41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44D-D616-4851-8E97-F12CA84E96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Мостовдрев. Внешний вид котельной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981080"/>
            <a:ext cx="601488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0CBD-C6D9-42BA-AF77-5953C73851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Вилейка. Котельная Минскэнерго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590400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81C3-FBD3-439D-9083-FDC9C1A298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N</cp:lastModifiedBy>
  <dcterms:modified xsi:type="dcterms:W3CDTF">2005-02-12T18:01:45Z</dcterms:modified>
  <cp:revision>43</cp:revision>
  <dc:subject/>
  <dc:title>Презентация PowerPoint</dc:title>
</cp:coreProperties>
</file>