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CFA-E22A-445E-B6FD-87BA8B98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16A-E840-46BB-81FB-15510EC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236-3CFB-4723-BF0C-B7F51B86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C58-07E3-4BDD-8DBC-216A7315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56DB-59E7-4424-9FDE-AC3E5BCB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6D45-9817-47E8-B41F-1A37A6C2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DC0D-0337-4BE5-A802-45B36632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8AF0-5D27-47C3-93C6-FB4E08C5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1B7F-BE46-48E4-899A-3C990712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1EFE-6A15-47D8-A486-9EBC8210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BC4-4EB0-4D01-AB9A-C223D4B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D03E-EB76-4F39-BC37-8962CCDB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A315-208D-4EFB-AC20-579E6784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763A-5BA6-444B-A638-ED66D780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165D-8876-4430-AB7F-2792EB60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2D32-5DB4-4CFC-AFA2-BDD65629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402B-6E2E-472A-8875-7C140BEC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B1D1-A7EF-4176-AA24-80FBE546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9630-31EF-413D-8196-6A27ACE2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604D0-08A5-47F6-B95D-E9883420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93C0-7EDC-47F7-B0C8-AD842E88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67D7-4344-47EB-AF21-EE2CCF49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98D-0800-4007-BBE1-70B5AFC0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6695-3F9C-49F9-B936-173CCBC9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BC4A4-A721-48A7-BE2F-338A33EC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31F0-F9A7-462F-81A5-CE2F1A1F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73ED8-DF6B-4563-96BB-DD92C6F4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10B86-1048-4D36-B58C-AA9F9E13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9B1F-6E92-4B00-A4E0-7032CF98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CBDC-F7D6-43A7-A618-F0D5BF97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027A4-9AAA-4B27-BB36-88B9B2D9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FC45B-D7BE-4D30-B406-8FCE0472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B8557-444B-4DC2-9ACE-66CA7AAD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FE1-A951-4847-A86A-8FD6CDAD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2CD72-E24D-461A-9B38-352C7CAA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DCF11-8814-455F-845E-03E0C235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B0676-DC0E-440B-81BE-EF98D8AA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14D9F8-C29C-4A98-B910-B62AAC5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8C6D7-4142-486E-B2D1-95D6AEC9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33B08-5205-419D-9F4D-F575DC3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CB8C7-A1F1-43E0-B8E3-F8905CF2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0D3F08-64E5-4B27-ADA3-FA900D4F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1EF5C-334F-4B79-833E-E404A50C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AC69-D8B9-414A-9037-1F4D13DE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47CB-F0CA-4D77-9C77-329C0B8C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C8F2-7442-45E0-B8F3-9C5DD7EF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D5CA8-B903-4919-A347-A9F4DC07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A0515-371F-4ACE-BD44-58CD950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8551F-EEE3-4DB5-80C6-B8EE5285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F326A-47D4-492E-B21B-053A15E1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1619C-ABB0-4BD3-899C-8477E557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435E-480D-4E96-86DA-071D6E2F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1C0A5-1456-4744-86FF-AB0ED2CB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D251C-1204-4425-AEAC-0231F71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767E4-E3B3-477C-81D6-1B0A0EF3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E2A-5A8E-4171-B6B7-3046CC86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47DF-A143-4ACC-AF64-2307DF07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22E-FF3D-41DD-A0F1-689750D1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0E5-3D64-4E67-82EF-6933F6B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9D0-7A96-4619-B167-43C02FE7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985A-6828-4D77-B2AC-E9E2D07A7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6F60-DDA4-457D-AFDB-DAE86BDC5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491F-EB77-45D0-8FF2-395EDF284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1069-3A49-4F87-8462-546F404A21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D7F1-B208-4E74-9ABA-CB9AB23623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0643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Теплотехнические испытания водогрейных котлов на местных видах топлива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производительностью до 1,0 МВт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00000" y="422064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первый этап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ИЭЯИ-Сосны ,  БЕЛЭНЕРГОСБЕРЕЖ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50840" y="1236600"/>
          <a:ext cx="8843760" cy="4386240"/>
        </p:xfrm>
        <a:graphic>
          <a:graphicData uri="http://schemas.openxmlformats.org/drawingml/2006/table">
            <a:tbl>
              <a:tblPr/>
              <a:tblGrid>
                <a:gridCol w="2069640"/>
                <a:gridCol w="1009800"/>
                <a:gridCol w="1192320"/>
                <a:gridCol w="1371600"/>
                <a:gridCol w="1143000"/>
                <a:gridCol w="1028520"/>
                <a:gridCol w="1028880"/>
              </a:tblGrid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изво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т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ьная производительность на расчетном топливе, М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рхность теплообмена (удельная поверхность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м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МВ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тая производительность на местном виде топлива, МВт (%  номина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ларируемый  К.П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асчетном топливе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т К.П.Д. на местом виде топлив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Минский завод отопительного оборудова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0,266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8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0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7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0,389К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8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0,512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0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320 (6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ПП «Белоозерский энергомеханический завод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Белоозер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400/95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6 (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75 (4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750/95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 (3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ПГЗ «Коммунальник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Гом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-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  (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0 (3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Т-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 (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75 (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«Брестсельмаш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Бр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В-0,09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0 (7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76 (8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П «Белкотломаш»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Бешенкови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-Р-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 (6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20 (7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К им. Дзержин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755640" y="6206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новные технические характеристики исследуемых водогрейных котл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10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Заключение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еревод испытанных образцов котельного оборудования в условиях реальных объектов  теплоснабжения на местные виды приведет к снижению теплопроизводительности и коэффициента полезного действия. При этом экологические показатели по выбросам в атмосферу вредных веществ при правильной наладке оборудования не выходят за пределы установленных нор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Из всех испытанных образцов оборудования) можно рекомендовать котлы, произведенные в НПП «Белкотломаш». Перспективными для сжигания местных видов топлив является также корпусные  котлы Белоозерского энергомеханического завода при внесении определенных доработок в конструкцию топки и компоновки и, возможно, увеличения конвективных поверхностей нагрева. Для теплоснабжения малых объектов (больницы, школы, магазины и др.) может быть рекомендован котел ОАО «Брестсельмаш». Все перечисленные котлы поставляются в полной заводской готовности и компонуются необходимым вспомогательным оборудованием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льзя сбрасывать со счетов модернизированный чугунный котел «Минск-1» (ОАО «Минский завод отопительного оборудования»). К его преимуществам следует отнести низкую цену, долговечность и устойчивость к коррозии и отложениям солей жесткости. В случае установки по тракту дымовых газов дополнительного конвективного теплообменника возможно улучшение его показателей по эффективности сжигания топлив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Более жесткие требования должны предъявляться к качеству проектных и монтажных работ при модернизации котельных и их переводу на местные виды топлива. Особое внимание должно быть уделено эффективному устройству трактов уходящих газов, в том числе дымовой трубы и правильному подбору тягодутьевых машин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Для обеспечения конкурентоспособности отечественного оборудования считаем необходимым организацию в системе Национальной академии наук центра по сертификации котельного оборудования. На базе имеющихся теплофизических установок возможно создание специализированного стенда по испытанию котлов.  Наличие испытательной базы и привлечение высококвалифицированного персонала ускорит модернизацию и разработку высокоэффективного котельного оборудован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Цель исследовани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балансовых теплотехнических опытов по определению фактических эксплуатационных  теплотехнических и экологических показателей водогрейных котлов на местных видах топли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дение анализа  полученных результатов опытов и разработка рекомендаций по использованию водогрейных котлов на местных видах топл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Основание для  проведения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41497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учением Совета Министров Республики Беларусь от 04.09.2004 г. за № 03/313-1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околом совещания в Комитете по энергоэффективности при Совете Министров Республики Беларусь от 1.10.2004 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бл. 1 Средства измерения и оборудование, применяемые при проведении испытани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95280" y="1052640"/>
          <a:ext cx="8229600" cy="4902120"/>
        </p:xfrm>
        <a:graphic>
          <a:graphicData uri="http://schemas.openxmlformats.org/drawingml/2006/table">
            <a:tbl>
              <a:tblPr/>
              <a:tblGrid>
                <a:gridCol w="1927080"/>
                <a:gridCol w="2536920"/>
                <a:gridCol w="1036800"/>
                <a:gridCol w="1150920"/>
                <a:gridCol w="15778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змеряемого пара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редств измерения и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. 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ведения аттес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точности, погрешность измер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и состав уходящих газов,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тор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0855600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5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ды на входе и на выходе котла, 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преобразователь сопротивления платиновый ТСП 1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3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3+0,05)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воды, М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ометр М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8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твердого топлива,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ы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CS 300s «Mettler Toledo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1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2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 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производительность котла, кВ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четчик Комбиметр 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55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четчик ТЭМ 05М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8.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окружающей среды, 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метр лабораторный ртутный ТЛ-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6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опыта, 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омер СОСпр «АГА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4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562640" cy="4608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148360" y="83664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549360"/>
            <a:ext cx="3672000" cy="3882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тел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«Минск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  (Минский завод отопительного оборуд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ыла испытана вся линейка оборудования, выпускаемого заводом, с установленной мощностью:   266 , 389 и 512 кВ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разцы отличаются количеством однотипных чугунных секций: 18, 26 и 34 соответстве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жигание топлива осуществляется на колосниковой решетке. Теплообмен реализуется на радиационных и конвективных поверхностях се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1332000" y="260280"/>
          <a:ext cx="6696000" cy="6515280"/>
        </p:xfrm>
        <a:graphic>
          <a:graphicData uri="http://schemas.openxmlformats.org/drawingml/2006/table">
            <a:tbl>
              <a:tblPr/>
              <a:tblGrid>
                <a:gridCol w="2138400"/>
                <a:gridCol w="1139760"/>
                <a:gridCol w="1139760"/>
                <a:gridCol w="1136520"/>
                <a:gridCol w="1141560"/>
              </a:tblGrid>
              <a:tr h="241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 размерность показателе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ыт №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на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топли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кеты торфяные производства ПРУТП «УСЯЖ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шая теплота сгорания топлива, кДж/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опыта, 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 воды, МП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ды на входе в котел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воды на выходе из котла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воды, м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производительность, кВ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са израсходованного топлива, к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,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,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 топлива, кг/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,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,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полезного действия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эффициент избытка воздух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уходящих дымовых газов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 окружающей среды,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уходящих дымовых газо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,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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en-US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2</a:t>
                      </a:r>
                      <a:r>
                        <a:rPr b="0" lang="en-US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value</a:t>
                      </a:r>
                      <a:r>
                        <a:rPr b="0" lang="ru-RU" sz="9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743200" cy="335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708360" y="857160"/>
            <a:ext cx="5184720" cy="4717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большой стальной котел, изготовленного в СПК им. Дзержинског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лообменные поверхности у данного аппарата выполнены в виде каркаса шатрового типа из труб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25×2,5. Трубные секции (12 шт.) соединяются с помощью 2 - входных, 1 – выходной. Вся  эта трубная конструкция образует трех коллекторов: свод топки, высота которой составляет 57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жигание топлива осуществляется на колосниковой решетке. Обмуровка топочного пространства и выходного газохода выполнена из шамотного кирпича. Габариты котла составляют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1200×1000×900 м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уемый аппарат является непромышленным образцом. На него отсутствовали нормативные эксплуатационные документы: паспорт,  техническое описание, руководство по монтажу и эксплуатации. У производителя отсутствовала конструкторская документация на кот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лы КВ-400/95Т и КВ-750/95Т «Белоозерский энергомеханический заво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9280" y="1484280"/>
            <a:ext cx="4038480" cy="4176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лы БЭМЗотносятся к новому поколению отечественного котельного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усная компоновка, полная заводская готовность, возможность полной комплектации, включая системы автоматики и вспомогательного оборуд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тип оборудования по организации процесса теплообмена классифицируется как  газотрубный котел. В этом случае дымовые газы движутся внутри труб, обеспечивая  нагрев воды в межтрубном простран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8640" y="1600200"/>
            <a:ext cx="403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е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СВ-0,09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производства ОАО «Брестсельма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341000"/>
            <a:ext cx="4038480" cy="4784760"/>
          </a:xfrm>
          <a:prstGeom prst="rect">
            <a:avLst/>
          </a:prstGeom>
          <a:solidFill>
            <a:srgbClr val="99ccff">
              <a:alpha val="75000"/>
            </a:srgbClr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ел предназначен для сжигания твердых видов топлива: уголь, дрова, торфобрик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чная загрузка топлива, его сжигание  осуществляется на колосниковой решет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другим признакам аппарат классифицируется следующим образом: котел стальной, газотрубный, блочной компон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вляется в полной заводской комплек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личительной особенностью  конструкции является наличие турбулизаторов внутри тру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ариты котла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185×900×1600 , масса  900 к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ленная мощность 90 кВ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5398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В‑Р‑0,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ПП «Белкотломаш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2920" y="1483920"/>
            <a:ext cx="4172040" cy="47530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огрейный котел КВ‑Р‑0,3, установленная мощность 300 кВ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 для сжигания твердых видов топлива: уголь, дрова, торф. Используется ручная загрузка топли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жигание  осуществляется на колосниковой решетке при достаточно большом объеме топочного простран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другим признакам аппарат классифицируется: котел стальной, водотрубный, блочной компон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вляется в полной заводской комплект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уходящим газам в аппарате реализуется трехходовая схема их движения при развитых поверхностях теплооб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бариты котла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840×1150×2385 мм, масса 2000 к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4320" y="1986120"/>
            <a:ext cx="33242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8:26:45Z</dcterms:created>
  <dc:creator>Клименков</dc:creator>
  <dc:description/>
  <dc:language>en-US</dc:language>
  <cp:lastModifiedBy>SN</cp:lastModifiedBy>
  <dcterms:modified xsi:type="dcterms:W3CDTF">2005-02-12T17:51:48Z</dcterms:modified>
  <cp:revision>5</cp:revision>
  <dc:subject/>
  <dc:title>Теплотехнические испытания водогрейных котлов на местных видах топлива производительностью до 1,0 МВт</dc:title>
</cp:coreProperties>
</file>