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88C3-B917-4DB6-A70D-43F28592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F915-E0E7-4B88-AEDC-9C3EEA9B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0804-CC0E-471C-A125-F6BEFB2C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B440-460F-4260-A874-909E0B93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5D22-26FA-4A89-9A11-09201C85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D27F-6BA8-43AD-8D4B-05A03011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75A9-89FE-42A3-8F8A-A9950210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36D9-B3A3-4824-9368-A120F64B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B9FD-39E3-44E3-A3F7-B39CBB4B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14CC-479D-4273-ADD5-C069A0AA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4BDE-4226-4212-9A24-AD612E33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53E4-6126-4521-A445-E095D169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AB25-5637-4293-A5D4-3FC3D139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F866-DAC1-47E8-A100-06F2E7FA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65CB-471C-4219-A0C4-2081910C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D6AF-F036-49E4-81E6-03738287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44A8-1F91-4FE7-9AD8-D5FEAE72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E5F4A-E119-48D1-91B5-FBCB6BE6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D3064-F164-4494-8423-2D642567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155F4-9097-4BBC-9E87-3E62967F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2218E-9F03-41F4-A1B4-509CE1C2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7BDC6-AEA9-4CEB-8F43-1A8B72E8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4CCD-032F-4930-A9B0-49D9C7BB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B8BF3-ED49-48C9-9248-32569648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D9DF2-DFB8-4E83-AA65-21D3D112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FB894-3784-4265-9C6D-0B4C1745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335DF-7322-4945-BA2E-02A8377A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80021-FF64-4E65-B3F9-724A5B13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55E67-2153-47EE-B5AB-7642A42E7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00D74-9CEA-4F89-9562-1E5021E4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8BB66D-FD3D-49CA-B95A-F2F9CEB3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97197B-6551-4C62-A7C2-CA2DAF5D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CB28A6-4318-429D-804E-1E1FE6A7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E5B0-1EF7-4021-BBC3-9E9EF949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B80380-CC26-4D09-9F83-5DD3804D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B7A9C2-969E-4F24-8CF6-4EBC0101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A95401-E05E-4B7B-9186-DC2A38E1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499397-F342-4074-A25B-5B5065D6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773435-6511-413B-90BB-519F29AA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104E61-ED66-4222-A3B3-34F37BBA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095D9C-2E1D-4A73-8615-7A2188C2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1ADB37-CF7D-4CC8-AEAB-79C49DB8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D67F9D-7CE8-4943-9491-89D8A150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4B165-7145-4FCC-AC62-EEE6B1CC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D14B-A19E-4A7A-B6AF-B1255CE6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D4DAD-BD5D-4336-AECD-A654796B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52D90-D86D-4542-9B30-E06FE59F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C8B3D-4D4F-4C72-A674-CB249C96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62F3D-38BF-4B9E-B89A-18E58D22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5B027-DCFC-4B20-A75A-337EF7C8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54827-B635-4DF5-9EF6-2BD8E4F2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2ECE4-9F76-42B2-8C79-E76288F2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01E31-C95D-46E0-BB12-2175BDA3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C84B3-3FDD-4DD6-A108-8C369149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A4F9F-9C4F-4E34-BB4D-F0B24B06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0D58-3EE9-4FE9-8C74-4A9AA42B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D0B08-7D07-43B5-8334-2371B682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4F4B-BFC6-4480-96BA-06B89E16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F213-4450-46B5-8049-B3A7EAA0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E223-9EE4-4559-A11F-6C0F90A6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916A-F05E-4289-A614-C59A255DE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790A-1E86-4156-B1C9-9DEE2BB67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D68C-1620-47AF-8BB9-EABB1ECB4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C4D8-E130-4079-A1EE-1E7867F0D1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33A9-044D-4298-89DE-69D4F72F21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000" y="1628280"/>
            <a:ext cx="80643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Теплотехнические испытания водогрейных котлов на местных видах топлива</a:t>
            </a:r>
            <a:br>
              <a:rPr sz="3600"/>
            </a:b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производительностью до 1,0 МВт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00000" y="4220640"/>
            <a:ext cx="7632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ервый этап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ИЭЯИ-Сосны ,  БЕЛЭНЕРГОСБЕРЕЖ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150840" y="1236600"/>
          <a:ext cx="8843760" cy="4386240"/>
        </p:xfrm>
        <a:graphic>
          <a:graphicData uri="http://schemas.openxmlformats.org/drawingml/2006/table">
            <a:tbl>
              <a:tblPr/>
              <a:tblGrid>
                <a:gridCol w="2069640"/>
                <a:gridCol w="1009800"/>
                <a:gridCol w="1192320"/>
                <a:gridCol w="1371600"/>
                <a:gridCol w="1143000"/>
                <a:gridCol w="1028520"/>
                <a:gridCol w="1028880"/>
              </a:tblGrid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роизво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кот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инальная производительность на расчетном топливе, МВ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рхность теплообмена (удельная поверхность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м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МВ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игнутая производительность на местном виде топлива, МВт (%  номина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ларируемый  К.П.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расчетном топливе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игнут К.П.Д. на местом виде топлива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АО «Минский завод отопительного оборудован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-0,266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8 (7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0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7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-0,389К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4 (7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8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-0,512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0 (7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320 (6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ПП «Белоозерский энергомеханический завод»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Белоозер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-400/95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6 (3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75 (4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-750/95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 (3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ПГЗ «Коммунальник»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Гом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Т-0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  (9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10 (3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Т-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  (6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75 (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АО «Брестсельмаш»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Бре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В-0,09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 (7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76 (8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П «Белкотломаш»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Бешенкови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-Р-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3 (6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20 (7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К им. Дзержинск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755640" y="62064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Основные технические характеристики исследуемых водогрейных котл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510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Заключение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964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еревод испытанных образцов котельного оборудования в условиях реальных объектов  теплоснабжения на местные виды приведет к снижению теплопроизводительности и коэффициента полезного действия. При этом экологические показатели по выбросам в атмосферу вредных веществ при правильной наладке оборудования не выходят за пределы установленных нор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Из всех испытанных образцов оборудования) можно рекомендовать котлы, произведенные в НПП «Белкотломаш». Перспективными для сжигания местных видов топлив является также корпусные  котлы Белоозерского энергомеханического завода при внесении определенных доработок в конструкцию топки и компоновки и, возможно, увеличения конвективных поверхностей нагрева. Для теплоснабжения малых объектов (больницы, школы, магазины и др.) может быть рекомендован котел ОАО «Брестсельмаш». Все перечисленные котлы поставляются в полной заводской готовности и компонуются необходимым вспомогательным оборудование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Нельзя сбрасывать со счетов модернизированный чугунный котел «Минск-1» (ОАО «Минский завод отопительного оборудования»). К его преимуществам следует отнести низкую цену, долговечность и устойчивость к коррозии и отложениям солей жесткости. В случае установки по тракту дымовых газов дополнительного конвективного теплообменника возможно улучшение его показателей по эффективности сжигания топлив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Более жесткие требования должны предъявляться к качеству проектных и монтажных работ при модернизации котельных и их переводу на местные виды топлива. Особое внимание должно быть уделено эффективному устройству трактов уходящих газов, в том числе дымовой трубы и правильному подбору тягодутьевых машин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ля обеспечения конкурентоспособности отечественного оборудования считаем необходимым организацию в системе Национальной академии наук центра по сертификации котельного оборудования. На базе имеющихся теплофизических установок возможно создание специализированного стенда по испытанию котлов.  Наличие испытательной базы и привлечение высококвалифицированного персонала ускорит модернизацию и разработку высокоэффективного котельного оборудовани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Цель исследований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едение балансовых теплотехнических опытов по определению фактических эксплуатационных  теплотехнических и экологических показателей водогрейных котлов на местных видах топли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едение анализа  полученных результатов опытов и разработка рекомендаций по использованию водогрейных котлов на местных видах топл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3645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Основание для  проведения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414972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учением Совета Министров Республики Беларусь от 04.09.2004 г. за № 03/313-11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околом совещания в Комитете по энергоэффективности при Совете Министров Республики Беларусь от 1.10.2004 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Табл. 1 Средства измерения и оборудование, применяемые при проведении испытани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95280" y="1052640"/>
          <a:ext cx="8229600" cy="4902120"/>
        </p:xfrm>
        <a:graphic>
          <a:graphicData uri="http://schemas.openxmlformats.org/drawingml/2006/table">
            <a:tbl>
              <a:tblPr/>
              <a:tblGrid>
                <a:gridCol w="1927080"/>
                <a:gridCol w="2536920"/>
                <a:gridCol w="1036800"/>
                <a:gridCol w="1150920"/>
                <a:gridCol w="157788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измеряемого параме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средств измерения и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. 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ведения аттес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точности, погрешность измер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и состав уходящих газов,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атор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0855600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5.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,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воды на входе и на выходе котла, 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мопреобразователь сопротивления платиновый ТСП 1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3.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3+0,05)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воды, М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ометр М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8.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твердого топлива, 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ы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KCS 300s «Mettler Toledo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12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2.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 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производительность котла, кВ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счетчик Комбиметр 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55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1.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счетчик ТЭМ 05М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8.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окружающей среды, 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мометр лабораторный ртутный ТЛ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6.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 опыта, 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кундомер СОСпр «АГА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4.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562640" cy="46087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148360" y="83664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92720" y="549360"/>
            <a:ext cx="3672000" cy="3882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тел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«Минск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»  (Минский завод отопительного оборудова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ыла испытана вся линейка оборудования, выпускаемого заводом, с установленной мощностью:   266 , 389 и 512 кВ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разцы отличаются количеством однотипных чугунных секций: 18, 26 и 34 соответствен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жигание топлива осуществляется на колосниковой решетке. Теплообмен реализуется на радиационных и конвективных поверхностях секц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1332000" y="260280"/>
          <a:ext cx="6696000" cy="6515280"/>
        </p:xfrm>
        <a:graphic>
          <a:graphicData uri="http://schemas.openxmlformats.org/drawingml/2006/table">
            <a:tbl>
              <a:tblPr/>
              <a:tblGrid>
                <a:gridCol w="2138400"/>
                <a:gridCol w="1139760"/>
                <a:gridCol w="1139760"/>
                <a:gridCol w="1136520"/>
                <a:gridCol w="1141560"/>
              </a:tblGrid>
              <a:tr h="241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и размерность показател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 №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 №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 №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 знач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топли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кеты торфяные производства ПРУТП «УСЯЖ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шая теплота сгорания топлива, кДж/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 опыта, ч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воды, М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воды на входе в котел,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воды на выходе из котла,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 воды, м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ч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производительность, кВ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1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израсходованного топлива,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,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,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,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 топлива, кг/ч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,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,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,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эффициент полезного действия,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эффициент избытка воздух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уходящих дымовых газов,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1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8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окружающей среды,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уходящих дымовых газов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0" lang="ru-RU" sz="9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,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</a:t>
                      </a:r>
                      <a:r>
                        <a:rPr b="0" lang="ru-RU" sz="9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,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0" lang="ru-RU" sz="9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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9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2</a:t>
                      </a:r>
                      <a:r>
                        <a:rPr b="0" lang="en-US" sz="9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value</a:t>
                      </a:r>
                      <a:r>
                        <a:rPr b="0" lang="ru-RU" sz="9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2743200" cy="33526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708360" y="857160"/>
            <a:ext cx="5184720" cy="4717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большой стальной котел, изготовленного в СПК им. Дзержинског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плообменные поверхности у данного аппарата выполнены в виде каркаса шатрового типа из труб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25×2,5. Трубные секции (12 шт.) соединяются с помощью 2 - входных, 1 – выходной. Вся  эта трубная конструкция образует трех коллекторов: свод топки, высота которой составляет 570 м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жигание топлива осуществляется на колосниковой решетке. Обмуровка топочного пространства и выходного газохода выполнена из шамотного кирпича. Габариты котла составляют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 1200×1000×900 м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следуемый аппарат является непромышленным образцом. На него отсутствовали нормативные эксплуатационные документы: паспорт,  техническое описание, руководство по монтажу и эксплуатации. У производителя отсутствовала конструкторская документация на коте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лы КВ-400/95Т и КВ-750/95Т «Белоозерский энергомеханический заво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59280" y="1484280"/>
            <a:ext cx="4038480" cy="4176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лы БЭМЗотносятся к новому поколению отечественного котельного обору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пусная компоновка, полная заводская готовность, возможность полной комплектации, включая системы автоматики и вспомогательного оборуд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й тип оборудования по организации процесса теплообмена классифицируется как  газотрубный котел. В этом случае дымовые газы движутся внутри труб, обеспечивая  нагрев воды в межтрубном пространств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8640" y="1600200"/>
            <a:ext cx="4035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е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СВ-0,09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производства ОАО «Брестсельма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48320" y="1341000"/>
            <a:ext cx="4038480" cy="4784760"/>
          </a:xfrm>
          <a:prstGeom prst="rect">
            <a:avLst/>
          </a:prstGeom>
          <a:solidFill>
            <a:srgbClr val="99ccff">
              <a:alpha val="75000"/>
            </a:srgbClr>
          </a:solidFill>
          <a:ln w="255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тел предназначен для сжигания твердых видов топлива: уголь, дрова, торфобрик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чная загрузка топлива, его сжигание  осуществляется на колосниковой решет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другим признакам аппарат классифицируется следующим образом: котел стальной, газотрубный, блочной компоно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авляется в полной заводской комплек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личительной особенностью  конструкции является наличие турбулизаторов внутри тру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бариты котла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185×900×1600 , масса  900 к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ановленная мощность 90 кВ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5398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КВ‑Р‑0,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ПП «Белкотломаш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42920" y="1483920"/>
            <a:ext cx="4172040" cy="47530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догрейный котел КВ‑Р‑0,3, установленная мощность 300 кВ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назначен для сжигания твердых видов топлива: уголь, дрова, торф. Используется ручная загрузка топлив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жигание  осуществляется на колосниковой решетке при достаточно большом объеме топочного простран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другим признакам аппарат классифицируется: котел стальной, водотрубный, блочной компоно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авляется в полной заводской комплект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уходящим газам в аппарате реализуется трехходовая схема их движения при развитых поверхностях теплообме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бариты котла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840×1150×2385 мм, масса 2000 к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4320" y="1986120"/>
            <a:ext cx="33242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8:26:45Z</dcterms:created>
  <dc:creator>Клименков</dc:creator>
  <dc:description/>
  <dc:language>en-US</dc:language>
  <cp:lastModifiedBy>SN</cp:lastModifiedBy>
  <dcterms:modified xsi:type="dcterms:W3CDTF">2005-02-12T17:51:48Z</dcterms:modified>
  <cp:revision>5</cp:revision>
  <dc:subject/>
  <dc:title>Теплотехнические испытания водогрейных котлов на местных видах топлива производительностью до 1,0 МВт</dc:title>
</cp:coreProperties>
</file>