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0EAF-EBD1-489B-B0F7-7D68EFE7E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81F2-B8FF-462E-96AF-71B8F476B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95CE-451D-4DB6-AE3B-E309F19DD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BBD7-7802-4CBB-A80A-CC3BE5814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38AB1-9B5D-4211-9239-DB1FDDB0D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49427-20B1-466F-969F-67D047C19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307C5-2899-4585-92A3-A5BC6531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AF4DE-8189-41C1-8CF8-DD245448E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E1928-3A4F-4B69-BA2B-27D73A7EF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B24A0-70AD-475E-AE12-70738B611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4B85F-9B41-4305-852F-B4738DF0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58E2-B740-4A9F-9AE4-DCB9B16B7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18ADD-79AD-4CE1-9AC1-68EC7E7F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8CA32-6F9D-4FA0-B339-A0C1D1B3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B11FD-A614-4832-AE03-A84F4D55E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683D0-14CC-4313-8891-5177F32CF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143E0-B6EE-451F-B929-9C5131303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B129-6880-46D9-A733-588C00215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1106-5E5E-4FEB-AF1C-1A404D386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09E9-7714-43BB-BB9D-0632C027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8FB7-A74E-4FD2-BC1C-B01DC97B0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B51A-0E6C-44B1-9741-42BE3FAD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D25B-CEC4-4CFE-B6C7-5DAE09D7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09EF-53E4-41EE-A6B0-5332C15C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fb5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a9a5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3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3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1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BCEBD-ED46-4726-AD38-BC6BA3BE39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fb5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a9a5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3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3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1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92845-1CA5-4EB6-89C2-EBE0093938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fb5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Департамент по энергоэффекттивности Госстандарта </a:t>
            </a:r>
            <a:br>
              <a:rPr sz="2000"/>
            </a:b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Республики Беларусь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Итоговый семинар по проекту 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Применение биомассы для отопления и горячего водоснабжения в Республике Беларусь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”</a:t>
            </a:r>
            <a:br>
              <a:rPr sz="2000"/>
            </a:b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г.п. Радошковичи, с.о.к.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Бригантина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”</a:t>
            </a:r>
            <a:br>
              <a:rPr sz="2000"/>
            </a:b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22-23 апреля 2008 года</a:t>
            </a:r>
            <a:br>
              <a:rPr sz="2000"/>
            </a:br>
            <a:r>
              <a:rPr b="1" lang="ru-RU" sz="2400" spc="-1" strike="noStrike" u="sng">
                <a:solidFill>
                  <a:srgbClr val="ffffcc"/>
                </a:solidFill>
                <a:uFillTx/>
                <a:latin typeface="Times New Roman"/>
              </a:rPr>
              <a:t>Программа организационно-технических мероприятий и направлений деятельности по обеспечению и использованию топлива на энергетические цели</a:t>
            </a:r>
            <a:br>
              <a:rPr sz="2800"/>
            </a:br>
            <a:br>
              <a:rPr sz="2400"/>
            </a:b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5181480"/>
            <a:ext cx="4495680" cy="1219320"/>
          </a:xfrm>
          <a:prstGeom prst="rect">
            <a:avLst/>
          </a:prstGeom>
          <a:solidFill>
            <a:srgbClr val="6fb56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5257800"/>
            <a:ext cx="441936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В.Федосеев, Е. Коренчу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эксперты проекта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Энергия биомассы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в Республике Беларусь (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BYE/03/G31</a:t>
            </a: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)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bundp20mm" descr=""/>
          <p:cNvPicPr/>
          <p:nvPr/>
        </p:nvPicPr>
        <p:blipFill>
          <a:blip r:embed="rId1"/>
          <a:stretch/>
        </p:blipFill>
        <p:spPr>
          <a:xfrm>
            <a:off x="76320" y="304920"/>
            <a:ext cx="664920" cy="1295280"/>
          </a:xfrm>
          <a:prstGeom prst="rect">
            <a:avLst/>
          </a:prstGeom>
          <a:ln w="0">
            <a:noFill/>
          </a:ln>
        </p:spPr>
      </p:pic>
      <p:pic>
        <p:nvPicPr>
          <p:cNvPr id="124" name="GEFcolor" descr=""/>
          <p:cNvPicPr/>
          <p:nvPr/>
        </p:nvPicPr>
        <p:blipFill>
          <a:blip r:embed="rId2"/>
          <a:stretch/>
        </p:blipFill>
        <p:spPr>
          <a:xfrm>
            <a:off x="7848720" y="457200"/>
            <a:ext cx="12189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fb5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151920"/>
            <a:ext cx="9144000" cy="59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ыбор, разработка и внедрение эффективных технологий добычи (производства), транспортировки, преобразования и использования древесного топлив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и разработке проектов для строящихся энергоисточников на местных видах топлива предусматривать в этих проектах определение объемов МВТ, организацию заготовки, доставки и подготовки названных видов топлива, необходимых сумм инвестиций и источников финансирова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оздание единой информационно-аналитической интерактивной системы данных по МВТ и отходам на платформе ГИС с оценкой динамики их накопления и доступност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азработать технологию выращивания и использования быстрорастущих растений в качестве топлива на выработанных торфяных площадя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беспечить поставку древесного топлива на вводимые энергоисточники, работающие на древесном топлив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fb5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Развитие научно-технической и инновационной деятельности, способствующей реализации программ широкомасштабного использования топлива в республике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57200" y="1600200"/>
          <a:ext cx="8229600" cy="49417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работать и в установленном порядке внести в Совет Министров РБ программу ввода в действие энергоисточников, работающих на местных видах топлива, на период до 2012 года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ыполнить НИР по изучению химического состава, дисперсного состава, механических свойств золы уноса с разработкой  методик расчета выбросов в атмосферу твердых частиц 10 и 2,5 мкм (РМ 10 и РМ 2,5) при сжигании местных и возобновляемых видов топлива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вести комплексные исследования по использованию золы от сжигания древесного топлива, торфа и лигнина в целях уменьшения затрат на строительство и содержание золоотвалов для энергоисточников, работающих на местных видах топли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должить комплекс работ по научному, техническому, экологическому и экономическому обоснованию использования загрязненного радионуклидами древесного топлива на энергоисточниках, предусматривающий изучение процессов и технологий использования такого топлива, а также создание необходимой нормативно-правовой и нормативно-технической базы в целях определения возможности и особенностей эксплуатации энергоисточников, расположенных на территориях радиоактивного загрязнения вследствие катастрофы на Чернобыльской АЭС или в непосредственной близости от указанных территорий и работающих на древесном топливе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fb5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Организация информационно-пропагандистской деятельности, осуществление подготовки научных кадров и специалистов в области использования МВТ и НВиЭ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здание демонстрационной зоны высокой энергоэффективности Вилейского района на базе мини-ТЭЦ г.Вилейка и Вилейского лесхоз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ведение научно-технических, практических, обучающих семинаров, конференций международного, республиканского, областного уровня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рганизация и участие в специализированных выставках, формирование  и проведение тематических экспозиций, экскурсионная работ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бота со средствами массовой информаци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дательская деятельност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вершенствование обучения специалистов на разных уровня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fb5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Развитие международного сотрудничества в части обмена инновациями и гармонизации с международными стандартами действующих нормативных документов в республике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зучение передового опыта применения древесного топлива и его использования в производстве тепловой и электрической энергии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нига – Древесное топливо – альтернатива традиционным источникам энергии, 2005 год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нига – Передовой опыт в использовании энергии биомассы, 2006 год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нига – Рынок топливной древесины в Финляндии и Австрии, 2007 год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нига – Утилизация золы котельных, работающих на древесном топливе, 2007 год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армонизация и унификация с директивами и стандартами Европейского Союз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андарты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EN TC335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 твердым видам топлива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иректива ЕС по энергоэффективности 2002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/91/E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иректива ЕС по маркировке энергоэффективности оборудования, материалов, элементов и конструкций по секторам конечного пользования 2006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/32/EC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fb5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Отработка механизмов участия Беларуси в международной торговле квотами на выбросы в рамках деятельности по выполнению обязательств Киотского протокола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дготовка внутренней законодательной и институциональной базы для участия в Киотском протокол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авовая база. Торговля выбросам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орабатываются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ект Указа Президента Республики Беларусь «О торговле выбросами парниковых газов»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ект постановления Совет Министров Республики Беларусь «Об утверждении Положения о торговле выбросами парниковых газов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зрабатываются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ложение о Белорусском углеродном фонд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элементы «Схемы зеленых инвестиций»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fb5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СПАСИБО ЗА ВНИМАНИЕ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fb5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Times New Roman"/>
              </a:rPr>
              <a:t>Цель</a:t>
            </a:r>
            <a:r>
              <a:rPr b="1" lang="en-US" sz="15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Times New Roman"/>
              </a:rPr>
              <a:t>Создание современной и эффективной инфраструктуры добычи, переработки, доставки и использования древесного топлива в качестве энергоносителя при производстве тепловой и электрической энергии с учетом обеспечения технологических, экономических и экологических условий его добычи (производства) и потребления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азовые документы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лан мероприятий по реализации Директивы Президента Республики Беларусь от 14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/06/2007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№3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Экономия и бережливость – главные факторы безопасности государства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(утвержден постановлением Совета Министров РБ от 31 августа 2007 года №1122)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Государственная комплексная программа модернизации основных производственных фондов Белорусской энергетической системы, энергосбережения и увеличения доли использования в республике собственных топливно-энергетических ресурсов на период до 2012 года (утверждена постановлением Совета Министров РБ от 30.12.2007 года №575)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Целевая программа обеспечения в республике не менее 25% объема производства электрической и тепловой энергии за счет использования местных видов топлива и альтернативных источников энергии на период до 2012 года (утверждена постановлением Совета Министров РБ от 30.12.2004 года № 1680)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Республиканская программа энергосбережения на 2006-2010 годы (утверждена постановлением Совета Министров Республики Беларусь от 02.02.2006г. №137 )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ограмма развития лесного хозяйства Республики Беларусь на 2007-2011 годы (утверждена постановлением Совета Министров Республики Беларусь от 29.12.2006г. №1760)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ограмма по производству лесохозяйственной и лесозаготовительной техники и оборудования на 2006-2010 годы (утверждена Указом Президента Республики Беларусь от 12.01.2007 года №22)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fb5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5345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сновные задачи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Определение общего и экономически целесообразного потенциала использования древесного топлива и отходов всех видов на всех стадиях заготовки древесины и деревообработки</a:t>
            </a: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Совершенствование законодательной и нормативно-правовой базы, охватывающей добычу (производство) и использования древесного топлива, соответствующей международно-признанным показателям по энергоиспользованию и энергоэффективности</a:t>
            </a: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Разработка и совершенствование экономического и финансового механизмов стимулирования для вовлечения в топливно-энергетический баланс древесного топлива и его использования в республике</a:t>
            </a: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Выбор, разработка и организация серийного производства машин и технических средств для добычи (производства), транспортировки, преобразования, и внедрение технологии использования древесного топлива</a:t>
            </a: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Развитие научно-технической и инновационной деятельности, способствующей реализации программ широкомасштабного использования топлива в республике</a:t>
            </a: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Организация информационно-пропагандистской деятельности, осуществление подготовки научных кадров и специалистов в области использования МВТ и НВиЭ</a:t>
            </a: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Развитие международного сотрудничества в части обмена инновациями и гармонизации с международными стандартами действующих нормативных документов в республике</a:t>
            </a: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Отработка механизмов участия Беларуси в международной торговле квотами на выбросы СО2 в проектах по биоэнергетике совместного осуществления и схемы </a:t>
            </a: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зеленых</a:t>
            </a: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 инвестиций в рамках деятельности по выполнению обязательств Киотского протокола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fb5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Определение общего и экономически целесообразного потенциала использования древесного топлива и отходов всех видов на всех стадиях заготовки древесины и деревообработки</a:t>
            </a:r>
            <a:br>
              <a:rPr sz="1600"/>
            </a:br>
            <a:endParaRPr b="1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1066680"/>
          <a:ext cx="8229600" cy="5716800"/>
        </p:xfrm>
        <a:graphic>
          <a:graphicData uri="http://schemas.openxmlformats.org/drawingml/2006/table">
            <a:tbl>
              <a:tblPr/>
              <a:tblGrid>
                <a:gridCol w="4648320"/>
                <a:gridCol w="1066680"/>
                <a:gridCol w="1219320"/>
                <a:gridCol w="1295280"/>
              </a:tblGrid>
              <a:tr h="5979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требность республики по видам энергоресурсов и энергии при прогнозируемом росте ВВП и уровня снижения его энергоемкости,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лн. т у.т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иды энергоресурсов и энерг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5 фак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0 прогноз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2 прогноз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азообразное топли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1,8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аз сжиженны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3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3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3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аз НПЗ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6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7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7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опливо печное бытово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0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0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0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зу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7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7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7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гол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6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естные виды топлива, прочие НВиЭ в том числ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,5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,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,8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торф, лигни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6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дро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прочие НВиЭ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6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6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9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того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: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тельно-печное топливо (КПТ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7,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1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еплоэнергия, млн. Гка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3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6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7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лектроэнергия, млрд. кВт.ч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5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8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9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естные виды топлива (МВТ) с учетом тепловых ВЭ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,5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,4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,7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оля МВТ в потреблении КПТ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ез сырья, 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,6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1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fb5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Потенциальные запасы и экономически целесообразные объемы использования местных энергоресурсов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57200" y="765000"/>
          <a:ext cx="8305920" cy="5857920"/>
        </p:xfrm>
        <a:graphic>
          <a:graphicData uri="http://schemas.openxmlformats.org/drawingml/2006/table">
            <a:tbl>
              <a:tblPr/>
              <a:tblGrid>
                <a:gridCol w="3886200"/>
                <a:gridCol w="1295280"/>
                <a:gridCol w="1371600"/>
                <a:gridCol w="1752840"/>
              </a:tblGrid>
              <a:tr h="580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ид энергоресурс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тенциальные запас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одовой объем использования (производства, добычи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6 (факт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6-20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фть, млн.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7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путный газ, млн. м</a:t>
                      </a:r>
                      <a:r>
                        <a:rPr b="0" lang="en-US" sz="16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4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18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50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орф топливный, млн. 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,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ланцы, млрд. 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урые угли, млн. 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ревесное топливо и отходы деревообработки,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лн. т у.т. в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6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,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идроресурсы, млн. кВт·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2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етропотенциал, млн. кВт·ч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,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6,8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иомасса, тыс. т у.т. в г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лнечная энергия, тыс. т у.т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1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мунальные отходы, тыс. т у.т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итомасса, тыс. т у.т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гни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8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0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танол и биодизельное топливо, тыс. т у.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6,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fb5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ДРЕВЕСНЫЕ РЕСУРСЫ ДЛЯ ПРОИЗВОДСТВА ЭЛЕКТРИЧЕСКОЙ И ТЕПЛОВОЙ ЭНЕРГИИ</a:t>
            </a:r>
            <a:br>
              <a:rPr sz="2000"/>
            </a:br>
            <a:br>
              <a:rPr sz="1600"/>
            </a:b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Объемы заготовки древесного топливного сырья</a:t>
            </a:r>
            <a:br>
              <a:rPr sz="2000"/>
            </a:b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52280" y="1600200"/>
          <a:ext cx="8839440" cy="4619520"/>
        </p:xfrm>
        <a:graphic>
          <a:graphicData uri="http://schemas.openxmlformats.org/drawingml/2006/table">
            <a:tbl>
              <a:tblPr/>
              <a:tblGrid>
                <a:gridCol w="3459240"/>
                <a:gridCol w="692280"/>
                <a:gridCol w="691920"/>
                <a:gridCol w="752760"/>
                <a:gridCol w="749160"/>
                <a:gridCol w="879480"/>
                <a:gridCol w="922320"/>
                <a:gridCol w="692280"/>
              </a:tblGrid>
              <a:tr h="45648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млн.куб.м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ид сырь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од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2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опливное сырье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,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,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,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,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,5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,7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,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тходы деревообработки (от всех субъектов хозяйствования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Лесозаготовка (дрова, лесосечные отходы, сухостой, и др., заготавливаемые в системе Минлесхоза, Управления делами Президента РБ, Минобороны, Минобразования, НАН Беларуси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,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,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,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,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,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,2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,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fb5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28600" y="380880"/>
            <a:ext cx="87631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овершенствование законодательной и нормативно-правовой базы, охватывающей добычу (производство) и использования древесного топлива, соответствующей международно-признанным показателям по энергоиспользованию и энергоэффективност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зработка закона Республики Беларусь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 нетрадиционных и возобновляемых источниках энергии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зработка СТБ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-3808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иомасса древесная топливная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-3808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рикеты древесные топливные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-3808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Гранулы древесные топливные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-3808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рикеты топливные на основе торфа с использованием древесных опилок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зработка стандарта, устанавливающего требования к организации, порядку и методам проведения работ по учету древесного топлив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зработка инструкции о порядке обеспечения древесным топливным сырьем (топливом) действующих и создаваемых энергоисточников, работающих на древесном топлив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полнить анализ требований действующих технических нормативных правовых актов (ТНПА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разработать с учетом отечественного и зарубежного опыта проектирования, строительства и эксплуатации мини-ТЭЦ, работающих на местных видах топлива, и утвердить в установленном порядке необходимые изменения ТНПА в части снижения сметной стоимости строительства указанных объектов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fb5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Разработка и совершенствование экономического и финансового механизмов стимулирования для вовлечения в топливно-энергетический баланс древесного топлива и его использования в республике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Разработка предложений по совершенствованию законодательства в области энергетики, энергосбережения, использования нетрадиционных и возобновляемых источников энергии, в том числе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 льготному кредитованию производителей и потребителей оборудования для производства энергии из местных видов топлива и нетрадиционных и возобновляемых источников энергии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 оказанию государственной поддержки развития лизинга оборудования для производства энергии из НВиЭ на льготных условиях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ри подготовке проекта закона РБ о бюджете на очередной финансовый (бюджетный) год вносить в установленном порядке в Совет Министров РБ предложения об установлении повышенного норматива отчислений в образуемые ими инновационные фонды на цели заготовки и доставки древесного топлива и (или) древесного топливного сырья потребителям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ри формировании республиканской и региональной программ энергосбережения ежегодно предусматривать финансирование на паритетных условиях мероприятий по развитию инфраструктуры заготовки и доставки древесного топлива и (или) древесного топливного сырья организаций Министерства лесного хозяйства, других республиканских органов государственного управления, иных государственных организаций, подчиненных Правительству РБ, для обеспечения древесным топливом энергоисточников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существить реализацию новых схем софинансирования энергоисточников, работающих на местных видах топлива за счет механизмов торговли выбросами в рамках реализации Киотского протокола и созданного в рамках проекта ПРООН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ГЭФ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И Правительства РБ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Энергия биомассы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оборотного фонд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беспечить обязательную продажу и (или) передачу образующихся при заготовке и переработке древесины, рубках ухода за лесонасаждениями древесных отходов, которые могут быть использованы как вторичные материальные ресурсы в качестве топлива, превышающих собственное потребление их, организациям, имеющим на своем балансе энергетические объекты, производящие электрическую и (или) тепловую энергию с использованием древесного топлив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fb5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6840" y="228240"/>
            <a:ext cx="853452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ыбор, разработка и организация серийного производства машин и технических средств для добычи (производства), транспортировки, преобразования и использования древесного топлива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81160" indent="-266760">
              <a:lnSpc>
                <a:spcPct val="80000"/>
              </a:lnSpc>
              <a:spcBef>
                <a:spcPts val="400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Гидроманипулятора с грузовым моментом 80-90 кНм, вылетом стрелы 8,5 м (для сортиментовоза МАЗ 630300) для погрузки и транспортировки древесины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81160" indent="-266760">
              <a:lnSpc>
                <a:spcPct val="80000"/>
              </a:lnSpc>
              <a:spcBef>
                <a:spcPts val="400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Тракторного полуприцепа (форвардера), агрегатируемого с трактором МТЗ 1221 с объемом загрузки древесины 11-12 м3 для погрузки и транспортировки мелкотоварной древесины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81160" indent="-266760">
              <a:lnSpc>
                <a:spcPct val="80000"/>
              </a:lnSpc>
              <a:spcBef>
                <a:spcPts val="400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Харвестера на базе трактора 1221 для выборочных и санитарных рубок 1221 МЛХ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81160" indent="-266760">
              <a:lnSpc>
                <a:spcPct val="80000"/>
              </a:lnSpc>
              <a:spcBef>
                <a:spcPts val="400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Машины трелевочно-канатной МТК-431 для трелевки древесины из заболоченных мест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81160" indent="-266760">
              <a:lnSpc>
                <a:spcPct val="80000"/>
              </a:lnSpc>
              <a:spcBef>
                <a:spcPts val="400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Рубительной машины МР-25  и МР-40 для производства щепы с приводом от ВОМ трактора и от автономного двигателя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81160" indent="-266760">
              <a:lnSpc>
                <a:spcPct val="80000"/>
              </a:lnSpc>
              <a:spcBef>
                <a:spcPts val="400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ицепной контейнерной тележки грузоподъемностью до 12 тонн, агрегатируемая с тракторами “Беларус”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81160" indent="-266760">
              <a:lnSpc>
                <a:spcPct val="80000"/>
              </a:lnSpc>
              <a:spcBef>
                <a:spcPts val="400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втомобиля-лесовоза с колесной формулой 6</a:t>
            </a:r>
            <a:r>
              <a:rPr b="0" lang="ru-RU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6 МАЗ -641808 грузоподъемностью 28-29 т для работы в сложных дорожных условиях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81160" indent="-266760">
              <a:lnSpc>
                <a:spcPct val="80000"/>
              </a:lnSpc>
              <a:spcBef>
                <a:spcPts val="400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втомобиля-сортиментовоза грузоподъемностью 16 т для работы в сложных дорожных условиях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81160" indent="-266760">
              <a:lnSpc>
                <a:spcPct val="80000"/>
              </a:lnSpc>
              <a:spcBef>
                <a:spcPts val="400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Щеповозного автопоезда суммарной емкостью 60-80 нас. м3 и самовыгрузкой на стороны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81160" indent="-266760">
              <a:lnSpc>
                <a:spcPct val="80000"/>
              </a:lnSpc>
              <a:spcBef>
                <a:spcPts val="400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втощеповоза для перевозки контейнеров емкостью до 40 нас. м3, оборудованного механизмом типа “мультилифт”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81160" indent="-266760">
              <a:lnSpc>
                <a:spcPct val="80000"/>
              </a:lnSpc>
              <a:spcBef>
                <a:spcPts val="400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рганизация производства на предприятиях республики современных высокоэффективных паровых котлов на местных видах топлива и вспомогательного оборудования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</cp:lastModifiedBy>
  <dcterms:modified xsi:type="dcterms:W3CDTF">2008-04-21T11:45:42Z</dcterms:modified>
  <cp:revision>1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