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A7B-4DB8-4261-AC90-54B1E311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CDE-A80C-4292-8799-6485C953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E4F-8D2A-4355-A8CC-D62A094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799-2780-4164-A26B-DEBBD19B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154C-0337-4B72-884D-A97CD5D1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98AC-28DC-4B11-ADCF-7F38A49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13C-027C-4B17-AB04-9418BB8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9D09-EB5C-4EA5-8991-067311B1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DEE-D6DB-49DE-9613-68E86F04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2E84-E14F-4CF2-9C92-5DF2B2F1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E108-9029-4356-96EC-D32B40D7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4D3-2A04-4EA1-8C67-D441252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EA55-0BC3-4777-9257-7B04D14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A946-02FC-4639-AAAD-16E6A3B3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4A23-2C52-4FBF-920E-B1381E4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7095-EAB1-490F-960D-8F96AE7E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579-D66B-4927-B555-78E8A2D3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4EC-5399-4079-9D2B-353FB4E1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32A-991F-44DB-830A-0D61082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770-43D8-4334-A4AB-231AC8D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979-AB87-41BB-97F6-F26D9230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099-CEA6-49C7-BBFA-620F78A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735-6EEC-474E-9E1F-1AB2015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258-D7A6-4367-BAB2-E092E53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8D23-5CFF-45FE-A8D5-DA618BED0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F57D-43F6-4FFF-9B1E-B1A777A99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Департамент по энергоэффекттивности Госстандарта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еспублики Беларус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Итоговый семинар по проекту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рименение биомассы для отопления и горячего водоснабжения в Республике Беларусь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”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.п. Радошковичи, с.о.к.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Бригантина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”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22-23 апреля 2008 года</a:t>
            </a:r>
            <a:br>
              <a:rPr sz="2000"/>
            </a:b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рограмма организационно-технических мероприятий и направлений деятельности по обеспечению и использованию топлива на энергетические цели</a:t>
            </a:r>
            <a:br>
              <a:rPr sz="2800"/>
            </a:b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181480"/>
            <a:ext cx="4495680" cy="1219320"/>
          </a:xfrm>
          <a:prstGeom prst="rect">
            <a:avLst/>
          </a:prstGeom>
          <a:solidFill>
            <a:srgbClr val="6fb5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257800"/>
            <a:ext cx="4419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.Федосеев, Е. Коренч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эксперты проекта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Энергия биомассы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 Республике Беларусь (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YE/03/G31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undp20mm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66492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GEFcolor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18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бор, разработка и внедрение эффективных технологий добычи (производства), транспортировки, преобразования и использования древесного топлив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разработке проектов для строящихся энергоисточников на местных видах топлива предусматривать в этих проектах определение объемов МВТ, организацию заготовки, доставки и подготовки названных видов топлива, необходимых сумм инвестиций и источников финанс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е единой информационно-аналитической интерактивной системы данных по МВТ и отходам на платформе ГИС с оценкой динамики их накопления и доступ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работать технологию выращивания и использования быстрорастущих растений в качестве топлива на выработанных торфяных площад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еспечить поставку древесного топлива на вводимые энергоисточники, работающие на древесном топли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азвитие научно-технической и инновационной деятельности, способствующей реализации программ широкомасштабного использования топлива в республике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494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работать и в установленном порядке внести в Совет Министров РБ программу ввода в действие энергоисточников, работающих на местных видах топлива, на период до 2012 год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ить НИР по изучению химического состава, дисперсного состава, механических свойств золы уноса с разработкой  методик расчета выбросов в атмосферу твердых частиц 10 и 2,5 мкм (РМ 10 и РМ 2,5) при сжигании местных и возобновляемых видов топли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сти комплексные исследования по использованию золы от сжигания древесного топлива, торфа и лигнина в целях уменьшения затрат на строительство и содержание золоотвалов для энергоисточников, работающих на местных видах топли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олжить комплекс работ по научному, техническому, экологическому и экономическому обоснованию использования загрязненного радионуклидами древесного топлива на энергоисточниках, предусматривающий изучение процессов и технологий использования такого топлива, а также создание необходимой нормативно-правовой и нормативно-технической базы в целях определения возможности и особенностей эксплуатации энергоисточников, расположенных на территориях радиоактивного загрязнения вследствие катастрофы на Чернобыльской АЭС или в непосредственной близости от указанных территорий и работающих на древесном топлив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Организация информационно-пропагандистской деятельности, осуществление подготовки научных кадров и специалистов в области использования МВТ и НВиЭ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демонстрационной зоны высокой энергоэффективности Вилейского района на базе мини-ТЭЦ г.Вилейка и Вилейского лесхоз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научно-технических, практических, обучающих семинаров, конференций международного, республиканского, областного уровн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ганизация и участие в специализированных выставках, формирование  и проведение тематических экспозиций, экскурсионная работ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со средствами массовой информаци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дательская дея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ствование обучения специалистов на разных уровн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азвитие международного сотрудничества в части обмена инновациями и гармонизации с международными стандартами действующих нормативных документов в республике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ение передового опыта применения древесного топлива и его использования в производстве тепловой и электрической энерг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Древесное топливо – альтернатива традиционным источникам энергии, 2005 г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Передовой опыт в использовании энергии биомассы, 2006 г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Рынок топливной древесины в Финляндии и Австрии, 2007 г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Утилизация золы котельных, работающих на древесном топливе, 2007 г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рмонизация и унификация с директивами и стандартами Европейского Сою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ндарт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 TC335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твердым видам топлив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ректива ЕС по энергоэффективности 200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91/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ректива ЕС по маркировке энергоэффективности оборудования, материалов, элементов и конструкций по секторам конечного пользования 200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32/EC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работка механизмов участия Беларуси в международной торговле квотами на выбросы в рамках деятельности по выполнению обязательств Киотского протокол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готовка внутренней законодательной и институциональной базы для участия в Киотском протоко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вая база. Торговля выброс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абатыва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Указа Президента Республики Беларусь «О торговле выбросами парниковых газов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постановления Совет Министров Республики Беларусь «Об утверждении Положения о торговле выбросами парниковых газ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атыва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ожение о Белорусском углеродном фон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лементы «Схемы зеленых инвестиций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Создание современной и эффективной инфраструктуры добычи, переработки, доставки и использования древесного топлива в качестве энергоносителя при производстве тепловой и электрической энергии с учетом обеспечения технологических, экономических и экологических условий его добычи (производства) и потребл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зовые документы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ан мероприятий по реализации Директивы Президента Республики Беларусь от 14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06/2007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№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кономия и бережливость – главные факторы безопасности государств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утвержден постановлением Совета Министров РБ от 31 августа 2007 года №1122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сударственная комплексная программа модернизации основных производственных фондов Белорусской энергетической системы, энергосбережения и увеличения доли использования в республике собственных топливно-энергетических ресурсов на период до 2012 года (утверждена постановлением Совета Министров РБ от 30.12.2007 года №575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левая программа обеспечения в республике не менее 25% объема производства электрической и тепловой энергии за счет использования местных видов топлива и альтернативных источников энергии на период до 2012 года (утверждена постановлением Совета Министров РБ от 30.12.2004 года № 1680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спубликанская программа энергосбережения на 2006-2010 годы (утверждена постановлением Совета Министров Республики Беларусь от 02.02.2006г. №137 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а развития лесного хозяйства Республики Беларусь на 2007-2011 годы (утверждена постановлением Совета Министров Республики Беларусь от 29.12.2006г. №1760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а по производству лесохозяйственной и лесозаготовительной техники и оборудования на 2006-2010 годы (утверждена Указом Президента Республики Беларусь от 12.01.2007 года №22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ые задач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пределение общего и экономически целесообразного потенциала использования древесного топлива и отходов всех видов на всех стадиях заготовки древесины и деревообработки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Совершенствование законодательной и нормативно-правовой базы, охватывающей добычу (производство) и использования древесного топлива, соответствующей международно-признанным показателям по энергоиспользованию и энергоэффективности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зработка и совершенствование экономического и финансового механизмов стимулирования для вовлечения в топливно-энергетический баланс древесного топлива и его использования в республике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Выбор, разработка и организация серийного производства машин и технических средств для добычи (производства), транспортировки, преобразования, и внедрение технологии использования древесного топлива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звитие научно-технической и инновационной деятельности, способствующей реализации программ широкомасштабного использования топлива в республике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рганизация информационно-пропагандистской деятельности, осуществление подготовки научных кадров и специалистов в области использования МВТ и НВиЭ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звитие международного сотрудничества в части обмена инновациями и гармонизации с международными стандартами действующих нормативных документов в республике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тработка механизмов участия Беларуси в международной торговле квотами на выбросы СО2 в проектах по биоэнергетике совместного осуществления и схемы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еленых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инвестиций в рамках деятельности по выполнению обязательств Киотского протоко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Определение общего и экономически целесообразного потенциала использования древесного топлива и отходов всех видов на всех стадиях заготовки древесины и деревообработки</a:t>
            </a:r>
            <a:br>
              <a:rPr sz="1600"/>
            </a:b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066680"/>
          <a:ext cx="8229600" cy="5716800"/>
        </p:xfrm>
        <a:graphic>
          <a:graphicData uri="http://schemas.openxmlformats.org/drawingml/2006/table">
            <a:tbl>
              <a:tblPr/>
              <a:tblGrid>
                <a:gridCol w="4648320"/>
                <a:gridCol w="1066680"/>
                <a:gridCol w="1219320"/>
                <a:gridCol w="1295280"/>
              </a:tblGrid>
              <a:tr h="597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ребность республики по видам энергоресурсов и энергии при прогнозируемом росте ВВП и уровня снижения его энергоемкости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т у.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ы энергоресурсов и энер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 фак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 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2 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образное топли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 сжиж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 НП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пливо печное быт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г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ные виды топлива, прочие НВиЭ 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торф, лигн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др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прочие НВи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тельно-печное топливо (КП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,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плоэнергия, млн. Гк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оэнергия, млрд. кВт.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ные виды топлива (МВТ) с учетом тепловых ВЭ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ля МВТ в потреблении КПТ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 сырья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тенциальные запасы и экономически целесообразные объемы использования местных энергоресурсов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765000"/>
          <a:ext cx="8305920" cy="5857920"/>
        </p:xfrm>
        <a:graphic>
          <a:graphicData uri="http://schemas.openxmlformats.org/drawingml/2006/table">
            <a:tbl>
              <a:tblPr/>
              <a:tblGrid>
                <a:gridCol w="3886200"/>
                <a:gridCol w="1295280"/>
                <a:gridCol w="1371600"/>
                <a:gridCol w="175284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энергоресур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нциальные запа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овой объем использования (производства, добыч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 (фак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-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фть, млн.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путный газ, млн. м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5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рф топливный, млн.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анцы, млрд.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урые угли, млн.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евесное топливо и отходы деревообработки,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т у.т. в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дроресурсы, млн. кВт·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ропотенциал, млн. кВт·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масса, тыс. т у.т. в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нечная энергия, тыс. т у.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альные отходы, тыс. т у.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омасса, тыс. т у.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гн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нол и биодизельное топливо, тыс. т у.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ДРЕВЕСНЫЕ РЕСУРСЫ ДЛЯ ПРОИЗВОДСТВА ЭЛЕКТРИЧЕСКОЙ И ТЕПЛОВОЙ ЭНЕРГИИ</a:t>
            </a:r>
            <a:br>
              <a:rPr sz="2000"/>
            </a:br>
            <a:br>
              <a:rPr sz="16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бъемы заготовки древесного топливного сырья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1600200"/>
          <a:ext cx="8839440" cy="4619520"/>
        </p:xfrm>
        <a:graphic>
          <a:graphicData uri="http://schemas.openxmlformats.org/drawingml/2006/table">
            <a:tbl>
              <a:tblPr/>
              <a:tblGrid>
                <a:gridCol w="3459240"/>
                <a:gridCol w="692280"/>
                <a:gridCol w="691920"/>
                <a:gridCol w="752760"/>
                <a:gridCol w="749160"/>
                <a:gridCol w="879480"/>
                <a:gridCol w="922320"/>
                <a:gridCol w="692280"/>
              </a:tblGrid>
              <a:tr h="45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лн.куб.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сыр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пливное сырь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ходы деревообработки (от всех субъектов хозяйствов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озаготовка (дрова, лесосечные отходы, сухостой, и др., заготавливаемые в системе Минлесхоза, Управления делами Президента РБ, Минобороны, Минобразования, НАН Беларус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ние законодательной и нормативно-правовой базы, охватывающей добычу (производство) и использования древесного топлива, соответствующей международно-признанным показателям по энергоиспользованию и энергоэффе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закона Республики Беларусь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 нетрадиционных и возобновляемых источниках энерги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СТБ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иомасса древесная топливна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рикеты древесные топливны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нулы древесные топливны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рикеты топливные на основе торфа с использованием древесных опил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стандарта, устанавливающего требования к организации, порядку и методам проведения работ по учету древесного топли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инструкции о порядке обеспечения древесным топливным сырьем (топливом) действующих и создаваемых энергоисточников, работающих на древесном топли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ть анализ требований действующих технических нормативных правовых актов (ТНП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зработать с учетом отечественного и зарубежного опыта проектирования, строительства и эксплуатации мини-ТЭЦ, работающих на местных видах топлива, и утвердить в установленном порядке необходимые изменения ТНПА в части снижения сметной стоимости строительства указанных объект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работка и совершенствование экономического и финансового механизмов стимулирования для вовлечения в топливно-энергетический баланс древесного топлива и его использования в республик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дложений по совершенствованию законодательства в области энергетики, энергосбережения, использования нетрадиционных и возобновляемых источников энергии, в том числ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льготному кредитованию производителей и потребителей оборудования для производства энергии из местных видов топлива и нетрадиционных и возобновляемых источников энергии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казанию государственной поддержки развития лизинга оборудования для производства энергии из НВиЭ на льготных услови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подготовке проекта закона РБ о бюджете на очередной финансовый (бюджетный) год вносить в установленном порядке в Совет Министров РБ предложения об установлении повышенного норматива отчислений в образуемые ими инновационные фонды на цели заготовки и доставки древесного топлива и (или) древесного топливного сырья потребителя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формировании республиканской и региональной программ энергосбережения ежегодно предусматривать финансирование на паритетных условиях мероприятий по развитию инфраструктуры заготовки и доставки древесного топлива и (или) древесного топливного сырья организаций Министерства лесного хозяйства, других республиканских органов государственного управления, иных государственных организаций, подчиненных Правительству РБ, для обеспечения древесным топливом энергоисточни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уществить реализацию новых схем софинансирования энергоисточников, работающих на местных видах топлива за счет механизмов торговли выбросами в рамках реализации Киотского протокола и созданного в рамках проекта ПРОО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ЭФ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Правительства РБ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нергия биомассы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боротного фон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еспечить обязательную продажу и (или) передачу образующихся при заготовке и переработке древесины, рубках ухода за лесонасаждениями древесных отходов, которые могут быть использованы как вторичные материальные ресурсы в качестве топлива, превышающих собственное потребление их, организациям, имеющим на своем балансе энергетические объекты, производящие электрическую и (или) тепловую энергию с использованием древесного топли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бор, разработка и организация серийного производства машин и технических средств для добычи (производства), транспортировки, преобразования и использования древесного топлив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идроманипулятора с грузовым моментом 80-90 кНм, вылетом стрелы 8,5 м (для сортиментовоза МАЗ 630300) для погрузки и транспортировки древеси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ракторного полуприцепа (форвардера), агрегатируемого с трактором МТЗ 1221 с объемом загрузки древесины 11-12 м3 для погрузки и транспортировки мелкотоварной древеси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арвестера на базе трактора 1221 для выборочных и санитарных рубок 1221 МЛ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шины трелевочно-канатной МТК-431 для трелевки древесины из заболоченных мес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бительной машины МР-25  и МР-40 для производства щепы с приводом от ВОМ трактора и от автономного двигател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цепной контейнерной тележки грузоподъемностью до 12 тонн, агрегатируемая с тракторами “Беларус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мобиля-лесовоза с колесной формулой 6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 МАЗ -641808 грузоподъемностью 28-29 т для работы в сложных дорожных условия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мобиля-сортиментовоза грузоподъемностью 16 т для работы в сложных дорожных условия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Щеповозного автопоезда суммарной емкостью 60-80 нас. м3 и самовыгрузкой на сторо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щеповоза для перевозки контейнеров емкостью до 40 нас. м3, оборудованного механизмом типа “мультилифт”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роизводства на предприятиях республики современных высокоэффективных паровых котлов на местных видах топлива и вспомогательного оборудов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8-04-21T11:45:42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