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2A20-79F5-40B1-95A5-C26449A7A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9EA9-A6FD-41E0-BDE0-4F6C744D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4388-0C2A-409E-AC57-5D2D14BC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A28C-DC6A-48D9-9738-7A4CA209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9363-D8AF-46EE-87D9-D792B500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812D-2FE8-4FEA-B5FC-EE7E99FB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523E-DDBF-42AA-B351-D9F3C62F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8B3F-B7E6-44F5-9DF5-B2093B32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77E9-6139-4785-813A-60297591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B573-105D-4A61-9E1D-7876945E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3E6E-1BAD-4BEC-A574-F5AA7D80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C5C0-2018-4194-93A7-ED8E767D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3F2D-A50C-46EB-8E65-6DE49B3F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BCAF-4195-4721-8CC1-A0D8AB18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23FE-704C-43F8-A83D-D36B73F0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B915-A724-459C-AEE2-7E1B2867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97C3-EDD7-4711-A4D3-7B8701A8E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55B-43EB-4350-AC15-BFFAE311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02E9-F3F3-466B-87D0-7EEF283C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CFA7-3601-416B-AEDB-C137B95B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F2BE-431D-4F1E-9A41-F4C5A322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A939-3625-426A-B6D0-1EF86417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2EAE-D937-4FE6-A440-FC266101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ADF4-8309-43BC-8089-73C1221C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624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400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AC67-3772-4530-8FE2-732ABB48DC2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1840" cy="6851520"/>
            <a:chOff x="0" y="6480"/>
            <a:chExt cx="914184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1840" cy="5014800"/>
              <a:chOff x="0" y="1843200"/>
              <a:chExt cx="914184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588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9240" cy="6851520"/>
              <a:chOff x="552600" y="6480"/>
              <a:chExt cx="858924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400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C77E-F663-45A4-AEC8-28481283692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ananich@niks.by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ПРООН/ГЭФ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ЕЭ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ООН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Проект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Применение биомассы для отопления и горячего водоснабжения 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в Республике Беларусь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Сроки реализации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: 2003-200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8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39640" y="4365720"/>
            <a:ext cx="806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инс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лару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bundp20mm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849240" cy="1655640"/>
          </a:xfrm>
          <a:prstGeom prst="rect">
            <a:avLst/>
          </a:prstGeom>
          <a:ln w="0">
            <a:noFill/>
          </a:ln>
        </p:spPr>
      </p:pic>
      <p:pic>
        <p:nvPicPr>
          <p:cNvPr id="112" name="GEFcolor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1266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Для рассмотрения заявки на выделение займа необходимы документы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2276280"/>
            <a:ext cx="75438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бухгалтерский баланс (форма 1) с пояснительной записко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отчет о прибылях и убытках (форма 2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отчет о движении источников собственных средств (форма 3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справку из налоговой инспекции об отсутствии задолженностей по платежам в бюджет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технико-экономическое обоснование предполагаемых мероприятий или бизнес-пл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целях определения финансового состояния заемщика Фонд имеет право также запросить аудиторский отчет и/или другие документ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B5D6-6703-46CB-B70D-19A603130C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360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eaeaea"/>
                </a:solidFill>
                <a:latin typeface="Times New Roman"/>
              </a:rPr>
              <a:t>Структура финансирования проектов по повышению энергоэффективности с участием ОФ</a:t>
            </a:r>
            <a:r>
              <a:rPr b="0" i="1" lang="en-US" sz="34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1" lang="en-US" sz="3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4280" y="2604960"/>
            <a:ext cx="726768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30% 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инансирование из О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% 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собственные средства предприят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% 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клад Комэнергоэффектив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E875-D274-4419-A3DB-F6C60CA53F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36440" y="836640"/>
          <a:ext cx="9007560" cy="5605560"/>
        </p:xfrm>
        <a:graphic>
          <a:graphicData uri="http://schemas.openxmlformats.org/drawingml/2006/table">
            <a:tbl>
              <a:tblPr/>
              <a:tblGrid>
                <a:gridCol w="1871640"/>
                <a:gridCol w="908280"/>
                <a:gridCol w="4430520"/>
                <a:gridCol w="1797120"/>
              </a:tblGrid>
              <a:tr h="84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Заемщи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азм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займа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, 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Цель зай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остоя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Волат-1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Замена 2-х электрокотлов  котлами на биомасс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 эксплуат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Мостовдрев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еконструкция и модернизация систем,  связанная  с переводом котельной на биомасс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  эксплуат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Минскэнерго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илейская мини-ТЭ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5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еконструкция и модернизация систем,  связанная  с переводом котельной на биомасс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 стадии реализ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илейский лесхоз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6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иобретение технологии и внедрение оборудования  для заготовки древесного топли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 стадии реализ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БЗТДи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0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000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ведение мероприятий по повышению энергоэффектив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 стадии реализ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орисовский з-д автотракторного электрооборудов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0 000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ведение мероприятий по повышению энергоэффектив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 стадии реализ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“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непро-Бугский водный путь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”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5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троительство  МГЭС «Дубой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 стадии реализ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гилевский завод искусственного волок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ведение мероприятий по повышению энергоэффектив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 стадии реализ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Витебскэнерго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троительство ТЭЦ на биомасс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 стадии реализ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бринское ЖК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5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еконструкция котельн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 стадии реализ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10920" y="0"/>
            <a:ext cx="81723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Заемщики Фонда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2C4E-38F4-424A-98A7-263B6BCC11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Times New Roman"/>
              </a:rPr>
              <a:t>Спасибо за внимание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99640" y="2565360"/>
            <a:ext cx="75438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робнее об оборотном фонде и условиях выдачи займов можно узнат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тел. 227 85 40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нанич Ирина Валерье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bioenergy.by gis.bioenergy.by/fond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л. Почта: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ananich@niks.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3EAB-2F31-460E-A29E-EEC943F7D1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aeaea"/>
                </a:solidFill>
                <a:latin typeface="Times New Roman"/>
              </a:rPr>
              <a:t>Финансирование проектов по энергоэффективности с использованием механизма оборотного фонда,</a:t>
            </a:r>
            <a:r>
              <a:rPr b="1" i="1" lang="en-US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eaeaea"/>
                </a:solidFill>
                <a:latin typeface="Times New Roman"/>
              </a:rPr>
              <a:t>созданного в рамках проекта</a:t>
            </a:r>
            <a:r>
              <a:rPr b="1" i="1" lang="en-US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eaeaea"/>
                </a:solidFill>
                <a:latin typeface="Times New Roman"/>
              </a:rPr>
              <a:t>ПРООН</a:t>
            </a:r>
            <a:r>
              <a:rPr b="1" i="1" lang="en-US" sz="40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1" i="1" lang="ru-RU" sz="4000" spc="-1" strike="noStrike">
                <a:solidFill>
                  <a:srgbClr val="eaeaea"/>
                </a:solidFill>
                <a:latin typeface="Times New Roman"/>
              </a:rPr>
              <a:t>ГЭФ</a:t>
            </a:r>
            <a:r>
              <a:rPr b="1" i="1" lang="en-US" sz="4000" spc="-1" strike="noStrike">
                <a:solidFill>
                  <a:srgbClr val="eaeaea"/>
                </a:solidFill>
                <a:latin typeface="Times New Roman"/>
              </a:rPr>
              <a:t> “</a:t>
            </a:r>
            <a:r>
              <a:rPr b="1" i="1" lang="ru-RU" sz="4000" spc="-1" strike="noStrike">
                <a:solidFill>
                  <a:srgbClr val="eaeaea"/>
                </a:solidFill>
                <a:latin typeface="Times New Roman"/>
              </a:rPr>
              <a:t>Применение биомассы для отопления и горячего водоснабжения в Республике Беларусь</a:t>
            </a:r>
            <a:r>
              <a:rPr b="1" i="1" lang="en-US" sz="40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98D1-15A4-4EA0-8BF8-9C48F52976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Times New Roman"/>
              </a:rPr>
              <a:t>Создание финансового механизм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зультат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: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дготовка серии инвестиционных проектов по переходу на биомассу (древесные отход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зультат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: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здание оборотного фонда для финансирования проектов по повышению энергоэффективности и  использованию биомассы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7FC7-1AF2-435C-AA91-5BA92F8733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>
                <a:solidFill>
                  <a:srgbClr val="eaeaea"/>
                </a:solidFill>
                <a:latin typeface="Times New Roman"/>
              </a:rPr>
              <a:t>Источники формирования капитала оборотного фонд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2462040"/>
            <a:ext cx="7543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Э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540 000 $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елорусская сторона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540 000 $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того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3 080 000 $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9E6B-93B2-40BF-9D8E-C88FA8905C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Взнос белорусской 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стороны в ОФ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2276280"/>
            <a:ext cx="7274160" cy="38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зносы Комэнергоэффективности в оборотный фон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005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оду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800 000 000 рубле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006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оду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1 000 000 000 рубле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007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году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 500 000 000 рубле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того –сумма, эквивалентная 1 540 000 долларов СШ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7575-AB85-4DBE-954A-E7D6F64699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Определение оборотного фонда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7470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вый механизм финансирования проектов по биоэнергетике  на возвратной основ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нд уполномочен принимать участие  в реализации национальных и международных программ, предусматривающих мобилизацию и распределение инвестиционных средств государства и международных организац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550C-3888-4FEC-96D7-4D5FB4F396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eaeaea"/>
                </a:solidFill>
                <a:latin typeface="Times New Roman"/>
              </a:rPr>
              <a:t>Цели и виды деятельности оборотного фонда</a:t>
            </a:r>
            <a:r>
              <a:rPr b="0" i="1" lang="en-US" sz="30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Финансирование на возвратной основе программ по энергоэффективности,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замене ископаемого топлива альтернативными видами топлива, в том числе биотопливом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Стимулирование инвестиций на возвратной основе в предприятия всех видов собственности в целях повышения энергоэффективности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уменьшения использования ископаемого топлива и его замены альтернативными видами топлива, в частности древесными отходами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Отбор наиболее перспективных проектов для финансирования по следующим параметрам: необходимый объем финансирования и сроки окупаемости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объем энергосбережений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сокращение выбросов парниковых газов в атмосферу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Заключение соглашений о выделении целевого займа на проведение мероприятий по повышению энергоэффективности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3061-49A5-49F8-B56C-699BFC731C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7520" y="493560"/>
            <a:ext cx="729144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eaeaea"/>
                </a:solidFill>
                <a:latin typeface="Times New Roman"/>
              </a:rPr>
              <a:t>Оборотный фонд осуществляет: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37532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нансовое посредничество, в том числе для обеспечения финансирования и возврата средст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формление контрактов между всеми заинтересованными сторонами на предмет использования средств ОФ, в том числе окончательное согласование условий возврата средст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анирование, обсуждение и утверждение с каждым из участников графика погашения зай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нтроль правильности выделения и использования средств фон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4809-E5E7-4746-A817-690F113FE1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732780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Условия займов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26920" y="1773360"/>
          <a:ext cx="7855200" cy="4841640"/>
        </p:xfrm>
        <a:graphic>
          <a:graphicData uri="http://schemas.openxmlformats.org/drawingml/2006/table">
            <a:tbl>
              <a:tblPr/>
              <a:tblGrid>
                <a:gridCol w="3924360"/>
                <a:gridCol w="39308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оротный фон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лорусская банковская систе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авка по займам в долларах США - 6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авка по займам в в долларах США :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авка по займам в национальной валюте – половина ставки рефинансирования НБ + 3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авка по займам в национальной валют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ксимальный срок займа  - 5 л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срочка платежа – до 1 год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ксимальный срок кредита и отсрочка платежа – предмет переговор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5FA0-96C8-4AE8-97E5-4D47DB475B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08:31:42Z</dcterms:created>
  <dc:creator>Клиент</dc:creator>
  <dc:description/>
  <dc:language>en-US</dc:language>
  <cp:lastModifiedBy>IV</cp:lastModifiedBy>
  <dcterms:modified xsi:type="dcterms:W3CDTF">2008-04-22T11:59:25Z</dcterms:modified>
  <cp:revision>73</cp:revision>
  <dc:subject/>
  <dc:title>Слайд 1</dc:title>
</cp:coreProperties>
</file>