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261E-358F-4A61-AD6C-C8114678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573-9327-4878-AB8C-1A2B0C82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F10-10FD-4E00-AE71-4E21EF5B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D2A-542C-48ED-BFF5-68EA272A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8BF9-5FBA-48E1-BE72-750A09C0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F27F-359B-4E49-BBA7-0B65174C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D269-F0B2-4D94-B78A-00BF2ABE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DF30-5750-47A6-A6A9-84E8A23B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DAA4-57B5-4EFE-ACD8-0CA1635E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D87C-E26B-4BF3-9355-5A7A6195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F52E-1837-4071-98E9-66147161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A66-3411-44B6-BEE6-906F60E6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4289-2632-4DB1-B926-52B255C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E743-96B4-4752-B5C2-D6D4FAE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CC7C-4B3E-45F9-A1D0-FEF0218A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D51D-2CDA-4F3E-A480-CC310730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9243-E167-4B92-B73E-E5555381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627B-00AC-4024-8C9A-D7FFD0D9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927-3FA6-4D44-B6F0-4E5BE203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C25-3B60-422C-B410-856E9E63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F52-5016-4B3E-8679-C0D14646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C27-78FE-434D-B6FA-2EA5FAF6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A36-046F-4536-B10D-54B00D7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409-D2B7-4F4D-BCFC-1075B53C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624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400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20F3-A67E-48FE-B8FC-9DD405E0206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1840" cy="6851520"/>
            <a:chOff x="0" y="6480"/>
            <a:chExt cx="914184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1840" cy="5014800"/>
              <a:chOff x="0" y="1843200"/>
              <a:chExt cx="914184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588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9240" cy="6851520"/>
              <a:chOff x="552600" y="6480"/>
              <a:chExt cx="858924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400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3C92-2FFE-47DA-8924-E355B366264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nanich@niks.by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РООН/ГЭФ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ЕЭ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ОН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роект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Применение биомассы для отопления и горячего водоснабжения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в Республике Беларусь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Сроки реализации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: 2003-200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9640" y="4365720"/>
            <a:ext cx="806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инс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а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bundp20mm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849240" cy="1655640"/>
          </a:xfrm>
          <a:prstGeom prst="rect">
            <a:avLst/>
          </a:prstGeom>
          <a:ln w="0">
            <a:noFill/>
          </a:ln>
        </p:spPr>
      </p:pic>
      <p:pic>
        <p:nvPicPr>
          <p:cNvPr id="112" name="GEFcolor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126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Для рассмотрения заявки на выделение займа необходимы документы: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276280"/>
            <a:ext cx="7543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бухгалтерский баланс (форма 1) с пояснительной записко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тчет о прибылях и убытках (форма 2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отчет о движении источников собственных средств (форма 3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справку из налоговой инспекции об отсутствии задолженностей по платежам в бюджет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технико-экономическое обоснование предполагаемых мероприятий или бизнес-пла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целях определения финансового состояния заемщика Фонд имеет право также запросить аудиторский отчет и/или другие документ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455D-D845-4131-A050-526BC73536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36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eaeaea"/>
                </a:solidFill>
                <a:latin typeface="Times New Roman"/>
              </a:rPr>
              <a:t>Структура финансирования проектов по повышению энергоэффективности с участием ОФ</a:t>
            </a:r>
            <a:r>
              <a:rPr b="0" i="1" lang="en-US" sz="3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1" lang="en-US" sz="3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4280" y="2604960"/>
            <a:ext cx="726768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0% 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нансирование из О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% 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обственные средства предприят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% -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клад Комэнергоэффекти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4C9-D85B-422B-A3DD-C61A6FB1B7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6440" y="836640"/>
          <a:ext cx="9007560" cy="5605560"/>
        </p:xfrm>
        <a:graphic>
          <a:graphicData uri="http://schemas.openxmlformats.org/drawingml/2006/table">
            <a:tbl>
              <a:tblPr/>
              <a:tblGrid>
                <a:gridCol w="1871640"/>
                <a:gridCol w="908280"/>
                <a:gridCol w="4430520"/>
                <a:gridCol w="1797120"/>
              </a:tblGrid>
              <a:tr h="84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емщ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йма</a:t>
                      </a: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, $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ь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стоя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Волат-1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Замена 2-х электрокотлов  котлами на биомасс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эксплуа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Мостовдрев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конструкция и модернизация систем,  связанная  с переводом котельной на биомас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 эксплуат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Минскэнерг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лейская мини-ТЭ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конструкция и модернизация систем,  связанная  с переводом котельной на биомасс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илейский лесхо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обретение технологии и внедрение оборудования  для заготовки древесного топли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БЗТДи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000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едение мероприятий по повышению энергоэффекти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орисовский з-д автотракторного электрооборуд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0 000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едение мероприятий по повышению энергоэффекти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непро-Бугский водный путь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”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оительство  МГЭС «Дубой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гилевский завод искусственного волок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ведение мероприятий по повышению энергоэффектив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«Витебскэнерго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троительство ТЭЦ на биомасс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бринское ЖК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конструкция котель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 стадии реализ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10920" y="0"/>
            <a:ext cx="81723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Заемщики Фонда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AC7-0CCF-4D12-B8DE-6480167769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Times New Roman"/>
              </a:rPr>
              <a:t>Спасибо за внимание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754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робнее об оборотном фонде и условиях выдачи займов можно узн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тел. 227 85 40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анич Ирина Валерь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bioenergy.by gis.bioenergy.by/fond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л. Почта: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ananich@niks.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6F58-76B5-4115-B457-CD98AC7C34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Финансирование проектов по энергоэффективности с использованием механизма оборотного фонда,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созданного в рамках проекта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ПРООН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ГЭФ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 “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Применение биомассы для отопления и горячего водоснабжения в Республике Беларусь</a:t>
            </a:r>
            <a:r>
              <a:rPr b="1" i="1" lang="en-US" sz="40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392-C2C8-46AF-9B22-9FA4FE27B6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Создание финансового механизм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зультат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готовка серии инвестиционных проектов по переходу на биомассу (древесные отход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зультат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здание оборотного фонда для финансирования проектов по повышению энергоэффективности и  использованию биомасс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A47-B54A-48EE-BB56-6669B5080C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eaeaea"/>
                </a:solidFill>
                <a:latin typeface="Times New Roman"/>
              </a:rPr>
              <a:t>Источники формирования капитала оборотного фонд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2462040"/>
            <a:ext cx="7543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Э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540 000 $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лорусская сторо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540 000 $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того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3 080 000 $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61E-95C5-4647-B3C2-C96D327D93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Взнос белорусской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стороны в ОФ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2276280"/>
            <a:ext cx="7274160" cy="38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зносы Комэнергоэффективности в оборотный фон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005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ду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800 000 000 рубле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006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од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1 000 000 000 рубле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007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год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500 000 000 рубле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того –сумма, эквивалентная 1 540 000 долларов СШ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BC5-E997-4EE4-A037-F0279655BB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imes New Roman"/>
              </a:rPr>
              <a:t>Определение оборотного фонда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7470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вый механизм финансирования проектов по биоэнергетике  на возвратной осно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нд уполномочен принимать участие  в реализации национальных и международных программ, предусматривающих мобилизацию и распределение инвестиционных средств государства и международны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C2CE-1020-4937-801F-472A65F1DD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aeaea"/>
                </a:solidFill>
                <a:latin typeface="Times New Roman"/>
              </a:rPr>
              <a:t>Цели и виды деятельности оборотного фонда</a:t>
            </a:r>
            <a:r>
              <a:rPr b="0" i="1" lang="en-US" sz="30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инансирование на возвратной основе программ по энергоэффективности,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мене ископаемого топлива альтернативными видами топлива, в том числе биотопливо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Стимулирование инвестиций на возвратной основе в предприятия всех видов собственности в целях повышения энергоэффективности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уменьшения использования ископаемого топлива и его замены альтернативными видами топлива, в частности древесными отходам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тбор наиболее перспективных проектов для финансирования по следующим параметрам: необходимый объем финансирования и сроки окупаемости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ъем энергосбережений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сокращение выбросов парниковых газов в атмосферу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Заключение соглашений о выделении целевого займа на проведение мероприятий по повышению энергоэффективност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F97-8730-4B00-B1F1-9B74498F46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7520" y="493560"/>
            <a:ext cx="729144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eaeaea"/>
                </a:solidFill>
                <a:latin typeface="Times New Roman"/>
              </a:rPr>
              <a:t>Оборотный фонд осуществляет: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37532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нансовое посредничество, в том числе для обеспечения финансирования и возврата средст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ормление контрактов между всеми заинтересованными сторонами на предмет использования средств ОФ, в том числе окончательное согласование условий возврата средств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нирование, обсуждение и утверждение с каждым из участников графика погашения зай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троль правильности выделения и использования средств фон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D77-B34E-414B-B6F5-1E7BAC9FDB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327800" cy="9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Условия займов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1773360"/>
          <a:ext cx="7855200" cy="4841640"/>
        </p:xfrm>
        <a:graphic>
          <a:graphicData uri="http://schemas.openxmlformats.org/drawingml/2006/table">
            <a:tbl>
              <a:tblPr/>
              <a:tblGrid>
                <a:gridCol w="3924360"/>
                <a:gridCol w="3930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ротный фон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лорусская банковская сис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вка по займам в долларах США - 6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вка по займам в в долларах США :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вка по займам в национальной валюте – половина ставки рефинансирования НБ + 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вка по займам в национальной валю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симальный срок займа  - 5 л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срочка платежа – до 1 год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симальный срок кредита и отсрочка платежа – предмет переговор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741-EC14-4114-B270-7787DAE9D9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08:31:42Z</dcterms:created>
  <dc:creator>Клиент</dc:creator>
  <dc:description/>
  <dc:language>en-US</dc:language>
  <cp:lastModifiedBy>IV</cp:lastModifiedBy>
  <dcterms:modified xsi:type="dcterms:W3CDTF">2008-04-22T11:59:25Z</dcterms:modified>
  <cp:revision>73</cp:revision>
  <dc:subject/>
  <dc:title>Слайд 1</dc:title>
</cp:coreProperties>
</file>