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A6FA-0DB8-4180-9E85-47B7CC7EBC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E3C9D06-ADE9-4B51-A283-0EE3C66C47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0E1BC4E-F7EA-4B50-A4F1-005267B45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32944BD-6A27-4CCA-8C09-218D3E8821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A49055A-B058-413F-917A-C9B34F4E2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D595730-9A0A-4152-9281-EF3F62368C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07BC7F2-1320-43A2-ABC6-00CA65C21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DADE611-CABF-4839-87E1-E283816D15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71EB583-8DD9-45BD-A861-F26F7716A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0591731-DA2C-4AAC-9A8C-09BA6DA8F9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DDEB200-8A36-4CC9-A488-D395B473E3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F389C58-0731-4E32-930A-C82901693C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41984F2-5F0D-4842-9B1C-46794C2A77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793633A-8233-43F1-8036-C074E9A154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6FB8BBD-FEDB-4D2A-8B91-85BD31E62C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D5B36EF-72E0-4E20-85E9-DBC12CF23C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3B0EC74-FD1A-4A1D-8526-22FF1F79AE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16F4297D-B7E7-42F3-AC27-BE46C53421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D6184E2F-514D-45F7-A1D1-673B3F4FE7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C842FF39-F081-47DE-A0F2-2B58D4153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AA29833-290D-4D1D-9C26-49BC7209AD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8923239-AD72-4C38-82A1-A21EE016BC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5960" y="9329760"/>
            <a:ext cx="2951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FDCEFB6-4603-43AE-B2BA-EC9E6551CB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1840" cy="36846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1120" y="4667400"/>
            <a:ext cx="5446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B19-0D45-49AB-8CB9-0C8B72A9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870-05CB-4438-ABB2-F18F2113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8B8-3CDB-4F21-AE70-98914958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62F-C904-4BBC-84A5-B04013F4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44E2-B0E3-426B-9146-879E091C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D391-B2FF-424D-A64A-7F2DA4E5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7B0-338F-4F51-B189-2E7A97A1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CB0-D695-4685-8E0B-2FF0D635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B75-DF03-4658-A793-D1993DB9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72B-C798-41D8-8605-A07B662F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1FD-735C-455E-BB99-D8125420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485-A76E-41D7-97F0-52213A63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714A-DDE6-4AC7-8BDE-83C8A4CE8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2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ЭКОЛОГИЧЕСКИЕ АСПЕКТЫ ШИРОКОМАСШТАБНОГО ИСПОЛЬЗОВАНИЯ ВОЗОБНОВЛЯЕМЫХ ИСТОЧНИКОВ 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4038480"/>
            <a:ext cx="6934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тапкова И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Зав. отделом УП «ЛОТИО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Расчет выбросов загрязняющих веществ в атмосферный воздух производится в соответствии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с ТКП 17.08-01-2006</a:t>
            </a: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 «Охрана окружающей среды и природопользование. Атмосфера. Выбросы загрязняющих веществ в атмосферный воздух.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Порядок определения выбросов при сжигании топлива в котлах теплопроизводительностью до 25 МВт</a:t>
            </a: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», утвержденном и введенном в действие с 01 мая 2006 г. постановлением Минприроды №2/10 от 28.02.2006 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Сжигание топлива в котлах теплопроизводительностью более 25 МВт регламентируется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ТКП 17.08-04-2006 </a:t>
            </a: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«Охрана окружающей среды и природопользование. Атмосфера. Выбросы загрязняющих веществ в атмосферный воздух.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Порядок определения выбросов при сжигании топлива в котлах теплопроизводительностью более 25 МВт</a:t>
            </a: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», утвержденном и введенном в действие с 01 сентября 2006 г. постановлением Минприроды №3-Т от 28.06.2006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Таким образом, в официальных технических нормативных правовых актах закреплена юридическая и техническая возможность расчета выбросов загрязняющих веществ сжигания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следующих многочисленных видов биомасс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79280" y="189000"/>
          <a:ext cx="8785440" cy="6603840"/>
        </p:xfrm>
        <a:graphic>
          <a:graphicData uri="http://schemas.openxmlformats.org/drawingml/2006/table">
            <a:tbl>
              <a:tblPr/>
              <a:tblGrid>
                <a:gridCol w="1346400"/>
                <a:gridCol w="2038320"/>
                <a:gridCol w="369720"/>
                <a:gridCol w="427320"/>
                <a:gridCol w="495000"/>
                <a:gridCol w="567000"/>
                <a:gridCol w="496800"/>
                <a:gridCol w="493560"/>
                <a:gridCol w="709560"/>
                <a:gridCol w="777960"/>
                <a:gridCol w="495360"/>
                <a:gridCol w="568440"/>
              </a:tblGrid>
              <a:tr h="1189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аименование топл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Марка или в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остав рабочей массы топлива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изшая теплота сгорания МДж/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бъемы  дымовых газов нм</a:t>
                      </a:r>
                      <a:r>
                        <a:rPr b="1" lang="ru-RU" sz="12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/кг при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=1,4,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=0°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=101,3 к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ходы древесные для топлив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ра, кородревесные 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8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1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Щепа из малоплотной древесины (ель, сосна, тополь, липа, осина, ив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4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8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1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Щепа из среднеплотной древесины (береза, ольха, орех, дуб, кле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9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ревесные отходы, обрез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2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2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опливо энергетическое из быстрорастущей древесины для топлив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ревесина дровяная для топливных нуж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Хвой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4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иственные малопло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1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4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иственные среднепло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1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3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меш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1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ревесные стружки опилки, для топлив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1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3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стра для топливных нуж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2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4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4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ходы сельскохозяйственного производства для топлив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5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4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635280" y="1341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067280" y="1341360"/>
                <a:ext cx="288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00720" y="1341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076720" y="1341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084720" y="1341360"/>
                <a:ext cx="3016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580000" y="1341360"/>
                <a:ext cx="289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29400" y="137160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380360" y="1341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8101080" y="1341360"/>
                <a:ext cx="360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y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604360" y="1341360"/>
                <a:ext cx="3427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mp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15840" y="719280"/>
                <a:ext cx="31989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y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65840" y="719280"/>
                <a:ext cx="31114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эм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7200" y="1219320"/>
                <a:ext cx="281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62120" y="1676520"/>
                <a:ext cx="22320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·</m:t>
                        </m:r>
                        <m:r>
                          <m:t xml:space="preserve">N</m:t>
                        </m:r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·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85800" y="2895480"/>
                <a:ext cx="38336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·</m:t>
                        </m:r>
                        <m:r>
                          <m:t xml:space="preserve">N</m:t>
                        </m:r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·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y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952880" y="2895480"/>
                <a:ext cx="3571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·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эм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39640" y="932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Выбросы загрязняющих веществ в атмосферный воздух могут быть рассчитаны по одной из двух формул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4595760" y="26928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6320" y="1294200"/>
            <a:ext cx="52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расчетный расход топлива, рассчитываемый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2160" y="2361600"/>
            <a:ext cx="81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дстановка данного выражения приводит первые формулы к следующему вид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698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Таким образом, четко видна зависимость выбросов загрязняющих веществ от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низшей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теплоты сгорания топлива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и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коэффициента полезного действия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котла. Рассмотрим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подробнее, каким образом происходит влияние данных величин на выбросы загрязняющих веществ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Высушивание и пиролиз/газификация являются первыми этапами процесса сгорания твердого топлива, и соответственно при высушивании происходит испарение влаги, что уменьшает температуру в топке, замедляя процесс сжигания топлива. Испарение содержащейся в древесине влаги и последующий нагрев водяного пара требуют значительных затрат энергии, что приводит к падению температуры ниже минимального уровня, требуемого для обеспечения процесса горения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ледовательно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лажност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является одной из наиболее важных переменных характеристик топлива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апрямую влияет на низшую теплоту сгорания топлив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492360" y="619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Таким образом, степень воздействия влажности на теплоту сгорания иллюстрирует следующий график, который свидетельствует о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ильном снижении теплоты сгорания при увеличении влажности топлив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1398600"/>
          <a:ext cx="9144000" cy="5459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98600"/>
                    <a:ext cx="91440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914400"/>
            <a:ext cx="835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ри увеличении влажности топлива  увеличивается отношени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что иллюстрирует следующий график. Следовательно, увеличиваются выбросы загрязняющих вещест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4595760" y="26928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3492360" y="619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96080" y="762120"/>
                <a:ext cx="720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y</m:t>
                            </m:r>
                          </m:sub>
                          <m:sup>
                            <m:r>
                              <m:t xml:space="preserve">1,4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0" name=""/>
          <p:cNvGraphicFramePr/>
          <p:nvPr/>
        </p:nvGraphicFramePr>
        <p:xfrm>
          <a:off x="380880" y="2392200"/>
          <a:ext cx="8429760" cy="446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92200"/>
                    <a:ext cx="842976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209680" y="228600"/>
                <a:ext cx="3249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·</m:t>
                        </m:r>
                        <m:r>
                          <m:t xml:space="preserve">N</m:t>
                        </m:r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·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y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152280"/>
            <a:ext cx="835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ассмотрим подробнее, каким образом влажность топлива влияет на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коэффициент полезного действия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котла. Данную зависимость иллюстрирует следующий график, который показывает уменьшение КПД «брутто» котла при увеличении влажности топ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4595760" y="26928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3492360" y="619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1371600"/>
          <a:ext cx="8569080" cy="457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56908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95280" y="6021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ледовательно, при уменьшении КПД «брутто» котла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увеличиваются выбросы загрязняющи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В соответствии с постановлением Госстандарта Республики Беларусь от 19.04.2006 г. № 18 с 1 июля 2006 года на территории Республики Беларусь введены в действие государственные стандар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ТБ 1626.1-2006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«Установки котельные. Установки, работающие на газообразном, жидком и твердом топливе. Нормы выбросов загрязняющих веществ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ТБ 1626.2-2006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«Установки котельные. Установки, работающие на биомассе. Нормы выбросов загрязняющих вещест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Таким образом, с введением в действие СТБ 1626.1 и СТБ 1626.2 реализованы требования об установлении нормативов допустимых выбросов для стационарных источников воздействия на окружающую среду, изложенные в статье 22 Закона Республики Беларусь от 26 ноября 1992 года №1982-XII "Об охране окружающей среды" и статье 23 Закона Республики Беларусь от 15 апреля 1997 года №29-З "Об охране атмосферного воздуха"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28951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ы выбросов в атмосферу для котельных установок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нных в эксплуатацию до 01.07.2006 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920" y="914400"/>
          <a:ext cx="8569080" cy="2336760"/>
        </p:xfrm>
        <a:graphic>
          <a:graphicData uri="http://schemas.openxmlformats.org/drawingml/2006/table">
            <a:tbl>
              <a:tblPr/>
              <a:tblGrid>
                <a:gridCol w="2436480"/>
                <a:gridCol w="1414440"/>
                <a:gridCol w="1573200"/>
                <a:gridCol w="1573200"/>
                <a:gridCol w="157176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еплопроизвод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тельной установки, М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орма выброса, мг/м</a:t>
                      </a:r>
                      <a:r>
                        <a:rPr b="1" lang="en-US" sz="14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вердых част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углерода оксида (С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азота оксидов (NO</a:t>
                      </a:r>
                      <a:r>
                        <a:rPr b="1" lang="en-US" sz="1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еры диоксида (SO</a:t>
                      </a:r>
                      <a:r>
                        <a:rPr b="1" lang="en-US" sz="14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 0,1 до 0,3 вклю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в. 0,3 « 2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« 2 « 25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« 25  « 50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« 50 « 100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28600" y="4267080"/>
          <a:ext cx="8569440" cy="2346480"/>
        </p:xfrm>
        <a:graphic>
          <a:graphicData uri="http://schemas.openxmlformats.org/drawingml/2006/table">
            <a:tbl>
              <a:tblPr/>
              <a:tblGrid>
                <a:gridCol w="2448000"/>
                <a:gridCol w="1400040"/>
                <a:gridCol w="1552680"/>
                <a:gridCol w="1584360"/>
                <a:gridCol w="158436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еплопроизвод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тельной установки, М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орма выброса, мг/м</a:t>
                      </a:r>
                      <a:r>
                        <a:rPr b="1" lang="en-US" sz="14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вердых част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глерода оксида (С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зота оксидов (NO</a:t>
                      </a:r>
                      <a:r>
                        <a:rPr b="1" lang="en-US" sz="1400" spc="-1" strike="noStrike" baseline="-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еры диоксида (SO</a:t>
                      </a:r>
                      <a:r>
                        <a:rPr b="1" lang="en-US" sz="1400" spc="-1" strike="noStrike" baseline="-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 0,1 до 0,3 вклю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в. 0,3 « 2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« 2 « 25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« 25  « 50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« 50 « 100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0" y="3352680"/>
            <a:ext cx="9144000" cy="838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ы выбросов в атмосферу для котельных установок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нных в эксплуатацию после 01.07.2006 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4595760" y="26928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3492360" y="619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404640"/>
            <a:ext cx="849600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Вы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Учитывая создавшееся положение с топливно-энергетическими ресурсами, постоянный рост цен на импортируемое топливо, использование  биомассы является одним из основных приоритетных направлений Концепции    энергетической    безопасности  и   повышения энергетической независимости Республики Беларусь, утвержденной Указом Президента Республики Беларусь от 25 августа 2005 г. №3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. Сжигание биомассы возможно в любых котлах при соблюдении требований СТБ 1626.2-2006 «Установки котельные. Установки, работающие на биомассе. Нормы выбросов загрязняющих вещест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. При сжигании биомассы необходимо применять первичные меры по снижению уровня выбросов загрязняющих веществ, главным из которых является уменьшение уровня влажности топ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. При сжигании биомассы необходимо наладить управление процессом горения и оптимизировать режимы работы котлов с учетом влияния на  выбросы слишком низкой температуры горения, слишком коротком времени пребывания топлива в топке, недостатке/избытке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. При сжигании биомассы в существующих котлах необходимо рассмотреть возможность внедрения технологий ступенчатого сжигания и дожигания топ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4595760" y="26928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3492360" y="619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333360"/>
            <a:ext cx="8496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. При сжигании биомассы необходимо дополнительно применять различное пылегазоочистное оборудование с целью удаления загрязняющих веществ из отходящих газов котла и соблюдения норм их выбросов в атмосферный воздух, установленных в СТБ 1626.2-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. Сжигание биомассы выгодно, однако биомасса - не бесплатное топливо и цена его будет расти. Поэтому для сжигания биомассы необходимо применять соответствующее оборудование, обеспечивающее более полное сжигание топлива с более высоким коэффициентом полезного действия. Использование старых, переоборудованных котлов повлечет за собой неоправданное увеличение потребления топливных ресурсов из-за низкого КПД их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. Реконструкция существующих газомазутных котлов приведет к резкому увеличению потребления топливно-энергетических ресурсов из-за снижения КПД таких котлов, в некоторых случаях до 40-50 процентов. Сжигание биомассы в старых твердотопливных котлах, рассчитанных на применение каменного угля (антрацита), резко ухудшает их технико-экономические характеристики и экологическую обстановку в районе размещения таких коте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99"/>
                </a:solidFill>
                <a:latin typeface="Arial"/>
              </a:rPr>
              <a:t>Выбросы загрязняющих веществ в атмосферный возду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99"/>
                </a:solidFill>
                <a:latin typeface="Arial"/>
              </a:rPr>
              <a:t>Твердые отход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ЭКОЛОГИЧЕСКИЕ АСПЕ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Вследствие расширения практики использования биомассы для производства энергии, увеличивается количество твердых отходов (содержание золы в биомассе колеблется от 0,5 % вес. (на сухую массу) для мягких пород древесины до 4-8 % вес. для коры, в которой характерно повышенное содержание  золы и минеральных примесей (песка, земли, камней)</a:t>
            </a:r>
            <a:r>
              <a:rPr b="1" lang="en-US" sz="1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д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хо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280" y="3733920"/>
          <a:ext cx="8991720" cy="2735280"/>
        </p:xfrm>
        <a:graphic>
          <a:graphicData uri="http://schemas.openxmlformats.org/drawingml/2006/table">
            <a:tbl>
              <a:tblPr/>
              <a:tblGrid>
                <a:gridCol w="4496040"/>
                <a:gridCol w="4495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Используемое биотопли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одержание з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р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,0 – 8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ревесная щепа с корой (лес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,0 – 2,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Древесная щепа без коры (промышленная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,8 – 1,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пил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,5 – 1,1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ложение "О порядке определения степени опасности отходов и установления класса опасности опасных отходов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Постановление Министерства здравоохранения РБ, Министерства природных ресурсов РБ, Министерства по чрезвычайным ситуациям РБ от 30.10.2001г. № 62/23/13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нструкция о порядке установления степени опасности отходов производства и класса опасности опасных отходов производст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Постановление Министерства природных ресурсов РБ, Министерства здравоохранения РБ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 Министерства по чрезвычайным ситуациям РБ от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17 января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200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г. № 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/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3/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д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тхо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8. Опасные свойства отходов определяются юридическими лицами и индивидуальными предпринимателями, в ведении которых находятся лаборатории, аккредитованные в системе аккредитации Республики Беларусь, и состоящим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учете в Министерстве природных ресурсов и охраны окружающей среды Республики Беларусь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(далее - Минприрод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9. Отбор проб отходов производства и определение опасных свойств отходов производятся по методикам, допущенным к применению в соответствии с законодательств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 метрологии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. По результатам определения опасных свойств отходов юридическими лицами и индивидуальными предпринимателями, указанными в пункте 8 настоящей Инструкции, выдается заключение о степени опасности отходов производства и классе опасности опасных отходов производства по форме согласно приложению 2.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нструкция о порядке установления степени опасности отходов производства и класса опасности опасных отходов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ru-RU" sz="3000" spc="-1" strike="noStrike">
                <a:solidFill>
                  <a:srgbClr val="000066"/>
                </a:solidFill>
                <a:latin typeface="Arial"/>
                <a:ea typeface="Times New Roman"/>
              </a:rPr>
              <a:t>Экотоксичность –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способность отходов в случае попадания в окружающую среду представлять немедленно или со временем угрозу для окружающей среды в результате биоаккумулирования и (или) оказывать токсическое воздействие на биотические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000066"/>
                </a:solidFill>
                <a:latin typeface="Arial"/>
                <a:ea typeface="Times New Roman"/>
              </a:rPr>
              <a:t>Токсичность -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способность отходов при попадании внутрь организма через органы дыхания, пищеварения или кожу вызывать серьезные, затяжные или хронические заболевания, включая раковые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Инструкция о порядке установления степени опасности отходов производства и класса опасности опасных отходов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MS Mincho"/>
              </a:rPr>
              <a:t>Классификатор отходов, образующихся в Республике Беларусь</a:t>
            </a:r>
            <a:br>
              <a:rPr sz="19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MS Mincho"/>
              </a:rPr>
              <a:t>ПОСТАНОВЛЕНИЕ МИНИСТЕРСТВА ПРИРОДНЫХ РЕСУРСОВ И ОХРАНЫ ОКРУЖАЮЩЕЙ СРЕДЫ РЕСПУБЛИКИ БЕЛАРУСЬ  от 8 ноября 2007 г. № 85</a:t>
            </a:r>
            <a:br>
              <a:rPr sz="12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В. Золы, шлаки и пыль от термической обработки отходов и от топочных установок (26 позиций)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1523880"/>
          <a:ext cx="9144000" cy="5280120"/>
        </p:xfrm>
        <a:graphic>
          <a:graphicData uri="http://schemas.openxmlformats.org/drawingml/2006/table">
            <a:tbl>
              <a:tblPr/>
              <a:tblGrid>
                <a:gridCol w="946080"/>
                <a:gridCol w="7054920"/>
                <a:gridCol w="1143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и пыль (летучие) топочных установ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и шлак топочных установ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торфобрик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торфобрик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4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торфа с древеси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 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быстрорастущей древесины, зола от сжигания д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древесная, содержащая хром, формальдегид, медь, цинк, никель, кадмий, сви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соломе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ко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Отходы сжигания кок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ко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Отходы сжигания кок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лигн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6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смеси лигнина с различными компонен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Шлак котель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4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и шлак печей огневого обезвреживания от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8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жидких от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8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брикетов, полученных из смеси обезвоженного осадка сточных вод, содержащая железо, цинк, медь, никель, марганец, свинец, хром, фенол, формальдегид, бенз(а)пирен, фенантр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762120"/>
          <a:ext cx="8915400" cy="4114800"/>
        </p:xfrm>
        <a:graphic>
          <a:graphicData uri="http://schemas.openxmlformats.org/drawingml/2006/table">
            <a:tbl>
              <a:tblPr/>
              <a:tblGrid>
                <a:gridCol w="990720"/>
                <a:gridCol w="6553080"/>
                <a:gridCol w="13716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8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термического обезвреживания остатков химических производств, содержащая железо, цинк, медь, никель, марганец, свинец, хром, фенол, формальдегид, бенз(а)пирен, фенантр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0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а от сжигания лигнина, содержащая медь, цинк, никель, марганец, свинец, хром, железо, формальдегид, фен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Остатки твердые солесодержащие из дымоулавливающих устройств при переработке отходов сжиганием и пиролиз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1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Остатки твердые солесодержащие из дымоулавливающих устройств топочных установок с традиционным топли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1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Шлаки котлов флюидальных на угольном топли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-й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1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Шлаки и золы пиролизных установ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1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Золошлаковые отходы, содержащие ванад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3132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MS Mincho"/>
                        </a:rPr>
                        <a:t>Прочие золошлаковые отходы и пыль от термической обработки отходов и от топочных установок, не вошедшие в группу I 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Золы, шлаки и пыль от термической обработки отходов и от топочных установок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4876920"/>
            <a:ext cx="91440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MS Mincho"/>
              </a:rPr>
              <a:t>*В случае отсутствия в графе 3 какой-либо записи собственник отходов устанавливает степень опасности отходов производства и класс опасности опасных отходов производства в соответствии с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MS Mincho"/>
              </a:rPr>
              <a:t>Положением о порядке определения степени опасности отходов и установления класса опасности опасных отходов,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MS Mincho"/>
              </a:rPr>
              <a:t> утвержденным </a:t>
            </a:r>
            <a:r>
              <a:rPr b="1" lang="ru-RU" sz="1400" spc="-1" strike="noStrike" u="sng">
                <a:solidFill>
                  <a:srgbClr val="000066"/>
                </a:solidFill>
                <a:uFillTx/>
                <a:latin typeface="Times New Roman"/>
                <a:ea typeface="MS Mincho"/>
              </a:rPr>
              <a:t>постановлением Министерства здравоохранения Республики Беларусь и Министерства природных ресурсов и охраны окружающей среды Республики Беларусь, Министерства по чрезвычайным ситуациям Республики Беларусь от 30 октября 2001 г. № 62/23/13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  <a:ea typeface="MS Mincho"/>
              </a:rPr>
              <a:t> (Национальный реестр правовых актов Республики Беларусь, 2001 г., № 116, 8/7512)</a:t>
            </a:r>
            <a:r>
              <a:rPr b="1" lang="ru-RU" sz="1400" spc="-1" strike="noStrike">
                <a:solidFill>
                  <a:srgbClr val="000066"/>
                </a:solidFill>
                <a:latin typeface="Arial"/>
                <a:ea typeface="MS Mincho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00440" cy="6541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10160" y="457200"/>
            <a:ext cx="4533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1840" cy="6391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4495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1360" cy="6665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07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1905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пасибо за внимание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«Разработать комплекс мероприятий по обеспечению экологической безопасности котлоагрегатов при переводе их на местные альтернативные виды топлива в процессе решения проблемы энергосбережения»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задание № 13 НТП Республиканской программы «Энергосбережение 2001-2005гг</a:t>
            </a:r>
            <a:r>
              <a:rPr b="0" lang="ru-RU" sz="37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екты, в которых участвов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434304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Заключение Минздрава № 0115/4528/08-01 о классе токсичности золы от сжигания опилок и отходов древесин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Заключение Минздрава № 0115/7321/08-01 о классе токсичности золы от сжигания торфобрикетов и торфа с древесиной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Заключение Минздрава № 0115/3144/08-01 о классе токсичности золы от сжигания быстрорастущей древесины и др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Получены заключения Минприроды по классам опасности золы от сжигания 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торфа с древесиной и торфобрикетов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, зола от сжигания 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отходов древесины и опилок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,  зола от сжигания 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быстрорастущей древесины и дров</a:t>
            </a: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Arial"/>
              </a:rPr>
              <a:t>Разработаны, согласованы с заинтересованными организациями  национальные изменения к межгосударственным стандартам ГОСТ 21563-93 ГОСТ 28193-8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РАБОТАННЫЕ ТН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 flipV="1">
            <a:off x="0" y="1522800"/>
            <a:ext cx="9144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Технические условия ТУ РБ 100725266.001-2003 Брикеты торфя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Технические условия ТУ РБ 100725266.002-2003 Отходы древесные для топливных нуж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Технические условия ТУ РБ 100725266.003-2003 Топливо энергетическое из быстрорастущей древеси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Технические условия ТУ РБ 100725266.004-2003 Древесина дровяная для топливных нуж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Технические условия  ТУ РБ 100725266.005-2003 Опилки древесные для топливных нуж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Технические условия ТУ РБ 100725266.006-2003 Костра для топливных нуж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Arial"/>
              </a:rPr>
              <a:t>Технические условия ТУ РБ 100725266.007-2003 Брикеты лигнин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733920"/>
            <a:ext cx="89917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УЧ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22860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сновная цель проек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азработка нормативов выбросов загрязняющих веществ от котлоагрегатов, работающих на биом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Учет местных особе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СТБ 1626.2-2006</a:t>
            </a: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УСТАНОВКИ КОТЕЛЬНЫЕ, РАБОТАЮЩИЕ НА БИОМАСС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99"/>
                </a:solidFill>
                <a:latin typeface="Arial"/>
              </a:rPr>
              <a:t>Нормы выбросов загрязняющих вещест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ulting services for development of emission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ndards for biomass fired boiler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tract No GR/CQ/04/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ниторинг котлоагрег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1676520"/>
          <a:ext cx="9144000" cy="4356000"/>
        </p:xfrm>
        <a:graphic>
          <a:graphicData uri="http://schemas.openxmlformats.org/drawingml/2006/table">
            <a:tbl>
              <a:tblPr/>
              <a:tblGrid>
                <a:gridCol w="3060720"/>
                <a:gridCol w="2502000"/>
                <a:gridCol w="1539720"/>
                <a:gridCol w="20415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естонахо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ип кот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ощ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ид топл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«Бобруйскмебель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КВР 10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 М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т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«Минскдре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Н «КОМКОН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,2 М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Ще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«Октябрьской рев-ци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И-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 к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т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АО «Минскдрев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ОМРАСТ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 к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т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ветлогорский ЦК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ТD 083.00.000 Э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М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чицкий ОПГ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ытовая пе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 к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Ще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ПП «БелОСТО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Н «КОМКОН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00 к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Ще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ОО «Волат-1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В-Рм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 М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пилки. Ще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cc"/>
                      </a:solidFill>
                    </a:lnL>
                    <a:lnR w="13680">
                      <a:solidFill>
                        <a:srgbClr val="0000cc"/>
                      </a:solidFill>
                    </a:lnR>
                    <a:lnT w="13680">
                      <a:solidFill>
                        <a:srgbClr val="0000cc"/>
                      </a:solidFill>
                    </a:lnT>
                    <a:lnB w="13680">
                      <a:solidFill>
                        <a:srgbClr val="0000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нализ результатов изучения выбросов загрязняющих веществ в составе дымовых газов из котлоагрегатов, сжигающих биомассу, показ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росы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не превышают установленных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росы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 превышают установленных пределов (за редким исключением, особенно в случаях сжигания торф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росы СО как правило превышают установленные пределы (от 1.5 до 5 раз, особенно для малых кот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росы твердых частиц практически всегда превышают установленные пределы (до 30 раз, особенно для малых котл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зультаты мониторинга и измер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Коэффициент избытка воздуха в 1.5-4.5 раза выш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Теплопроизводительность даже на расчетном топливе не превышает 80% от номинальной, к.п.д. не более 65%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Топливо, как правило, нестандартно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Температура отходящих дымовых газов за котлом выше значений по Т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Перевод на нерасчетный вид топлива изменяет эти показатели в худшую сторону, включая экологические и экономические парамет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актика эксплуа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53452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Большинство котлоагрегатов переразмерены – установленная мощность заметно превышает тепловую нагрузк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Превышение температуры питающей воды на входе в котел из-за не полной утилизации отпускаемой энерг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Тепловая нагрузка меняется в больших пределах (в среднем ±50%) из-за нестабильной работы потребител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Все это является причино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низкого к.п.д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перегрева газоходов и дымососов, износа оборудова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высокого удельного расхода топли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3366"/>
                </a:solidFill>
                <a:latin typeface="Arial"/>
              </a:rPr>
              <a:t>заметного превышения выбросов твердых частиц и оксидов углерода в атмосфер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актика эксплуа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апа</cp:lastModifiedBy>
  <dcterms:modified xsi:type="dcterms:W3CDTF">2008-04-22T16:33:14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