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0E0-3656-4B26-ABC7-A6644C028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471FDD5-2B29-4608-ACD0-707D4A167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5B774B4-F484-493D-AC16-A8629FD71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DA75961-5D45-4923-9DAC-E70A8A088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514006B-56B2-4D7E-B45F-8C9D46BBC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D019669-BC74-44BD-A120-0CD3E027C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3D0DFA8-FF36-4D00-AA7A-E564551A4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55AFE2-1DD7-42B4-BBE8-8DD3B4066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A7A0376-E00A-4EE3-A619-2AFE677CD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684C848-12DF-49D1-986B-C647D361B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B4AD128-BB3F-4475-971C-8892AC6F5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46BF41F-CDD0-4394-9B7D-FC31C894C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ADA3AA5-C465-4A90-A3F6-17C35E4B3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10BE710-270C-4D7F-9F10-6A2AE268E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055292F-8441-4CF1-8376-CA4C67800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CFE3AD7-EFEC-4A76-BA16-5C4929A03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C4FDA43-EAC6-4F2F-984A-B1F8B574E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63DBA03-E08A-4F60-A356-23B0EA997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4783DDD-407D-4DDB-ACD8-81CD4225B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556B201-20FC-410C-8B63-57350589F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3B1C720-E2B3-45BD-9594-0FCAF4E59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1A1E5EB-DDF1-4E25-8F40-54110267E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1460C7-441A-4A52-BF10-3FA0C8691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A9B-A38E-4184-9808-BDCC04F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398-CC7F-41D0-856B-DD2202CE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085-ED3D-48AD-B84F-848771B7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37F-45D3-486B-B006-69C0CA18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BB2-8385-45F5-A788-37D6809A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A02-BC66-4A89-9293-BEBCAB1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036-C6C2-44D1-9277-A1150A6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9FF-F260-4188-BE89-A123CCB0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C1D-7D74-43B2-8620-6A1F1D2A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43F-1A37-4499-9F93-65793D3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B62-AB7B-49BA-A2E6-AA7190B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FD-176A-4AEC-B407-69C3202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26E5-2EC5-4770-837C-26210AA0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ОЛОГИЧЕСКИЕ АСПЕКТЫ ШИРОКОМАСШТАБНОГО ИСПОЛЬЗОВАНИЯ ВОЗОБНОВЛЯЕМЫХ ИСТОЧНИКОВ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0384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тапкова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Зав. отделом УП «ЛОТИ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Расчет выбросов загрязняющих веществ в атмосферный воздух производится в соответствии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с ТКП 17.08-01-2006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 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до 25 МВт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», утвержденном и введенном в действие с 01 мая 2006 г. постановлением Минприроды №2/10 от 28.02.2006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Сжигание топлива в котлах теплопроизводительностью более 25 МВт регламентируетс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ТКП 17.08-04-2006 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более 25 МВт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», утвержденном и введенном в действие с 01 сентября 2006 г. постановлением Минприроды №3-Т от 28.06.2006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Таким образом, в официальных технических нормативных правовых актах закреплена юридическая и техническая возможность расчета выбросов загрязняющих веществ сжигани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следующих многочисленных видов биомасс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189000"/>
          <a:ext cx="8785440" cy="6603840"/>
        </p:xfrm>
        <a:graphic>
          <a:graphicData uri="http://schemas.openxmlformats.org/drawingml/2006/table">
            <a:tbl>
              <a:tblPr/>
              <a:tblGrid>
                <a:gridCol w="1346400"/>
                <a:gridCol w="2038320"/>
                <a:gridCol w="369720"/>
                <a:gridCol w="427320"/>
                <a:gridCol w="495000"/>
                <a:gridCol w="567000"/>
                <a:gridCol w="496800"/>
                <a:gridCol w="493560"/>
                <a:gridCol w="709560"/>
                <a:gridCol w="777960"/>
                <a:gridCol w="495360"/>
                <a:gridCol w="568440"/>
              </a:tblGrid>
              <a:tr h="118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рка или 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став рабочей массы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зшая теплота сгорания МДж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ъемы  дымовых газов нм</a:t>
                      </a:r>
                      <a:r>
                        <a:rPr b="1" lang="ru-RU" sz="12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/кг при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1,4,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0°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101,3 к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ходы древесные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 (ель, сосна, тополь, липа, осина, и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9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2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пливо энергетическое из быстрорастущей древесины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ина дровяная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Хвой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ственные мало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ственные средне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еш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ные стружки опилки,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стра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5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63528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67280" y="1341360"/>
                <a:ext cx="28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072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7672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084720" y="1341360"/>
                <a:ext cx="301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1341360"/>
                <a:ext cx="289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29400" y="13716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8036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101080" y="1341360"/>
                <a:ext cx="360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04360" y="1341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mp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5840" y="719280"/>
                <a:ext cx="3198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65840" y="719280"/>
                <a:ext cx="31114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7200" y="121932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62120" y="1676520"/>
                <a:ext cx="2232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85800" y="2895480"/>
                <a:ext cx="3833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952880" y="2895480"/>
                <a:ext cx="3571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39640" y="93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ыбросы загрязняющих веществ в атмосферный воздух могут быть рассчитаны по одной из двух формул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6320" y="1294200"/>
            <a:ext cx="52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расчетный расход топлива, рассчитываемый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2160" y="236160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становка данного выражения приводит первые формулы к следующему вид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69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аким образом, четко видна зависимость выбросов загрязняющих веществ от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изшей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плоты сгорания топлив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коэффициента полезного действ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котла. Рассмотрим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дробнее, каким образом происходит влияние данных величин на выбросы загрязняющих веществ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ысушивание и пиролиз/газификация являются первыми этапами процесса сгорания твердого топлива, и соответственно при высушивании происходит испарение влаги, что уменьшает температуру в топке, замедляя процесс сжигания топлива. Испарение содержащейся в древесине влаги и последующий нагрев водяного пара требуют значительных затрат энергии, что приводит к падению температуры ниже минимального уровня, требуемого для обеспечения процесса горения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ледовательно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лажност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является одной из наиболее важных переменных характеристик топлива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прямую влияет на низшую теплоту сгорания топлив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им образом, степень воздействия влажности на теплоту сгорания иллюстрирует следующий график, который свидетельствует 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ильном снижении теплоты сгорания при увеличении влажности топли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398600"/>
          <a:ext cx="9144000" cy="545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98600"/>
                    <a:ext cx="91440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914400"/>
            <a:ext cx="835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и увеличении влажности топлива  увеличивается отношени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 иллюстрирует следующий график. Следовательно, увеличиваются выбросы загрязняющих веще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96080" y="762120"/>
                <a:ext cx="72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</m:t>
                            </m:r>
                          </m:sub>
                          <m:sup>
                            <m:r>
                              <m:t xml:space="preserve">1,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0" name=""/>
          <p:cNvGraphicFramePr/>
          <p:nvPr/>
        </p:nvGraphicFramePr>
        <p:xfrm>
          <a:off x="380880" y="2392200"/>
          <a:ext cx="842976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92200"/>
                    <a:ext cx="84297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09680" y="228600"/>
                <a:ext cx="3249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52280"/>
            <a:ext cx="835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смотрим подробнее, каким образом влажность топлива влияет на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эффициент полезного действ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котла. Данную зависимость иллюстрирует следующий график, который показывает уменьшение КПД «брутто» котла при увеличении влажности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371600"/>
          <a:ext cx="856908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5690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ледовательно, при уменьшении КПД «брутто» котл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 соответствии с постановлением Госстандарта Республики Беларусь от 19.04.2006 г. № 18 с 1 июля 2006 года на территории Республики Беларусь введены в действие государственные станд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ТБ 1626.1-2006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«Установки котельные. Установки, работающие на газообразном, жидком и твердом топливе. Нормы выбросов загрязняющих веществ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ТБ 1626.2-2006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«Установки котельные. Установки, работающие на биомассе. Нормы выбросов загрязняющих вещест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Таким образом, с введением в действие СТБ 1626.1 и СТБ 1626.2 реализованы требования об установлении нормативов допустимых выбросов для стационарных источников воздействия на окружающую среду, изложенные в статье 22 Закона Республики Беларусь от 26 ноября 1992 года №1982-XII "Об охране окружающей среды" и статье 23 Закона Республики Беларусь от 15 апреля 1997 года №29-З "Об охране атмосферного воздуха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ных в эксплуатацию до 01.07.2006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914400"/>
          <a:ext cx="8569080" cy="2336760"/>
        </p:xfrm>
        <a:graphic>
          <a:graphicData uri="http://schemas.openxmlformats.org/drawingml/2006/table">
            <a:tbl>
              <a:tblPr/>
              <a:tblGrid>
                <a:gridCol w="2436480"/>
                <a:gridCol w="1414440"/>
                <a:gridCol w="1573200"/>
                <a:gridCol w="1573200"/>
                <a:gridCol w="15717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1" lang="en-US" sz="14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зота оксидов (N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еры диоксида (S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28600" y="4267080"/>
          <a:ext cx="8569440" cy="2346480"/>
        </p:xfrm>
        <a:graphic>
          <a:graphicData uri="http://schemas.openxmlformats.org/drawingml/2006/table">
            <a:tbl>
              <a:tblPr/>
              <a:tblGrid>
                <a:gridCol w="2448000"/>
                <a:gridCol w="1400040"/>
                <a:gridCol w="1552680"/>
                <a:gridCol w="1584360"/>
                <a:gridCol w="1584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1" lang="en-US" sz="14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зота оксидов (N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еры диоксида (S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0" y="33526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ных в эксплуатацию после 01.07.2006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04640"/>
            <a:ext cx="8496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Учитывая создавшееся положение с топливно-энергетическими ресурсами, постоянный рост цен на импортируемое топливо, использование  биомассы является одним из основных приоритетных направлений Концепции    энергетической    безопасности  и   повышения энергетической независимости Республики Беларусь, утвержденной Указом Президента Республики Беларусь от 25 августа 2005 г. №3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Сжигание биомассы возможно в любых котлах при соблюдении требований СТБ 1626.2-2006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При сжигании биомассы необходимо применять первичные меры по снижению уровня выбросов загрязняющих веществ, главным из которых является уменьшение уровня влажности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 При сжигании биомассы необходимо наладить управление процессом горения и оптимизировать режимы работы котлов с учетом влияния на  выбросы слишком низкой температуры горения, слишком коротком времени пребывания топлива в топке, недостатке/избытке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. При сжигании биомассы в существующих котлах необходимо рассмотреть возможность внедрения технологий ступенчатого сжигания и дожигания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3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. При сжигании биомассы необходимо дополнительно применять различное пылегазоочистное оборудование с целью удаления загрязняющих веществ из отходящих газов котла и соблюдения норм их выбросов в атмосферный воздух, установленных в СТБ 1626.2-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. Сжигание биомассы выгодно, однако биомасса - не бесплатное топливо и цена его будет расти. Поэтому для сжигания биомассы необходимо применять соответствующее оборудование, обеспечивающее более полное сжигание топлива с более высоким коэффициентом полезного действия. Использование старых, переоборудованных котлов повлечет за собой неоправданное увеличение потребления топливных ресурсов из-за низкого КПД их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. Реконструкция существующих газомазутных котлов приведет к резкому увеличению потребления топливно-энергетических ресурсов из-за снижения КПД таких котлов, в некоторых случаях до 40-50 процентов. Сжигание биомассы в старых твердотопливных котлах, рассчитанных на применение каменного угля (антрацита), резко ухудшает их технико-экономические характеристики и экологическую обстановку в районе размещения таких ко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99"/>
                </a:solidFill>
                <a:latin typeface="Arial"/>
              </a:rPr>
              <a:t>Выбросы загрязняющих веществ в атмосферный возду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99"/>
                </a:solidFill>
                <a:latin typeface="Arial"/>
              </a:rPr>
              <a:t>Твердые отход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КОЛОГИЧЕСКИЕ АСП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Вследствие расширения практики использования биомассы для производства энергии, увеличивается количество твердых отходов (содержание золы в биомассе колеблется от 0,5 % вес. (на сухую массу) для мягких пород древесины до 4-8 % вес. для коры, в которой характерно повышенное содержание  золы и минеральных примесей (песка, земли, камней)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д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хо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3733920"/>
          <a:ext cx="8991720" cy="2735280"/>
        </p:xfrm>
        <a:graphic>
          <a:graphicData uri="http://schemas.openxmlformats.org/drawingml/2006/table">
            <a:tbl>
              <a:tblPr/>
              <a:tblGrid>
                <a:gridCol w="4496040"/>
                <a:gridCol w="4495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спользуемое биотопли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одержание з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,0 – 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ревесная щепа с корой (лес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0 – 2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ревесная щепа без коры (промышлен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8 – 1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ил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5 – 1,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ожение "О порядке определения степени опасности отходов и установления класса опасности опасных отходов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Постановление Министерства здравоохранения РБ, Министерства природных ресурсов РБ, Министерства по чрезвычайным ситуациям РБ от 30.10.2001г. № 62/23/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Постановление Министерства природных ресурсов РБ, Министерства здравоохранения РБ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 Министерства по чрезвычайным ситуациям РБ о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7 январ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200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г. 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/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3/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д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хо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8. Опасные свойства отходов определяются юридическими лицами и индивидуальными предпринимателями, в ведении которых находятся лаборатории, аккредитованные в системе аккредитации Республики Беларусь, и состоящи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учете в Министерстве природных ресурсов и охраны окружающей среды Республики Беларусь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(далее - Минприр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9. Отбор проб отходов производства и определение опасных свойств отходов производятся по методикам, допущенным к применению в соответствии с законодательств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метрологии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. По результатам определения опасных свойств отходов юридическими лицами и индивидуальными предпринимателями, указанными в пункте 8 настоящей Инструкции, выдается заключение о степени опасности отходов производства и классе опасности опасных отходов производства по форме согласно приложению 2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Экотоксичность –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пособность отходов в случае попадания в окружающую среду представлять немедленно или со временем угрозу для окружающей среды в результате биоаккумулирования и (или) оказывать токсическое воздействие на биотически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Токсичность 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пособность отходов при попадании внутрь организма через органы дыхания, пищеварения или кожу вызывать серьезные, затяжные или хронические заболевания, включая раков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MS Mincho"/>
              </a:rPr>
              <a:t>Классификатор отходов, образующихся в Республике Беларусь</a:t>
            </a:r>
            <a:br>
              <a:rPr sz="19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ОСТАНОВЛЕНИЕ МИНИСТЕРСТВА ПРИРОДНЫХ РЕСУРСОВ И ОХРАНЫ ОКРУЖАЮЩЕЙ СРЕДЫ РЕСПУБЛИКИ БЕЛАРУСЬ  от 8 ноября 2007 г. № 85</a:t>
            </a:r>
            <a:br>
              <a:rPr sz="12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. Золы, шлаки и пыль от термической обработки отходов и от топочных установок (26 позиций)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523880"/>
          <a:ext cx="9144000" cy="5280120"/>
        </p:xfrm>
        <a:graphic>
          <a:graphicData uri="http://schemas.openxmlformats.org/drawingml/2006/table">
            <a:tbl>
              <a:tblPr/>
              <a:tblGrid>
                <a:gridCol w="946080"/>
                <a:gridCol w="7054920"/>
                <a:gridCol w="1143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пыль (летучие) топоч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шлак топоч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обрик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обрик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а с древеси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 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быстрорастущей древесины, зола от сжигания д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древесная, содержащая хром, формальдегид, медь, цинк, никель, кадмий, сви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солом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ко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тходы сжигания кок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ко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тходы сжигания кок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лигн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смеси лигнина с различными компон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 котель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4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шлак печей огневого обезвреживания от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жидких от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брикетов, полученных из смеси обезвоженного осадка сточных вод, содержащая железо, цинк, медь, никель, марганец, свинец, хром, фенол, формальдегид, бенз(а)пирен, фенантр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762120"/>
          <a:ext cx="8915400" cy="4114800"/>
        </p:xfrm>
        <a:graphic>
          <a:graphicData uri="http://schemas.openxmlformats.org/drawingml/2006/table">
            <a:tbl>
              <a:tblPr/>
              <a:tblGrid>
                <a:gridCol w="990720"/>
                <a:gridCol w="6553080"/>
                <a:gridCol w="13716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термического обезвреживания остатков химических производств, содержащая железо, цинк, медь, никель, марганец, свинец, хром, фенол, формальдегид, бенз(а)пирен, фенантр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лигнина, содержащая медь, цинк, никель, марганец, свинец, хром, железо, формальдегид, фен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статки твердые солесодержащие из дымоулавливающих устройств при переработке отходов сжиганием и пироли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статки твердые солесодержащие из дымоулавливающих устройств топочных установок с традиционным топли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и котлов флюидальных на угольном топли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и и золы пиролиз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ошлаковые отходы, содержащие ван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Прочие золошлаковые отходы и пыль от термической обработки отходов и от топочных установок, не вошедшие в группу I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Золы, шлаки и пыль от термической обработки отходов и от топочных установо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4876920"/>
            <a:ext cx="9144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*В случае отсутствия в графе 3 какой-либо записи собственник отходов устанавливает степень опасности отходов производства и класс опасности опасных отходов производства в соответствии с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MS Mincho"/>
              </a:rPr>
              <a:t>Положением о порядке определения степени опасности отходов и установления класса опасности опасных отходов,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утвержденным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MS Mincho"/>
              </a:rPr>
              <a:t>постановлением Министерства здравоохранения Республики Беларусь и Министерства природных ресурсов и охраны окружающей среды Республики Беларусь, Министерства по чрезвычайным ситуациям Республики Беларусь от 30 октября 2001 г. № 62/23/13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(Национальный реестр правовых актов Республики Беларусь, 2001 г., № 116, 8/7512)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0440" cy="6541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10160" y="457200"/>
            <a:ext cx="453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1840" cy="639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4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1360" cy="6665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07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1905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пасибо за внимание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Разработать комплекс мероприятий по обеспечению экологической безопасности котлоагрегатов при переводе их на местные альтернативные виды топлива в процессе решения проблемы энергосбережения»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дание № 13 НТП Республиканской программы «Энергосбережение 2001-2005гг</a:t>
            </a:r>
            <a:r>
              <a:rPr b="0" lang="ru-RU" sz="3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екты, в которых участвов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4528/08-01 о классе токсичности золы от сжигания опилок и отходов древеси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7321/08-01 о классе токсичности золы от сжигания торфобрикетов и торфа с древесин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3144/08-01 о классе токсичности золы от сжигания быстрорастущей древесины и д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Получены заключения Минприроды по классам опасности золы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торфа с древесиной и торфобрикетов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, зола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отходов древесины и опилок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,  зола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быстрорастущей древесины и дров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Разработаны, согласованы с заинтересованными организациями  национальные изменения к межгосударственным стандартам ГОСТ 21563-93 ГОСТ 28193-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РАБОТАННЫЕ ТН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 flipV="1">
            <a:off x="0" y="1522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1-2003 Брикеты торфя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2-2003 Отходы древесные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3-2003 Топливо энергетическое из быстрорастущей древеси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4-2003 Древесина дровяная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 ТУ РБ 100725266.005-2003 Опилки древесные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6-2003 Костра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7-2003 Брикеты лигни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33920"/>
            <a:ext cx="89917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Ч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сновная цель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работка нормативов выбросов загрязняющих веществ от котлоагрегатов, работающих на биом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чет местных особ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СТБ 1626.2-2006</a:t>
            </a: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УСТАНОВКИ КОТЕЛЬНЫЕ, РАБОТАЮЩИЕ НА БИОМАСС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Нормы выбросов загрязняющих веще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lting services for development of emissio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ndards for biomass fired boiler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ract No GR/CQ/04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ниторинг котлоагрег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676520"/>
          <a:ext cx="9144000" cy="4356000"/>
        </p:xfrm>
        <a:graphic>
          <a:graphicData uri="http://schemas.openxmlformats.org/drawingml/2006/table">
            <a:tbl>
              <a:tblPr/>
              <a:tblGrid>
                <a:gridCol w="3060720"/>
                <a:gridCol w="2502000"/>
                <a:gridCol w="1539720"/>
                <a:gridCol w="20415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стонах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ип кот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д топл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Бобруйскмебел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КВР 10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Минскдре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 «КОМКОН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Октябрьской рев-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И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АО «Минскдре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МРАСТ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ветлогорский ЦК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D 083.00.000 Э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чицкий ОПГ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ытовая п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ПП «БелОС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 «КОМКОН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ОО «Волат-1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В-Рм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пилки. 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ализ результатов изучения выбросов загрязняющих веществ в составе дымовых газов из котлоагрегатов, сжигающих биомассу, по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е превышают установленных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превышают установленных пределов (за редким исключением, особенно в случаях сжигания торф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СО как правило превышают установленные пределы (от 1.5 до 5 раз, особенно для малых кот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твердых частиц практически всегда превышают установленные пределы (до 30 раз, особенно для малых кот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зультаты мониторинга и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Коэффициент избытка воздуха в 1.5-4.5 раза выш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еплопроизводительность даже на расчетном топливе не превышает 80% от номинальной, к.п.д. не более 6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опливо, как правило, нестандартн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емпература отходящих дымовых газов за котлом выше значений по 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Перевод на нерасчетный вид топлива изменяет эти показатели в худшую сторону, включая экологические и экономические парамет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ктика эксплуа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Большинство котлоагрегатов переразмерены – установленная мощность заметно превышает тепловую нагруз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Превышение температуры питающей воды на входе в котел из-за не полной утилизации отпускаемой энерг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Тепловая нагрузка меняется в больших пределах (в среднем ±50%) из-за нестабильной работы потребите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Все это является причин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низкого к.п.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перегрева газоходов и дымососов, износа оборуд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высокого удельного расхода топли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заметного превышения выбросов твердых частиц и оксидов углерода в атмосфер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ктика эксплуа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08-04-22T16:33:1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