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1DC2-E0A9-4CBD-A1A6-AA9B7DDF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5E7A-5121-4AA8-AA37-73D4EC6E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813C-41D2-4FA2-BB5C-3982A02E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ACA9-1E69-44E2-A96E-215423F6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59F1-2EF5-4027-A24C-0D127EB4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C2F4-4510-4EEA-B7FA-DF164F35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E22E-132E-42A2-BC88-0DCDF7AB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FFA6-6F7D-4AA5-9B7E-3A5B1033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8D56-543B-463B-AD7B-C1AB6987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30E2-5FEC-4D4D-81CE-06E5E3B2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4246-34E5-48CE-AC5B-E3EC46F4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D78D-6FA4-46D2-827E-730A68D6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ECD3-5BFA-4D61-91D3-3F314E7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F42D-F772-423E-88FA-EEA4FF1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4F48-853C-4CF9-B259-DAC27AEE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022E-9544-4C9E-8404-13F4CC43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CF88-5E3A-47B7-AF59-D00D9167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279C-3917-471D-A849-4DDBEA19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51AA-A688-4F0A-BABB-D80A4CBB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DB20-4386-4359-A9F9-E5D2B375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A027-E83A-48FB-93AF-C386111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82F9-0E27-498C-85D3-E4F09838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9D42-B942-47B1-910A-A6060300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CFD8-4CB7-4679-8EAE-5CDE574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422E-31AE-4A8F-94E3-40C355F1BD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C0B-7F95-400B-8994-3C7B426D9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suvorov@niks.b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5280" y="1700280"/>
            <a:ext cx="6048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терактивная геоинформационная система (ГИС) планирования и поддержки объектов биоэнерге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6200" y="5084640"/>
            <a:ext cx="61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в рамках реализации проекта технической помощи ПРООН/ГЭФ «Применение биомассы для отопления и горячего водоснабжения в Республике Белару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аза данных по ко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549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Результаты оценки количества древесных отходов в лесхозах РБ на 10 лет исходя из плана хозяйствен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400040"/>
          <a:ext cx="803916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00040"/>
                    <a:ext cx="803916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6000" y="475920"/>
            <a:ext cx="8567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Фрагмент карты распределения оценки количества древесных отходов (центры лесных кварталов), и котельных мощностью более 0,5М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1062000"/>
            <a:ext cx="77659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316720" cy="5526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3548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ревоперерабатывающие предприятия. К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570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ревоперерабатывающие предприятия. База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Пример оценки количества древесных от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058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4464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родный сост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1076400"/>
            <a:ext cx="72201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Результат оцен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чёт показал, что на выбранной территории радиусо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 к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ехнически доступн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10тыс. м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лотных) древесных от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достаточно для обеспечения древесным топливом котельной мощность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08МВ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теч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859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иков, Пружаны, Жодино, Пинск, Витебск, 15,30,50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982800"/>
            <a:ext cx="73706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471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оценки количества отходов лесозаготовки, исходя из плана хоз.мероприятий на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000" y="1125360"/>
          <a:ext cx="8496000" cy="4953240"/>
        </p:xfrm>
        <a:graphic>
          <a:graphicData uri="http://schemas.openxmlformats.org/drawingml/2006/table">
            <a:tbl>
              <a:tblPr/>
              <a:tblGrid>
                <a:gridCol w="1655280"/>
                <a:gridCol w="647640"/>
                <a:gridCol w="720720"/>
                <a:gridCol w="677880"/>
                <a:gridCol w="762120"/>
                <a:gridCol w="534960"/>
                <a:gridCol w="617400"/>
                <a:gridCol w="590760"/>
                <a:gridCol w="776160"/>
                <a:gridCol w="720720"/>
                <a:gridCol w="79236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стояние, к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хоз.мер. ель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хоз.мер. сосна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хоз.мер. прочие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ГП ель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ГП сосна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ГП прочие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борка сухостоя ель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борка сухостоя сосна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борка сухостоя прочие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- котельная «Северная» (г.Витебск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02,0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4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4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1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6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1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1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18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94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КУП «Петриковский райжилкомхоз»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26,3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2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5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20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7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63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625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39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4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инская ТЭЦ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88,0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7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4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6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8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4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в г.Пружаны 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02,0 тыс.пл.куб.м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8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46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3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7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9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6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96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одинская ТЭЦ 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30,0 тыс.пл.куб.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Цели проекта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628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ценить эффективность использования отходов заготовки и переработки древесины в качестве топл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уменьшение нагрузок на окружающ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оценки количества отходов лесозаготовки, исходя из плана хоз.мероприятий на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13000"/>
          <a:ext cx="8229600" cy="4241520"/>
        </p:xfrm>
        <a:graphic>
          <a:graphicData uri="http://schemas.openxmlformats.org/drawingml/2006/table">
            <a:tbl>
              <a:tblPr/>
              <a:tblGrid>
                <a:gridCol w="2654280"/>
                <a:gridCol w="878040"/>
                <a:gridCol w="915840"/>
                <a:gridCol w="1069920"/>
                <a:gridCol w="1260720"/>
                <a:gridCol w="145080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стояние, к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 ель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  сосна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  прочие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 , м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- котельная «Северная» (г.Витебск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02,0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2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1029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6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1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396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7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49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107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КУП «Петриковский райжилкомхоз»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26,3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874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6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2878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43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812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инская ТЭЦ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88,0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8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35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87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166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33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21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в г.Пружаны 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02,0 тыс.пл.куб.м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5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898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9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3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59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9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7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8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6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одинская ТЭЦ 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30,0 тыс.пл.куб.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6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7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075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анали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транспортной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276200"/>
            <a:ext cx="7416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анали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6624720" cy="2737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8964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70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одные 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19392" t="12881" r="14583" b="28645"/>
          <a:stretch/>
        </p:blipFill>
        <p:spPr>
          <a:xfrm>
            <a:off x="250920" y="1125360"/>
            <a:ext cx="6535800" cy="5475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05320" y="549360"/>
          <a:ext cx="383868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5320" y="549360"/>
                    <a:ext cx="38386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2479" t="9610" r="0" b="6665"/>
          <a:stretch/>
        </p:blipFill>
        <p:spPr>
          <a:xfrm>
            <a:off x="250920" y="765000"/>
            <a:ext cx="8893080" cy="5369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643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превышений по аз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2248" t="6988" r="660" b="11115"/>
          <a:stretch/>
        </p:blipFill>
        <p:spPr>
          <a:xfrm>
            <a:off x="0" y="765000"/>
            <a:ext cx="8964720" cy="5348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4995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еделение превышений по се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399960"/>
            <a:ext cx="8135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пективы разви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 и внедрение системы обновл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Тел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2278540, Е-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ail: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uvorov@niks.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ww.bioenergy.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gis.bioenergy.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ГИАС состоит из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пологическая основа – электрон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ы данных с привязкой к конкретным географическим объектам на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рументарий обработки и анализа информации, а также моделирования ситуаций и генерации рекомендаций (программное обеспе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ГИАС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7328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регировать различные типы данных по лесам, отходам, ко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расчёт имеющихся ресурсов биомассы, которую можно использовать в качестве топ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транспортных зат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экологических нагру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делать предварительное заключение о целесообразности перевода на древесное топливо того или иног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труктура ГИ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916280"/>
            <a:ext cx="806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345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ко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лес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населённых пун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деревоперерабатывающих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дорож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е сло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S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сист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лесосечного фо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графические слои (реки, озёра, контуры лесных массивов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Фрагмент карты (г.Минск и Минский район)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- топологическая основа для дальнейшей привязк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5364000" cy="3189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5759280" cy="270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414036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Фрагмент карты с нанесением котельных и лесничеств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(в районе г.Ор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04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419040"/>
            <a:ext cx="856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8:14:30Z</dcterms:created>
  <dc:creator>IV</dc:creator>
  <dc:description/>
  <dc:language>en-US</dc:language>
  <cp:lastModifiedBy>!!!</cp:lastModifiedBy>
  <dcterms:modified xsi:type="dcterms:W3CDTF">2008-04-22T20:42:28Z</dcterms:modified>
  <cp:revision>39</cp:revision>
  <dc:subject/>
  <dc:title>Фрагмент карты </dc:title>
</cp:coreProperties>
</file>