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5070-9FB0-463B-A013-7354F64D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858A-F799-4AD3-A3C4-89FA44E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A45F-21AC-4727-9FD6-027B2F77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2FDC-FE07-4B0F-B108-C709DBF2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392-D1C9-4030-B76E-05733436C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1CE9-80F3-407A-83A4-0BF649E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5D0-D918-40B4-A583-160835A7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A7EF-1C41-4706-AC0F-980EEDC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0F07-F540-42D9-AA5E-76C8AD44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1CF-FD72-4C53-BEA0-D15CB25F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B933-B67B-4700-9ADD-D06F8C4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7FE2-A2DE-4549-A647-07F1387D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8A38-164B-4764-A4E2-DEFEA34C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C520-5202-4CB6-96E5-7C77179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B8E0-0EB7-4588-AC58-FB0F3042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5BB2-3EED-4603-BCE3-4281CEDB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7D6-25BE-49DA-B4E5-B2D1B2D2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53D83-46FB-4CF0-9FC3-7918D959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CF0A-6EA4-4A38-B439-9471A6ED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37BB-E593-435C-9843-73F0EB38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87D9-B680-488C-BADC-A753FC9B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64C8-9DC9-4A56-A86E-8FDB1B09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0422-1AC2-459E-9354-EE28D9C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E51C4-7EDC-4B90-805B-DD130041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202F-1815-49B1-9760-B51D1483A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0972-5E0E-4C1D-8870-2E83DA601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suvorov@niks.b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5280" y="1700280"/>
            <a:ext cx="60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терактивная геоинформационная система (ГИС) планирования и поддержки объектов биоэнерге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6200" y="5084640"/>
            <a:ext cx="61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в рамках реализации проекта технической помощи ПРООН/ГЭФ «Применение биомассы для отопления и горячего водоснабжения в Республике Белару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База данных по ко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9640" y="54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Результаты оценки количества древесных отходов в лесхозах РБ на 10 лет исходя из плана хозяйствен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400040"/>
          <a:ext cx="803916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00040"/>
                    <a:ext cx="803916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6000" y="475920"/>
            <a:ext cx="8567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Фрагмент карты распределения оценки количества древесных отходов (центры лесных кварталов), и котельных мощностью более 0,5МВ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280" y="1062000"/>
            <a:ext cx="77659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316720" cy="552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35480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оперерабатывающие предприятия. Кар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570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ревоперерабатывающие предприятия. Баз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Пример оценки количества древесных от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0580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6000" y="476280"/>
            <a:ext cx="44640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родный сост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42920" y="1076400"/>
            <a:ext cx="72201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Результат оцен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чёт показал, что на выбранной территории радиус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 к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технически доступн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0тыс. м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лотных) древесных от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го достаточно для обеспечения древесным топливом котельной мощностью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08МВ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 теч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859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иков, Пружаны, Жодино, Пинск, Витебск, 15,30,50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58920" y="982800"/>
            <a:ext cx="73706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1471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оценки количества отходов лесозаготовки, исходя из плана хоз.мероприятий на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125360"/>
          <a:ext cx="8496000" cy="4953240"/>
        </p:xfrm>
        <a:graphic>
          <a:graphicData uri="http://schemas.openxmlformats.org/drawingml/2006/table">
            <a:tbl>
              <a:tblPr/>
              <a:tblGrid>
                <a:gridCol w="1655280"/>
                <a:gridCol w="647640"/>
                <a:gridCol w="720720"/>
                <a:gridCol w="677880"/>
                <a:gridCol w="762120"/>
                <a:gridCol w="534960"/>
                <a:gridCol w="617400"/>
                <a:gridCol w="590760"/>
                <a:gridCol w="776160"/>
                <a:gridCol w="720720"/>
                <a:gridCol w="79236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стояние, 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хоз.мер.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ГП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борка сухостоя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- котельная «Северная» (г.Витебск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4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4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1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1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1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18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3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КУП «Петриковский райжилкомхоз»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26,3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2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5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20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7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63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25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39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4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инская ТЭЦ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88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7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4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80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4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0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в г.Пружаны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0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8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6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4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3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9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6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9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одинская ТЭЦ 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30,0 тыс.пл.куб.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Цели проекта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62800" cy="36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оценить эффективность использования отходов заготовки и переработки древесины в качестве топл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уменьшение нагрузок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оценки количества отходов лесозаготовки, исходя из плана хоз.мероприятий на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413000"/>
          <a:ext cx="8229600" cy="4241520"/>
        </p:xfrm>
        <a:graphic>
          <a:graphicData uri="http://schemas.openxmlformats.org/drawingml/2006/table">
            <a:tbl>
              <a:tblPr/>
              <a:tblGrid>
                <a:gridCol w="2654280"/>
                <a:gridCol w="878040"/>
                <a:gridCol w="915840"/>
                <a:gridCol w="1069920"/>
                <a:gridCol w="1260720"/>
                <a:gridCol w="1450800"/>
              </a:tblGrid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те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асстояние, к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ель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 сосна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 прочие, 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 , м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- котельная «Северная» (г.Витебск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2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02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6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1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96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0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7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49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07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КУП «Петриковский райжилкомхоз»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26,3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74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0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6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2878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436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2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12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инская ТЭЦ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88,0 тыс.пл.куб.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8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35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9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4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87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166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6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33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21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ЭЦ в г.Пружаны 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02,0 тыс.пл.куб.м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5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898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9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3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459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9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37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8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 Cyr"/>
                        </a:rPr>
                        <a:t>66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одинская ТЭЦ  </a:t>
                      </a:r>
                      <a:br>
                        <a:rPr sz="900"/>
                      </a:b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(130,0 тыс.пл.куб.м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8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6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77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07552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 анали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 транспортной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276200"/>
            <a:ext cx="7416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6624720" cy="2737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896472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5770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е эко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19392" t="12881" r="14583" b="28645"/>
          <a:stretch/>
        </p:blipFill>
        <p:spPr>
          <a:xfrm>
            <a:off x="250920" y="1125360"/>
            <a:ext cx="6535800" cy="5475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05320" y="549360"/>
          <a:ext cx="3838680" cy="22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5320" y="549360"/>
                    <a:ext cx="38386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479" t="9610" r="0" b="6665"/>
          <a:stretch/>
        </p:blipFill>
        <p:spPr>
          <a:xfrm>
            <a:off x="250920" y="765000"/>
            <a:ext cx="8893080" cy="5369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643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превышений по аз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2248" t="6988" r="660" b="11115"/>
          <a:stretch/>
        </p:blipFill>
        <p:spPr>
          <a:xfrm>
            <a:off x="0" y="765000"/>
            <a:ext cx="8964720" cy="5348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4995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ие превышений по с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399960"/>
            <a:ext cx="81356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спективы разви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а и внедрение системы обновл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Тел.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7d"/>
                </a:solidFill>
                <a:latin typeface="Arial"/>
              </a:rPr>
              <a:t> 2278540, Е-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ail: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uvorov@niks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ww.bioenergy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gis.bioenergy.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ГИАС состоит из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пологическая основа – электрон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ы данных с привязкой к конкретным географическим объектам на к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рументарий обработки и анализа информации, а также моделирования ситуаций и генерации рекомендаций (программное обеспеч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ГИАС позво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7328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грегировать различные типы данных по лесам, отходам, котель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расчёт имеющихся ресурсов биомассы, которую можно использовать в качестве топ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транспортных зат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экологических нагру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делать предварительное заключение о целесообразности перевода на древесное топливо того или иного объ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Структура ГИ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916280"/>
            <a:ext cx="806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345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ко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лес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населённых пун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деревоперерабатывающих пред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й дорож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е сло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S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сист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лесосечного ф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графические слои (реки, озёра, контуры лесных массивов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(г.Минск и Минский район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- топологическая основа для дальнейшей привязк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5364000" cy="3189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5759280" cy="270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036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Фрагмент карты с нанесением котельных и лесничеств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(в районе г.Орш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704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419040"/>
            <a:ext cx="8569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8:14:30Z</dcterms:created>
  <dc:creator>IV</dc:creator>
  <dc:description/>
  <dc:language>en-US</dc:language>
  <cp:lastModifiedBy>!!!</cp:lastModifiedBy>
  <dcterms:modified xsi:type="dcterms:W3CDTF">2008-04-22T20:42:28Z</dcterms:modified>
  <cp:revision>39</cp:revision>
  <dc:subject/>
  <dc:title>Фрагмент карты </dc:title>
</cp:coreProperties>
</file>