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png" ContentType="image/png"/>
  <Override PartName="/ppt/media/image9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198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652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22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76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22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76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652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7198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5652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22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76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22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76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652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67320" cy="151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27972"/>
          <a:stretch/>
        </p:blipFill>
        <p:spPr>
          <a:xfrm>
            <a:off x="0" y="990720"/>
            <a:ext cx="286056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2" marL="1143000" indent="-228600">
              <a:spcBef>
                <a:spcPts val="1624"/>
              </a:spcBef>
              <a:buClr>
                <a:srgbClr val="f0f7e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3" marL="1600200" indent="-228600">
              <a:spcBef>
                <a:spcPts val="1624"/>
              </a:spcBef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4" marL="2057400" indent="-228600">
              <a:spcBef>
                <a:spcPts val="1624"/>
              </a:spcBef>
              <a:buClr>
                <a:srgbClr val="f0f7e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cc33"/>
                </a:solidFill>
                <a:latin typeface="Arial Narrow"/>
              </a:rPr>
              <a:t>slide </a:t>
            </a:r>
            <a:fld id="{F8E59819-DFB7-41F1-9464-E5E9A20C66F4}" type="slidenum">
              <a:rPr b="1" lang="en-GB" sz="1400" spc="-1" strike="noStrike">
                <a:solidFill>
                  <a:srgbClr val="99cc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458200" y="0"/>
            <a:ext cx="534960" cy="3428640"/>
            <a:chOff x="8458200" y="0"/>
            <a:chExt cx="534960" cy="3428640"/>
          </a:xfrm>
        </p:grpSpPr>
        <p:pic>
          <p:nvPicPr>
            <p:cNvPr id="6" name="foto1" descr=""/>
            <p:cNvPicPr/>
            <p:nvPr/>
          </p:nvPicPr>
          <p:blipFill>
            <a:blip r:embed="rId4"/>
            <a:srcRect l="17462" t="0" r="50006" b="0"/>
            <a:stretch/>
          </p:blipFill>
          <p:spPr>
            <a:xfrm>
              <a:off x="8458200" y="0"/>
              <a:ext cx="5335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foto2" descr=""/>
            <p:cNvPicPr/>
            <p:nvPr/>
          </p:nvPicPr>
          <p:blipFill>
            <a:blip r:embed="rId5"/>
            <a:srcRect l="50044" t="0" r="22460" b="0"/>
            <a:stretch/>
          </p:blipFill>
          <p:spPr>
            <a:xfrm>
              <a:off x="8458200" y="1143000"/>
              <a:ext cx="53352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foto3" descr=""/>
            <p:cNvPicPr/>
            <p:nvPr/>
          </p:nvPicPr>
          <p:blipFill>
            <a:blip r:embed="rId6"/>
            <a:srcRect l="24914" t="0" r="44998" b="0"/>
            <a:stretch/>
          </p:blipFill>
          <p:spPr>
            <a:xfrm>
              <a:off x="8458200" y="2285640"/>
              <a:ext cx="53496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7448400" y="5059440"/>
            <a:ext cx="1695600" cy="17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oog_top" descr=""/>
          <p:cNvPicPr/>
          <p:nvPr/>
        </p:nvPicPr>
        <p:blipFill>
          <a:blip r:embed="rId2"/>
          <a:stretch/>
        </p:blipFill>
        <p:spPr>
          <a:xfrm>
            <a:off x="2514600" y="0"/>
            <a:ext cx="4191120" cy="1100160"/>
          </a:xfrm>
          <a:prstGeom prst="rect">
            <a:avLst/>
          </a:prstGeom>
          <a:ln w="0">
            <a:noFill/>
          </a:ln>
        </p:spPr>
      </p:pic>
      <p:pic>
        <p:nvPicPr>
          <p:cNvPr id="49" name="BTG%20logo%20color%20and%20text%20-%20alt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676520" cy="6062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0" y="1380960"/>
            <a:ext cx="9143280" cy="1066680"/>
            <a:chOff x="0" y="1380960"/>
            <a:chExt cx="9143280" cy="1066680"/>
          </a:xfrm>
        </p:grpSpPr>
        <p:pic>
          <p:nvPicPr>
            <p:cNvPr id="51" name="foto1" descr=""/>
            <p:cNvPicPr/>
            <p:nvPr/>
          </p:nvPicPr>
          <p:blipFill>
            <a:blip r:embed="rId4"/>
            <a:stretch/>
          </p:blipFill>
          <p:spPr>
            <a:xfrm>
              <a:off x="0" y="1380960"/>
              <a:ext cx="30492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foto2" descr=""/>
            <p:cNvPicPr/>
            <p:nvPr/>
          </p:nvPicPr>
          <p:blipFill>
            <a:blip r:embed="rId5"/>
            <a:stretch/>
          </p:blipFill>
          <p:spPr>
            <a:xfrm>
              <a:off x="3049200" y="1380960"/>
              <a:ext cx="304704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foto3" descr=""/>
            <p:cNvPicPr/>
            <p:nvPr/>
          </p:nvPicPr>
          <p:blipFill>
            <a:blip r:embed="rId6"/>
            <a:stretch/>
          </p:blipFill>
          <p:spPr>
            <a:xfrm>
              <a:off x="6096240" y="1380960"/>
              <a:ext cx="3047040" cy="10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2" marL="914400" algn="ctr">
              <a:buClr>
                <a:srgbClr val="f0f7e1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f0f7e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7e1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f0f7e1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f0f7e1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7e1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f0f7e1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7e1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f0f7e1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7e1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tgworld.com/" TargetMode="External"/><Relationship Id="rId2" Type="http://schemas.openxmlformats.org/officeDocument/2006/relationships/hyperlink" Target="http://www.btgworld.com/" TargetMode="External"/><Relationship Id="rId3" Type="http://schemas.openxmlformats.org/officeDocument/2006/relationships/hyperlink" Target="http://www.btgworld.com/" TargetMode="External"/><Relationship Id="rId4" Type="http://schemas.openxmlformats.org/officeDocument/2006/relationships/hyperlink" Target="http://www.lev.at/" TargetMode="External"/><Relationship Id="rId5" Type="http://schemas.openxmlformats.org/officeDocument/2006/relationships/hyperlink" Target="http://www.lev.at/" TargetMode="External"/><Relationship Id="rId6" Type="http://schemas.openxmlformats.org/officeDocument/2006/relationships/hyperlink" Target="http://www.lev.at/" TargetMode="External"/><Relationship Id="rId7" Type="http://schemas.openxmlformats.org/officeDocument/2006/relationships/hyperlink" Target="http://www.ecoharmony.com/" TargetMode="External"/><Relationship Id="rId8" Type="http://schemas.openxmlformats.org/officeDocument/2006/relationships/hyperlink" Target="http://www.ecoharmony.com/" TargetMode="External"/><Relationship Id="rId9" Type="http://schemas.openxmlformats.org/officeDocument/2006/relationships/hyperlink" Target="http://www.ecoharmony.com/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828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cc33"/>
                </a:solidFill>
                <a:latin typeface="Arial"/>
              </a:rPr>
              <a:t>BTG Biomass Technology Group B.V.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f7e1"/>
                </a:solidFill>
                <a:latin typeface="Arial"/>
              </a:rPr>
              <a:t>Overview of the international consortium’s role and activitie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Final Seminar, UNDP/GEF Belarus Bioenergy Project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0f7e1"/>
                </a:solidFill>
                <a:latin typeface="Arial Narrow"/>
              </a:rPr>
              <a:t>22-23 April 2008, Belarus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Revolving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F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und establishment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&amp; 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development of investment projects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(1/3)</a:t>
            </a:r>
            <a:endParaRPr b="1" lang="en-US" sz="32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project established a Revolving Fund, enabling investments in follow-up bioenergy and biofuel projects. 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The fund was initially filled by contributions from UNDP/GEF and the 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Belarus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Government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 (USD 1.54 Million each)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The fund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 would be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replenished by repayments from the demo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project owners and by funding from the Committee on Energy Efficiency.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0" y="1523880"/>
          <a:ext cx="4191120" cy="43243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lv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in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6% interest rate for USD lo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1% interest rate for USD lo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% interest rate for national currency lo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5% interest rate for national currency lo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e period up to 1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e period subject to negoti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Revolving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F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und establishment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&amp; 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development of investment projects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(2/3)</a:t>
            </a:r>
            <a:endParaRPr b="1" lang="en-US" sz="32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ECO experts Mr. Ballard-Tremeer, Ms. Hegedus and Ms. Legro 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itial activities</a:t>
            </a: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 of the ECO experts covered: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Selection and development a portfolio of bioenergy project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Financing of a portfolio of bioenergy project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Specific activiti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04-2006</a:t>
            </a: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Preparation of a briefing note on Financing Biomass Projects (2004)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Preparation of a briefing note on the judicial status of Revolving Funds set-up in various Central European and Baltic countries (Sept. 2005)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Review of 10 detailed energy audits and feasibility studies prepared by the local consultant BelTEI (Belarusian Thermal Engineering Institute) 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Assisting BelTEI improving the feasibility analyse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Using the BelTEI reports as input for business plan development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Support to the development of the National Biomass Energy Strategy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Revolving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F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und establishment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&amp; 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development of investment projects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(3/3)</a:t>
            </a:r>
            <a:endParaRPr b="1" lang="en-US" sz="32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Later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additional tasks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 for the ECO experts were agreed: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Mapping of potential contributors (donors) to the revolving fund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Preparation of formal project documents (PIN, PDD) for biomass-based carbon emission reduction project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Specific activities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008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Research on funding patterns and requirements for relevant bilateral and multilateral donors; preparation of donor profile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P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reparation of five investor profiles 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Preparing bankable bioenergy investment project proposal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Follow-up with promising potential investors, including carbon financier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TA on the Voluntary Emission Reductions market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Lectures on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project seminar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s in December 2007 and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April 2008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Awareness raising &amp; training (1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bjective:</a:t>
            </a: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increase the awareness and knowledge on bioenergy in Belarus, and assure dissemination of the project’s results among relevant Belarusian target groups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in services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 provided by </a:t>
            </a: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the consortium (in particular BTG expert John Vos) 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in this area concerned: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Development of training material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Organisation of study tour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Giving lectures at project seminars and training courses 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Production of promotion material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Special attention to carbon project development issue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Awareness raising &amp; training (2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Wood Energy Brochure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Best Practice Guidebook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Volume 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A: Biomass combustion 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Volume 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B: Forest fuel supply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marL="343080" indent="-343080"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Fact sheet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/ Briefing notes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Schemes of innovative biomass projects funding approaches (July 2004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Information about the judicial status of various Revolving Funds (Sept 2005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Financial Support for Bioelectricity in the EU (February 2006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Developing biomass-based JI projects in Belarus (February 2006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The Forest Fuel Market in Finland (November 2006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The Forest Woodchip Market in Austria (December 2006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Biomass ash utilization (June 2007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Awareness raising &amp; training (3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our study tours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October 2004 (AT): wood harvesting methods 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April 2005 (AT/CZ): biomass combustion equipment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October 2005 (FIN): training course on technologies and logistics of biofuel production (classroom sessions + site visits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April 2006 (SW): forest biomass production / biomass combustion for district heating and cogeneration (CHP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Twelve (12)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ectures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 at project seminars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Project promotion at international conferences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Central European Biomass Conference, Graz (AT), January 2005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14</a:t>
            </a:r>
            <a:r>
              <a:rPr b="0" lang="en-US" sz="2000" spc="-1" strike="noStrike" baseline="30000">
                <a:solidFill>
                  <a:srgbClr val="f0f7e1"/>
                </a:solidFill>
                <a:latin typeface="Arial Narrow"/>
              </a:rPr>
              <a:t>th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 European Biomass Conference, Paris (F), October 2005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Central European Biomass Conference, Graz (AT), January 2008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Broader Renew. Energy support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Other consortium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inputs: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 Narrow"/>
              </a:rPr>
              <a:t>Project </a:t>
            </a:r>
            <a:r>
              <a:rPr b="0" lang="en-US" sz="2200" spc="-1" strike="noStrike">
                <a:solidFill>
                  <a:srgbClr val="ffff00"/>
                </a:solidFill>
                <a:latin typeface="Arial Narrow"/>
              </a:rPr>
              <a:t>management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: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coordination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 the team of international experts; preparation of quarterly progress reports (total of 16), etc. 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Narrow"/>
              </a:rPr>
              <a:t>Information </a:t>
            </a:r>
            <a:r>
              <a:rPr b="0" lang="en-GB" sz="2200" spc="-1" strike="noStrike">
                <a:solidFill>
                  <a:srgbClr val="ffff00"/>
                </a:solidFill>
                <a:latin typeface="Arial Narrow"/>
              </a:rPr>
              <a:t>exchange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and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assistance on renewable energy 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(RE)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policy development, with special attention to bioenergy policy and on bioenergy system implementation, with special attention to biomass district heating.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86200"/>
            <a:ext cx="5257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A </a:t>
            </a:r>
            <a:r>
              <a:rPr b="0" lang="en-GB" sz="2200" spc="-1" strike="noStrike">
                <a:solidFill>
                  <a:srgbClr val="ffff00"/>
                </a:solidFill>
                <a:latin typeface="Arial Narrow"/>
              </a:rPr>
              <a:t>Twinning </a:t>
            </a:r>
            <a:r>
              <a:rPr b="0" lang="en-US" sz="2200" spc="-1" strike="noStrike">
                <a:solidFill>
                  <a:srgbClr val="ffff00"/>
                </a:solidFill>
                <a:latin typeface="Arial Narrow"/>
              </a:rPr>
              <a:t>Agreement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 was negotiated between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RUP Belinvestenergoberezhenie and LandesEnergieVerein 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(LEV)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Steiermark, formalising international co-operation, knowledge transfer and information exchange on renewable energy issues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. The Agreement was signed in July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onsortium contributions (1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Supporting the work of the local project team and stakeholder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Focused technical assistance in pre-identified area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Bringing the local project team in contact with leading European equipment manufacturer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Showcasing policies, plants and practices in use in leading bioenergy countries in Europe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Flexible approach to accommodate changes in the needs and demands for T.A. on specific issues (e.g. carbon project development issues)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onsortium contributions (2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18 person-months of technical assistance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T.A. on biomass boiler and forest fuel supply demo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Review of 10 detailed energy audits and feasibility studie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Targeted assistance on the development of carbon credit project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Preparation of carbon credits paperwork (PIN, PDD) 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Four study tours to leading EU bio-energy countrie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Twelve presentations during project seminars and training course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More than 20 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T.A.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missions to Belarus and elsewhere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1 wood energy brochure, 2 best practice guidebooks, and 7 fact sheets / briefing note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Project promotion at 3 leading international bioenergy conference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The end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7e1"/>
                </a:solidFill>
                <a:latin typeface="Arial"/>
              </a:rPr>
              <a:t>Thank you !</a:t>
            </a:r>
            <a:endParaRPr b="0" lang="en-US" sz="2800" spc="-1" strike="noStrike">
              <a:solidFill>
                <a:srgbClr val="f0f7e1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Contact: 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John Vo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BTG Biomass Technology Group BV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P.O. Box 217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,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7500 AE Enschede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,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The Netherland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Tel. +31-53-4861186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; Email: vos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@btgworld.com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Scope of presentation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Consortium composition and focus area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T.A. services to demo project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Geographic Information System 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(GIS)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development 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Revolving Fund establishment &amp; development of investment project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Awareness raising &amp; 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technical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Broader 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Renewable Energy (RE)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support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Consortium contribution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onsortium composition (1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Consortium composition: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BTG Biomass Technology Group BV (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btgworld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3"/>
              </a:rPr>
              <a:t>.com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)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NL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LEV LandesEnergieVerein Steiermark (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4"/>
              </a:rPr>
              <a:t>www.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5"/>
              </a:rPr>
              <a:t>lev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6"/>
              </a:rPr>
              <a:t>.at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), Austria 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Eco Ltd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.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 (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7"/>
              </a:rPr>
              <a:t>www.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8"/>
              </a:rPr>
              <a:t>ecoharmony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9"/>
              </a:rPr>
              <a:t>.com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), United Kingdom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Consortium objectives: providing support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To 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offer European experience and 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expertise 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to help 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ensure the successful implementation of the project; and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To facilitate twinning activities between Belarus and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 Austria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ocus areas: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1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Technical advisory services to demo project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2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Geographic Information System development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3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Revolving fund establishment 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&amp; 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development of inv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. 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projects 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4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Development of a replication (scaling-up) plan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5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Awareness raising and technical training 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6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Broader support in the 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renewable energy 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field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3929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1644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onsortium composition (2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3200400"/>
          <a:ext cx="8001000" cy="305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00100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LEVLOGCO" descr=""/>
          <p:cNvPicPr/>
          <p:nvPr/>
        </p:nvPicPr>
        <p:blipFill>
          <a:blip r:embed="rId3"/>
          <a:stretch/>
        </p:blipFill>
        <p:spPr>
          <a:xfrm>
            <a:off x="3927600" y="1523880"/>
            <a:ext cx="1287360" cy="1279800"/>
          </a:xfrm>
          <a:prstGeom prst="rect">
            <a:avLst/>
          </a:prstGeom>
          <a:ln w="0">
            <a:noFill/>
          </a:ln>
        </p:spPr>
      </p:pic>
      <p:pic>
        <p:nvPicPr>
          <p:cNvPr id="103" name="logo (print) - no ltd" descr=""/>
          <p:cNvPicPr/>
          <p:nvPr/>
        </p:nvPicPr>
        <p:blipFill>
          <a:blip r:embed="rId4"/>
          <a:stretch/>
        </p:blipFill>
        <p:spPr>
          <a:xfrm>
            <a:off x="5715000" y="1905120"/>
            <a:ext cx="1676520" cy="1245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400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TG logo color and text" descr=""/>
          <p:cNvPicPr/>
          <p:nvPr/>
        </p:nvPicPr>
        <p:blipFill>
          <a:blip r:embed="rId5"/>
          <a:stretch/>
        </p:blipFill>
        <p:spPr>
          <a:xfrm>
            <a:off x="228600" y="1143000"/>
            <a:ext cx="327672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T.A. services to demo projects (1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wo LEV experts: Messrs. Schuster &amp; Wildbacher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Main T.A. activities: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Four missions to Belarus between June 2004 and end 2007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Mission activity reports and supporting documents including technical discussions, remarks &amp; recommendations 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Further technical support through email, phone calls etc.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Lectures at the project workshops and seminar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Organizing/supporting/participating in study tour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T.A. services to demo projects (2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505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LEV expert Schuster 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provided expertise to help assure the successful preparation and implementation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est fuel supply demo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048200" cy="2702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1295280"/>
            <a:ext cx="4190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Vileika forestry enterprise (biomass processing and supply to CH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47680" y="4419720"/>
            <a:ext cx="3424320" cy="2176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563868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Forest wood chips for use at Vile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T.A. services to demo projects (3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LEV expert Wildbacher 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provided expertise to help assure the successful preparation and implementation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oiler demonstration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ojec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1. Boiler house of private company Volat-1 (2 times 1MW</a:t>
            </a:r>
            <a:r>
              <a:rPr b="0" lang="en-US" sz="2400" spc="-1" strike="noStrike" baseline="-25000">
                <a:solidFill>
                  <a:srgbClr val="f0f7e1"/>
                </a:solidFill>
                <a:latin typeface="Arial Narrow"/>
              </a:rPr>
              <a:t>th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2. CHP 2.5MW</a:t>
            </a:r>
            <a:r>
              <a:rPr b="0" lang="en-US" sz="2400" spc="-1" strike="noStrike" baseline="-25000">
                <a:solidFill>
                  <a:srgbClr val="f0f7e1"/>
                </a:solidFill>
                <a:latin typeface="Arial Narrow"/>
              </a:rPr>
              <a:t>el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 of JSC Mostovdrev (conversion to CHP)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3. CHP 2.4 MW</a:t>
            </a:r>
            <a:r>
              <a:rPr b="0" lang="en-US" sz="2400" spc="-1" strike="noStrike" baseline="-25000">
                <a:solidFill>
                  <a:srgbClr val="f0f7e1"/>
                </a:solidFill>
                <a:latin typeface="Arial Narrow"/>
              </a:rPr>
              <a:t>el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 of Minskenergo in Vileika (new unit)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4. CHP 1.5 MW</a:t>
            </a:r>
            <a:r>
              <a:rPr b="0" lang="en-US" sz="2400" spc="-1" strike="noStrike" baseline="-25000">
                <a:solidFill>
                  <a:srgbClr val="f0f7e1"/>
                </a:solidFill>
                <a:latin typeface="Arial Narrow"/>
              </a:rPr>
              <a:t>el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 of Vitebskenergo BelGRES, Orekhovsk (new unit)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</p:txBody>
      </p:sp>
      <p:pic>
        <p:nvPicPr>
          <p:cNvPr id="116" name="boiler%201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2667240" cy="1830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0720" y="45720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Volat-1, Uz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oiler%202" descr=""/>
          <p:cNvPicPr/>
          <p:nvPr/>
        </p:nvPicPr>
        <p:blipFill>
          <a:blip r:embed="rId2"/>
          <a:stretch/>
        </p:blipFill>
        <p:spPr>
          <a:xfrm>
            <a:off x="3429000" y="4952880"/>
            <a:ext cx="2514600" cy="1809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48040" y="4572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stovd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oiler%203" descr=""/>
          <p:cNvPicPr/>
          <p:nvPr/>
        </p:nvPicPr>
        <p:blipFill>
          <a:blip r:embed="rId3"/>
          <a:stretch/>
        </p:blipFill>
        <p:spPr>
          <a:xfrm>
            <a:off x="6324480" y="4952880"/>
            <a:ext cx="2667240" cy="1801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0" y="4572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le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cc33"/>
                </a:solidFill>
                <a:latin typeface="Arial"/>
              </a:rPr>
              <a:t>Geographic Information System (GIS) development</a:t>
            </a: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 (1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A GIS system is a software system which combines geographical information about the location of forest resources, sources of wood residues, existing boiler houses, potential biofuel users, and available infrastructure (roads, railways, etc.) 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GIS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system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is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a tool for project developers and decision makers, providing information necessary for energy planning, identifying fuel switch project opportunities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The development of the GIS system was done by local experts.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LEV expert Mr.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Gallaun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assisted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local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team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on the construction of the GIS system, and on the application of the GIS to the biofuel planning process. 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cc33"/>
                </a:solidFill>
                <a:latin typeface="Arial"/>
              </a:rPr>
              <a:t>Geographic Information System (GIS) development</a:t>
            </a: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 (2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508040"/>
            <a:ext cx="670572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5:36:44Z</dcterms:created>
  <dc:creator>btg-bb</dc:creator>
  <dc:description/>
  <dc:language>en-US</dc:language>
  <cp:lastModifiedBy>John Vos</cp:lastModifiedBy>
  <cp:lastPrinted>2005-11-23T08:58:08Z</cp:lastPrinted>
  <dcterms:modified xsi:type="dcterms:W3CDTF">2008-04-22T20:35:47Z</dcterms:modified>
  <cp:revision>272</cp:revision>
  <dc:subject/>
  <dc:title>No Slide Title</dc:title>
</cp:coreProperties>
</file>