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FF6-24A6-4274-B5E7-A25CAAB8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9D3-671C-44DD-92CC-4B9BC1B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129-14CD-4BD1-AB3E-1B142B93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9D9-CEED-45F4-B403-DCC0E447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A3D-3ECF-4696-81BF-6422E4E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380-DFE5-4F8D-A6E6-94C0E97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5B1-F02F-4FFB-BA77-BB3021D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6FE-9BA6-4B77-A6EE-9368715D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030-B83E-4A17-B40B-BBAB752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2BA-2609-4A7B-AA29-92686AA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C85-761D-4196-88C1-3961C56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A51-D3D2-45C9-B67B-9A05F7C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63D-740A-4377-831F-0F23FE55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МАСШТАБНОГО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Я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НОГО ТОПЛИ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рма Роман Ростислав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энергоэффе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553080" y="4800600"/>
            <a:ext cx="2136960" cy="1819440"/>
            <a:chOff x="6553080" y="4800600"/>
            <a:chExt cx="2136960" cy="1819440"/>
          </a:xfrm>
        </p:grpSpPr>
        <p:pic>
          <p:nvPicPr>
            <p:cNvPr id="45" name="GEFcolor" descr=""/>
            <p:cNvPicPr/>
            <p:nvPr/>
          </p:nvPicPr>
          <p:blipFill>
            <a:blip r:embed="rId1"/>
            <a:stretch/>
          </p:blipFill>
          <p:spPr>
            <a:xfrm>
              <a:off x="6553080" y="5638680"/>
              <a:ext cx="102240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bundp20mm" descr=""/>
            <p:cNvPicPr/>
            <p:nvPr/>
          </p:nvPicPr>
          <p:blipFill>
            <a:blip r:embed="rId2"/>
            <a:stretch/>
          </p:blipFill>
          <p:spPr>
            <a:xfrm>
              <a:off x="7772400" y="4800600"/>
              <a:ext cx="917640" cy="181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63384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76680" cy="47527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7772400" y="1447920"/>
            <a:ext cx="1052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2209680" y="609480"/>
            <a:ext cx="5276880" cy="6096240"/>
            <a:chOff x="2209680" y="609480"/>
            <a:chExt cx="5276880" cy="6096240"/>
          </a:xfrm>
        </p:grpSpPr>
        <p:grpSp>
          <p:nvGrpSpPr>
            <p:cNvPr id="647" name=""/>
            <p:cNvGrpSpPr/>
            <p:nvPr/>
          </p:nvGrpSpPr>
          <p:grpSpPr>
            <a:xfrm>
              <a:off x="2212920" y="611640"/>
              <a:ext cx="5270400" cy="6091200"/>
              <a:chOff x="2212920" y="611640"/>
              <a:chExt cx="5270400" cy="609120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2212920" y="611640"/>
                <a:ext cx="1913040" cy="1015200"/>
                <a:chOff x="2212920" y="611640"/>
                <a:chExt cx="1913040" cy="10152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2281320" y="611640"/>
                  <a:ext cx="177624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 сырь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212920" y="611640"/>
                  <a:ext cx="191304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4125960" y="611640"/>
                <a:ext cx="3357360" cy="507600"/>
                <a:chOff x="4125960" y="611640"/>
                <a:chExt cx="3357360" cy="5076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194000" y="611640"/>
                  <a:ext cx="3221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млн. куб. м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25960" y="611640"/>
                  <a:ext cx="335736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125960" y="1119240"/>
                <a:ext cx="831600" cy="507600"/>
                <a:chOff x="4125960" y="1119240"/>
                <a:chExt cx="831600" cy="5076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194000" y="11192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125960" y="11192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4957560" y="1119240"/>
                <a:ext cx="828720" cy="507600"/>
                <a:chOff x="4957560" y="1119240"/>
                <a:chExt cx="828720" cy="5076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025960" y="11192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957560" y="11192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786280" y="1119240"/>
                <a:ext cx="874800" cy="507600"/>
                <a:chOff x="5786280" y="1119240"/>
                <a:chExt cx="874800" cy="5076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854680" y="11192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786280" y="11192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6661080" y="1119240"/>
                <a:ext cx="822240" cy="507600"/>
                <a:chOff x="6661080" y="1119240"/>
                <a:chExt cx="822240" cy="5076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6729480" y="11192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661080" y="11192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212920" y="1626840"/>
                <a:ext cx="1913040" cy="507600"/>
                <a:chOff x="2212920" y="1626840"/>
                <a:chExt cx="1913040" cy="5076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281320" y="1626840"/>
                  <a:ext cx="177624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пливное сырье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212920" y="1626840"/>
                  <a:ext cx="19130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125960" y="1626840"/>
                <a:ext cx="831600" cy="507600"/>
                <a:chOff x="4125960" y="1626840"/>
                <a:chExt cx="831600" cy="50760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194000" y="16268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125960" y="16268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957560" y="1626840"/>
                <a:ext cx="828720" cy="507600"/>
                <a:chOff x="4957560" y="1626840"/>
                <a:chExt cx="828720" cy="5076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025960" y="16268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57560" y="16268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786280" y="1626840"/>
                <a:ext cx="874800" cy="507600"/>
                <a:chOff x="5786280" y="1626840"/>
                <a:chExt cx="874800" cy="5076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854680" y="16268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86280" y="16268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661080" y="1626840"/>
                <a:ext cx="822240" cy="507600"/>
                <a:chOff x="6661080" y="1626840"/>
                <a:chExt cx="822240" cy="5076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729480" y="16268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661080" y="16268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2212920" y="2134440"/>
                <a:ext cx="1913040" cy="676800"/>
                <a:chOff x="2212920" y="2134440"/>
                <a:chExt cx="1913040" cy="6768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2281320" y="21344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з отходов деревообработки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212920" y="21344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125960" y="2134440"/>
                <a:ext cx="831600" cy="676800"/>
                <a:chOff x="4125960" y="2134440"/>
                <a:chExt cx="831600" cy="6768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194000" y="21344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25960" y="21344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957560" y="2134440"/>
                <a:ext cx="828720" cy="676800"/>
                <a:chOff x="4957560" y="2134440"/>
                <a:chExt cx="828720" cy="676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025960" y="21344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957560" y="21344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786280" y="2134440"/>
                <a:ext cx="874800" cy="676800"/>
                <a:chOff x="5786280" y="2134440"/>
                <a:chExt cx="874800" cy="6768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854680" y="21344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86280" y="21344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661080" y="2134440"/>
                <a:ext cx="822240" cy="676800"/>
                <a:chOff x="6661080" y="2134440"/>
                <a:chExt cx="822240" cy="6768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729480" y="21344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661080" y="21344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2212920" y="2811240"/>
                <a:ext cx="1913040" cy="676800"/>
                <a:chOff x="2212920" y="2811240"/>
                <a:chExt cx="1913040" cy="6768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2281320" y="28112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готавливаемое в лесу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12920" y="28112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4125960" y="2811240"/>
                <a:ext cx="831600" cy="676800"/>
                <a:chOff x="4125960" y="2811240"/>
                <a:chExt cx="831600" cy="6768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4194000" y="28112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125960" y="28112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957560" y="2811240"/>
                <a:ext cx="828720" cy="676800"/>
                <a:chOff x="4957560" y="2811240"/>
                <a:chExt cx="828720" cy="6768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025960" y="28112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957560" y="28112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786280" y="2811240"/>
                <a:ext cx="874800" cy="676800"/>
                <a:chOff x="5786280" y="2811240"/>
                <a:chExt cx="874800" cy="6768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854680" y="28112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786280" y="28112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661080" y="2811240"/>
                <a:ext cx="822240" cy="676800"/>
                <a:chOff x="6661080" y="2811240"/>
                <a:chExt cx="822240" cy="6768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729480" y="28112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661080" y="28112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212920" y="3488040"/>
                <a:ext cx="1913040" cy="507600"/>
                <a:chOff x="2212920" y="3488040"/>
                <a:chExt cx="1913040" cy="5076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2281320" y="3488040"/>
                  <a:ext cx="177624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лесхо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12920" y="3488040"/>
                  <a:ext cx="19130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4125960" y="3488040"/>
                <a:ext cx="831600" cy="507600"/>
                <a:chOff x="4125960" y="3488040"/>
                <a:chExt cx="831600" cy="5076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194000" y="34880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125960" y="34880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4957560" y="3488040"/>
                <a:ext cx="828720" cy="507600"/>
                <a:chOff x="4957560" y="3488040"/>
                <a:chExt cx="828720" cy="5076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025960" y="34880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57560" y="34880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786280" y="3488040"/>
                <a:ext cx="874800" cy="507600"/>
                <a:chOff x="5786280" y="3488040"/>
                <a:chExt cx="874800" cy="5076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854680" y="34880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786280" y="34880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661080" y="3488040"/>
                <a:ext cx="822240" cy="507600"/>
                <a:chOff x="6661080" y="3488040"/>
                <a:chExt cx="822240" cy="507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729480" y="34880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661080" y="34880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2212920" y="3995640"/>
                <a:ext cx="1913040" cy="846000"/>
                <a:chOff x="2212920" y="3995640"/>
                <a:chExt cx="1913040" cy="8460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281320" y="3995640"/>
                  <a:ext cx="177624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правление делами Президента Р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212920" y="3995640"/>
                  <a:ext cx="191304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4125960" y="3995640"/>
                <a:ext cx="831600" cy="846000"/>
                <a:chOff x="4125960" y="3995640"/>
                <a:chExt cx="831600" cy="8460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4194000" y="3995640"/>
                  <a:ext cx="69552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25960" y="3995640"/>
                  <a:ext cx="83160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957560" y="3995640"/>
                <a:ext cx="828720" cy="846000"/>
                <a:chOff x="4957560" y="3995640"/>
                <a:chExt cx="828720" cy="8460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025960" y="3995640"/>
                  <a:ext cx="69228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957560" y="3995640"/>
                  <a:ext cx="82872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786280" y="3995640"/>
                <a:ext cx="874800" cy="846000"/>
                <a:chOff x="5786280" y="3995640"/>
                <a:chExt cx="874800" cy="8460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854680" y="3995640"/>
                  <a:ext cx="73800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786280" y="3995640"/>
                  <a:ext cx="87480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661080" y="3995640"/>
                <a:ext cx="822240" cy="846000"/>
                <a:chOff x="6661080" y="3995640"/>
                <a:chExt cx="822240" cy="8460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729480" y="3995640"/>
                  <a:ext cx="68580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661080" y="3995640"/>
                  <a:ext cx="82224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212920" y="4841640"/>
                <a:ext cx="1913040" cy="676800"/>
                <a:chOff x="2212920" y="4841640"/>
                <a:chExt cx="1913040" cy="676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2281320" y="48416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истерство оборон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212920" y="48416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4125960" y="4841640"/>
                <a:ext cx="831600" cy="676800"/>
                <a:chOff x="4125960" y="4841640"/>
                <a:chExt cx="831600" cy="676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194000" y="48416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125960" y="48416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957560" y="4841640"/>
                <a:ext cx="828720" cy="676800"/>
                <a:chOff x="4957560" y="4841640"/>
                <a:chExt cx="828720" cy="6768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025960" y="48416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957560" y="48416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786280" y="4841640"/>
                <a:ext cx="874800" cy="676800"/>
                <a:chOff x="5786280" y="4841640"/>
                <a:chExt cx="874800" cy="6768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854680" y="48416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786280" y="48416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661080" y="4841640"/>
                <a:ext cx="822240" cy="676800"/>
                <a:chOff x="6661080" y="4841640"/>
                <a:chExt cx="822240" cy="6768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729480" y="48416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661080" y="48416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2212920" y="5518440"/>
                <a:ext cx="1913040" cy="676800"/>
                <a:chOff x="2212920" y="5518440"/>
                <a:chExt cx="1913040" cy="6768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2281320" y="55184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истерство обра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212920" y="55184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25960" y="5518440"/>
                <a:ext cx="831600" cy="676800"/>
                <a:chOff x="4125960" y="5518440"/>
                <a:chExt cx="831600" cy="6768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194000" y="55184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125960" y="55184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4957560" y="5518440"/>
                <a:ext cx="828720" cy="676800"/>
                <a:chOff x="4957560" y="5518440"/>
                <a:chExt cx="828720" cy="6768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025960" y="55184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957560" y="55184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786280" y="5518440"/>
                <a:ext cx="874800" cy="676800"/>
                <a:chOff x="5786280" y="5518440"/>
                <a:chExt cx="874800" cy="67680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854680" y="55184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786280" y="55184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661080" y="5518440"/>
                <a:ext cx="822240" cy="676800"/>
                <a:chOff x="6661080" y="5518440"/>
                <a:chExt cx="822240" cy="6768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729480" y="55184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661080" y="55184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212920" y="6195240"/>
                <a:ext cx="1913040" cy="507600"/>
                <a:chOff x="2212920" y="6195240"/>
                <a:chExt cx="1913040" cy="5076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281320" y="6195240"/>
                  <a:ext cx="177624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Н Беларуси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212920" y="6195240"/>
                  <a:ext cx="19130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125960" y="6195240"/>
                <a:ext cx="831600" cy="507600"/>
                <a:chOff x="4125960" y="6195240"/>
                <a:chExt cx="831600" cy="5076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194000" y="61952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125960" y="61952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957560" y="6195240"/>
                <a:ext cx="828720" cy="507600"/>
                <a:chOff x="4957560" y="6195240"/>
                <a:chExt cx="828720" cy="5076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025960" y="61952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957560" y="61952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786280" y="6195240"/>
                <a:ext cx="874800" cy="507600"/>
                <a:chOff x="5786280" y="6195240"/>
                <a:chExt cx="874800" cy="5076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854680" y="61952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786280" y="61952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661080" y="6195240"/>
                <a:ext cx="822240" cy="507600"/>
                <a:chOff x="6661080" y="6195240"/>
                <a:chExt cx="822240" cy="5076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729480" y="61952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661080" y="61952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2209680" y="609480"/>
              <a:ext cx="5276880" cy="60962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380880" y="152280"/>
            <a:ext cx="8534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ъемы заготовки древесного топливного сыр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0E8-2467-48A0-8A5A-308806FE1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кона Республики Беларусь “О нетрадиционных и возобновляемых источниках энергии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ценки общего потенциала древесного топлива и древесных отходов всех ви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химического и дисперсного составов, механических свойств золы уноса, разработка методик расчета выбросов в атмосферу твердых частиц при сжигании местных и возобновляемых видов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андарта, устанавливающего требования к организации, порядку и методам проведения работ по учету древесного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разработка ряда СТБ, в том чис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нулы древесные топливные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иомасса древесная топливная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икеты древесные топливные.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B30-6363-4BC9-8808-126C7FFFE6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исследования по использованию золы при сжигании древесного топлива, торфа и лигн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аучного, технического, экологического и экономического обоснования использования загрязненного радионуклидами древесного топлива на энергоисточник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изводства лесохозяйственной и лесозаготовительной техники, комплекса машин и механизмов по заготовке и доставке древесного топливного сырья к энергетическим объект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технологии выращивания и использования быстрорастущих растений в качестве топлива на выработанных торфяных площад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мышленных энергетических (котельных) установок мощностью 2,0 и 5,0 МВт с использованием технологии комплексного сжигания биомассы, торфа и других низкосортных видов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E4D-FDF4-43D4-9E4F-DCA100179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воевременной разработки проектов для строящихся энергоисточников по их обеспечению местными видами топлива, в том числе древесным топлив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 поставки древесного топлива на вводимые энергоисточники, работающие на древесном топлив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бязательной продажи и (или) передачи, образующихся при заготовке и переработке древесины, рубках ухода за лесонасаждениями, древесных отходов, которые могут быть использованы в качестве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(при подготовке проекта закона Республики Беларусь о бюджете на очередной бюджетный год) предложений об установлении повышенного норматива отчислений в образуемые инновационные фонды на цели заготовки и доставки древесного топлива и (или) древесного топливного сырья потребителя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126-57C7-432F-AB48-EFFFE9AEB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мероприятий по развитию инфраструктуры заготовки и доставки древесного топлива и (или) древесного топливного сырь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граммы ввода в действие энергоисточников, работающих на местных видах топлива, на период до 2012 го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анализа действующих технических нормативных правовых актов; разработка с учетом отечественного и зарубежного опыта проектирования, строительства и эксплуатации мини-ТЭЦ, работающих на местных видах топлива, необходимых изменений в части снижения сметной стоимости строительства указанных объе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A86-A839-4282-BAC7-A2CD275C5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2057400"/>
            <a:ext cx="8229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рма Роман Ростислав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энергоэффе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6553080" y="4800600"/>
            <a:ext cx="2136960" cy="1819440"/>
            <a:chOff x="6553080" y="4800600"/>
            <a:chExt cx="2136960" cy="1819440"/>
          </a:xfrm>
        </p:grpSpPr>
        <p:pic>
          <p:nvPicPr>
            <p:cNvPr id="799" name="GEFcolor" descr=""/>
            <p:cNvPicPr/>
            <p:nvPr/>
          </p:nvPicPr>
          <p:blipFill>
            <a:blip r:embed="rId1"/>
            <a:stretch/>
          </p:blipFill>
          <p:spPr>
            <a:xfrm>
              <a:off x="6553080" y="5638680"/>
              <a:ext cx="102240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bundp20mm" descr=""/>
            <p:cNvPicPr/>
            <p:nvPr/>
          </p:nvPicPr>
          <p:blipFill>
            <a:blip r:embed="rId2"/>
            <a:stretch/>
          </p:blipFill>
          <p:spPr>
            <a:xfrm>
              <a:off x="7772400" y="4800600"/>
              <a:ext cx="917640" cy="181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CF7-7690-493F-8F16-E74B869AAE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219320"/>
          <a:ext cx="8001000" cy="54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10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ВВП и валового потребления ТЭ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% к 1995 г.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412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371600"/>
          <a:ext cx="8153280" cy="51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153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219320" y="152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П, валового потребления топливно-энергетических ресурсо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ВПТЭР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бросов парниковых га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6BD-779D-44EE-8B65-5F10E7CE0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рнизации основных производственных фондов белорусской энергетической системы, энергосбережения и увеличения доли использования в республике собственных топливно-энергетических ресурсов в 2006-2010 годах (Указ Президента Республики Беларусь от 25 августа 2005 г. №399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ения в республике не менее 2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ов объема производства электрической и тепловой энергии за счет использования местных видов топлива и альтернативных источников энергии на период до 2012 года (постановление Совета Министров Республики Беларусь 30 декабря 2004 г. № 1680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осбережения на 2006-2010 годы (постановление Совета Министров Республики Беларусь от 2 февраля 2006 г. № 137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441-BAAD-47D8-8392-DC674BDAF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977760"/>
          <a:ext cx="8429760" cy="527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77760"/>
                    <a:ext cx="8429760" cy="52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880" y="76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намика потребления основных видов топли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лн. т у.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7D3-177F-470E-9B1E-C5B5D5531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914400"/>
            <a:ext cx="8839080" cy="5715000"/>
            <a:chOff x="152280" y="914400"/>
            <a:chExt cx="8839080" cy="5715000"/>
          </a:xfrm>
        </p:grpSpPr>
        <p:grpSp>
          <p:nvGrpSpPr>
            <p:cNvPr id="59" name=""/>
            <p:cNvGrpSpPr/>
            <p:nvPr/>
          </p:nvGrpSpPr>
          <p:grpSpPr>
            <a:xfrm>
              <a:off x="159840" y="916560"/>
              <a:ext cx="8823240" cy="5709960"/>
              <a:chOff x="159840" y="916560"/>
              <a:chExt cx="8823240" cy="57099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9840" y="916560"/>
                <a:ext cx="3555000" cy="318960"/>
                <a:chOff x="159840" y="916560"/>
                <a:chExt cx="3555000" cy="3189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71080" y="91656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ы энергоресурс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59840" y="91656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3715200" y="916560"/>
                <a:ext cx="1121760" cy="318960"/>
                <a:chOff x="3715200" y="916560"/>
                <a:chExt cx="1121760" cy="318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826440" y="91656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5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715200" y="91656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837680" y="916560"/>
                <a:ext cx="1277280" cy="318960"/>
                <a:chOff x="4837680" y="916560"/>
                <a:chExt cx="1277280" cy="3189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948920" y="91656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837680" y="91656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6115680" y="916560"/>
                <a:ext cx="1589760" cy="318960"/>
                <a:chOff x="6115680" y="916560"/>
                <a:chExt cx="1589760" cy="3189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226200" y="91656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5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115680" y="91656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06160" y="916560"/>
                <a:ext cx="1276920" cy="318960"/>
                <a:chOff x="7706160" y="916560"/>
                <a:chExt cx="1276920" cy="318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816680" y="91656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2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706160" y="91656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59840" y="1235520"/>
                <a:ext cx="3555000" cy="415800"/>
                <a:chOff x="159840" y="1235520"/>
                <a:chExt cx="3555000" cy="415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71080" y="1235520"/>
                  <a:ext cx="33328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аз природный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59840" y="1235520"/>
                  <a:ext cx="355500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715200" y="1235520"/>
                <a:ext cx="1121760" cy="415800"/>
                <a:chOff x="3715200" y="1235520"/>
                <a:chExt cx="1121760" cy="4158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826440" y="1235520"/>
                  <a:ext cx="899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715200" y="1235520"/>
                  <a:ext cx="1121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37680" y="1235520"/>
                <a:ext cx="1277280" cy="415800"/>
                <a:chOff x="4837680" y="1235520"/>
                <a:chExt cx="1277280" cy="4158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948920" y="1235520"/>
                  <a:ext cx="10544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37680" y="1235520"/>
                  <a:ext cx="127728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115680" y="1235520"/>
                <a:ext cx="1589760" cy="415800"/>
                <a:chOff x="6115680" y="1235520"/>
                <a:chExt cx="1589760" cy="415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226200" y="1235520"/>
                  <a:ext cx="1367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1*-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51**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115680" y="1235520"/>
                  <a:ext cx="1589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706160" y="1235520"/>
                <a:ext cx="1276920" cy="415800"/>
                <a:chOff x="7706160" y="1235520"/>
                <a:chExt cx="1276920" cy="4158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816680" y="1235520"/>
                  <a:ext cx="10548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23*-19,23**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06160" y="1235520"/>
                  <a:ext cx="127692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59840" y="1651680"/>
                <a:ext cx="3555000" cy="318960"/>
                <a:chOff x="159840" y="1651680"/>
                <a:chExt cx="3555000" cy="3189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71080" y="165168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в т.ч. в качестве сырья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59840" y="165168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715200" y="1651680"/>
                <a:ext cx="1121760" cy="318960"/>
                <a:chOff x="3715200" y="1651680"/>
                <a:chExt cx="1121760" cy="3189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826440" y="165168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15200" y="165168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37680" y="1651680"/>
                <a:ext cx="1277280" cy="318960"/>
                <a:chOff x="4837680" y="1651680"/>
                <a:chExt cx="1277280" cy="318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48920" y="165168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837680" y="165168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115680" y="1651680"/>
                <a:ext cx="1589760" cy="318960"/>
                <a:chOff x="6115680" y="1651680"/>
                <a:chExt cx="1589760" cy="3189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226200" y="165168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115680" y="165168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706160" y="1651680"/>
                <a:ext cx="1276920" cy="318960"/>
                <a:chOff x="7706160" y="1651680"/>
                <a:chExt cx="1276920" cy="318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816680" y="165168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706160" y="165168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59840" y="1971000"/>
                <a:ext cx="3555000" cy="318960"/>
                <a:chOff x="159840" y="1971000"/>
                <a:chExt cx="3555000" cy="3189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71080" y="197100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зу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9840" y="197100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715200" y="1971000"/>
                <a:ext cx="1121760" cy="318960"/>
                <a:chOff x="3715200" y="1971000"/>
                <a:chExt cx="1121760" cy="318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826440" y="197100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715200" y="197100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837680" y="1971000"/>
                <a:ext cx="1277280" cy="318960"/>
                <a:chOff x="4837680" y="1971000"/>
                <a:chExt cx="1277280" cy="3189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948920" y="197100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37680" y="197100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115680" y="1971000"/>
                <a:ext cx="1589760" cy="318960"/>
                <a:chOff x="6115680" y="1971000"/>
                <a:chExt cx="1589760" cy="318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26200" y="197100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15680" y="197100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706160" y="1971000"/>
                <a:ext cx="1276920" cy="318960"/>
                <a:chOff x="7706160" y="1971000"/>
                <a:chExt cx="1276920" cy="318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816680" y="197100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706160" y="197100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59840" y="2290320"/>
                <a:ext cx="3555000" cy="318960"/>
                <a:chOff x="159840" y="2290320"/>
                <a:chExt cx="3555000" cy="318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71080" y="229032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го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59840" y="229032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715200" y="2290320"/>
                <a:ext cx="1121760" cy="318960"/>
                <a:chOff x="3715200" y="2290320"/>
                <a:chExt cx="1121760" cy="318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826440" y="229032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15200" y="229032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837680" y="2290320"/>
                <a:ext cx="1277280" cy="318960"/>
                <a:chOff x="4837680" y="2290320"/>
                <a:chExt cx="1277280" cy="318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48920" y="229032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837680" y="229032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115680" y="2290320"/>
                <a:ext cx="1589760" cy="318960"/>
                <a:chOff x="6115680" y="2290320"/>
                <a:chExt cx="1589760" cy="318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226200" y="229032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115680" y="229032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706160" y="2290320"/>
                <a:ext cx="1276920" cy="318960"/>
                <a:chOff x="7706160" y="2290320"/>
                <a:chExt cx="1276920" cy="31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816680" y="229032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706160" y="229032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59840" y="2609640"/>
                <a:ext cx="3555000" cy="319320"/>
                <a:chOff x="159840" y="2609640"/>
                <a:chExt cx="3555000" cy="319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71080" y="2609640"/>
                  <a:ext cx="333288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аз сжиженны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9840" y="2609640"/>
                  <a:ext cx="35550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715200" y="2609640"/>
                <a:ext cx="1121760" cy="319320"/>
                <a:chOff x="3715200" y="2609640"/>
                <a:chExt cx="1121760" cy="3193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826440" y="2609640"/>
                  <a:ext cx="899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715200" y="2609640"/>
                  <a:ext cx="1121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837680" y="2609640"/>
                <a:ext cx="1277280" cy="319320"/>
                <a:chOff x="4837680" y="2609640"/>
                <a:chExt cx="1277280" cy="3193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948920" y="2609640"/>
                  <a:ext cx="1054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37680" y="2609640"/>
                  <a:ext cx="127728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115680" y="2609640"/>
                <a:ext cx="1589760" cy="319320"/>
                <a:chOff x="6115680" y="2609640"/>
                <a:chExt cx="1589760" cy="3193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6200" y="2609640"/>
                  <a:ext cx="1367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15680" y="2609640"/>
                  <a:ext cx="1589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706160" y="2609640"/>
                <a:ext cx="1276920" cy="319320"/>
                <a:chOff x="7706160" y="2609640"/>
                <a:chExt cx="1276920" cy="319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816680" y="2609640"/>
                  <a:ext cx="10548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706160" y="2609640"/>
                  <a:ext cx="12769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59840" y="2928960"/>
                <a:ext cx="3555000" cy="318960"/>
                <a:chOff x="159840" y="2928960"/>
                <a:chExt cx="3555000" cy="318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71080" y="292896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аз НП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59840" y="292896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715200" y="2928960"/>
                <a:ext cx="1121760" cy="318960"/>
                <a:chOff x="3715200" y="2928960"/>
                <a:chExt cx="1121760" cy="3189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26440" y="292896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715200" y="292896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837680" y="2928960"/>
                <a:ext cx="1277280" cy="318960"/>
                <a:chOff x="4837680" y="2928960"/>
                <a:chExt cx="1277280" cy="3189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48920" y="292896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837680" y="292896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115680" y="2928960"/>
                <a:ext cx="1589760" cy="318960"/>
                <a:chOff x="6115680" y="2928960"/>
                <a:chExt cx="1589760" cy="3189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226200" y="292896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15680" y="292896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706160" y="2928960"/>
                <a:ext cx="1276920" cy="318960"/>
                <a:chOff x="7706160" y="2928960"/>
                <a:chExt cx="1276920" cy="3189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816680" y="292896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706160" y="292896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59840" y="3248280"/>
                <a:ext cx="3555000" cy="318960"/>
                <a:chOff x="159840" y="3248280"/>
                <a:chExt cx="3555000" cy="3189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1080" y="324828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пливо печное бытово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59840" y="324828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715200" y="3248280"/>
                <a:ext cx="1121760" cy="318960"/>
                <a:chOff x="3715200" y="3248280"/>
                <a:chExt cx="1121760" cy="3189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826440" y="324828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15200" y="324828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837680" y="3248280"/>
                <a:ext cx="1277280" cy="318960"/>
                <a:chOff x="4837680" y="3248280"/>
                <a:chExt cx="1277280" cy="3189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948920" y="324828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837680" y="324828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115680" y="3248280"/>
                <a:ext cx="1589760" cy="318960"/>
                <a:chOff x="6115680" y="3248280"/>
                <a:chExt cx="1589760" cy="3189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226200" y="324828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115680" y="324828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706160" y="3248280"/>
                <a:ext cx="1276920" cy="318960"/>
                <a:chOff x="7706160" y="3248280"/>
                <a:chExt cx="1276920" cy="3189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816680" y="324828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706160" y="324828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59840" y="3567600"/>
                <a:ext cx="3555000" cy="415800"/>
                <a:chOff x="159840" y="3567600"/>
                <a:chExt cx="3555000" cy="415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71080" y="3567600"/>
                  <a:ext cx="33328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ВТ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прочие и НВиЭ в т.ч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9840" y="3567600"/>
                  <a:ext cx="355500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715200" y="3567600"/>
                <a:ext cx="1121760" cy="415800"/>
                <a:chOff x="3715200" y="3567600"/>
                <a:chExt cx="1121760" cy="415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826440" y="3567600"/>
                  <a:ext cx="899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5200" y="3567600"/>
                  <a:ext cx="1121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37680" y="3567600"/>
                <a:ext cx="1277280" cy="415800"/>
                <a:chOff x="4837680" y="3567600"/>
                <a:chExt cx="1277280" cy="415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920" y="3567600"/>
                  <a:ext cx="10544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37680" y="3567600"/>
                  <a:ext cx="127728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115680" y="3567600"/>
                <a:ext cx="1589760" cy="415800"/>
                <a:chOff x="6115680" y="3567600"/>
                <a:chExt cx="1589760" cy="415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6200" y="3567600"/>
                  <a:ext cx="1367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15680" y="3567600"/>
                  <a:ext cx="1589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706160" y="3567600"/>
                <a:ext cx="1276920" cy="415800"/>
                <a:chOff x="7706160" y="3567600"/>
                <a:chExt cx="1276920" cy="415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816680" y="3567600"/>
                  <a:ext cx="10548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706160" y="3567600"/>
                  <a:ext cx="127692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59840" y="3983400"/>
                <a:ext cx="3555000" cy="319320"/>
                <a:chOff x="159840" y="3983400"/>
                <a:chExt cx="3555000" cy="319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71080" y="3983400"/>
                  <a:ext cx="333288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торф и лигн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59840" y="3983400"/>
                  <a:ext cx="35550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715200" y="3983400"/>
                <a:ext cx="1121760" cy="319320"/>
                <a:chOff x="3715200" y="3983400"/>
                <a:chExt cx="1121760" cy="319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826440" y="3983400"/>
                  <a:ext cx="899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15200" y="3983400"/>
                  <a:ext cx="1121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837680" y="3983400"/>
                <a:ext cx="1277280" cy="319320"/>
                <a:chOff x="4837680" y="3983400"/>
                <a:chExt cx="1277280" cy="319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948920" y="3983400"/>
                  <a:ext cx="1054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837680" y="3983400"/>
                  <a:ext cx="127728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5680" y="3983400"/>
                <a:ext cx="1589760" cy="319320"/>
                <a:chOff x="6115680" y="3983400"/>
                <a:chExt cx="1589760" cy="319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226200" y="3983400"/>
                  <a:ext cx="1367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115680" y="3983400"/>
                  <a:ext cx="1589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706160" y="3983400"/>
                <a:ext cx="1276920" cy="319320"/>
                <a:chOff x="7706160" y="3983400"/>
                <a:chExt cx="1276920" cy="3193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816680" y="3983400"/>
                  <a:ext cx="10548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706160" y="3983400"/>
                  <a:ext cx="12769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159840" y="4302720"/>
                <a:ext cx="3555000" cy="318960"/>
                <a:chOff x="159840" y="4302720"/>
                <a:chExt cx="3555000" cy="3189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1080" y="430272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дров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9840" y="430272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715200" y="4302720"/>
                <a:ext cx="1121760" cy="318960"/>
                <a:chOff x="3715200" y="4302720"/>
                <a:chExt cx="1121760" cy="318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826440" y="430272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715200" y="430272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837680" y="4302720"/>
                <a:ext cx="1277280" cy="318960"/>
                <a:chOff x="4837680" y="4302720"/>
                <a:chExt cx="1277280" cy="3189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948920" y="430272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37680" y="430272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15680" y="4302720"/>
                <a:ext cx="1589760" cy="318960"/>
                <a:chOff x="6115680" y="4302720"/>
                <a:chExt cx="1589760" cy="3189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226200" y="430272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15680" y="430272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706160" y="4302720"/>
                <a:ext cx="1276920" cy="318960"/>
                <a:chOff x="7706160" y="4302720"/>
                <a:chExt cx="1276920" cy="318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816680" y="430272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06160" y="430272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59840" y="4622040"/>
                <a:ext cx="3555000" cy="318960"/>
                <a:chOff x="159840" y="4622040"/>
                <a:chExt cx="3555000" cy="318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71080" y="462204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прочие и НВи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59840" y="462204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715200" y="4622040"/>
                <a:ext cx="1121760" cy="318960"/>
                <a:chOff x="3715200" y="4622040"/>
                <a:chExt cx="1121760" cy="318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826440" y="462204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15200" y="462204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837680" y="4622040"/>
                <a:ext cx="1277280" cy="318960"/>
                <a:chOff x="4837680" y="4622040"/>
                <a:chExt cx="1277280" cy="3189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948920" y="462204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837680" y="462204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115680" y="4622040"/>
                <a:ext cx="1589760" cy="318960"/>
                <a:chOff x="6115680" y="4622040"/>
                <a:chExt cx="1589760" cy="3189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26200" y="462204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15680" y="462204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7706160" y="4622040"/>
                <a:ext cx="1276920" cy="318960"/>
                <a:chOff x="7706160" y="4622040"/>
                <a:chExt cx="1276920" cy="3189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816680" y="462204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706160" y="462204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59840" y="4941360"/>
                <a:ext cx="3555000" cy="318960"/>
                <a:chOff x="159840" y="4941360"/>
                <a:chExt cx="3555000" cy="3189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71080" y="494136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дерное топлив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840" y="494136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715200" y="4941360"/>
                <a:ext cx="1121760" cy="318960"/>
                <a:chOff x="3715200" y="4941360"/>
                <a:chExt cx="1121760" cy="3189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826440" y="494136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715200" y="494136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837680" y="4941360"/>
                <a:ext cx="1277280" cy="318960"/>
                <a:chOff x="4837680" y="4941360"/>
                <a:chExt cx="1277280" cy="3189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948920" y="494136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37680" y="494136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15680" y="4941360"/>
                <a:ext cx="1589760" cy="318960"/>
                <a:chOff x="6115680" y="4941360"/>
                <a:chExt cx="1589760" cy="318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226200" y="494136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115680" y="494136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706160" y="4941360"/>
                <a:ext cx="1276920" cy="318960"/>
                <a:chOff x="7706160" y="4941360"/>
                <a:chExt cx="1276920" cy="3189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816680" y="494136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706160" y="494136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59840" y="5260680"/>
                <a:ext cx="3555000" cy="318960"/>
                <a:chOff x="159840" y="5260680"/>
                <a:chExt cx="3555000" cy="3189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1080" y="526068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того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840" y="526068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715200" y="5260680"/>
                <a:ext cx="1121760" cy="318960"/>
                <a:chOff x="3715200" y="5260680"/>
                <a:chExt cx="1121760" cy="3189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826440" y="526068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15200" y="526068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837680" y="5260680"/>
                <a:ext cx="1277280" cy="318960"/>
                <a:chOff x="4837680" y="5260680"/>
                <a:chExt cx="1277280" cy="3189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948920" y="526068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37680" y="526068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115680" y="5260680"/>
                <a:ext cx="1589760" cy="318960"/>
                <a:chOff x="6115680" y="5260680"/>
                <a:chExt cx="1589760" cy="3189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226200" y="526068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15680" y="526068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706160" y="5260680"/>
                <a:ext cx="1276920" cy="318960"/>
                <a:chOff x="7706160" y="5260680"/>
                <a:chExt cx="1276920" cy="3189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816680" y="526068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,8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06160" y="526068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59840" y="5580000"/>
                <a:ext cx="3555000" cy="319320"/>
                <a:chOff x="159840" y="5580000"/>
                <a:chExt cx="3555000" cy="319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71080" y="5580000"/>
                  <a:ext cx="333288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купная электроэнер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59840" y="5580000"/>
                  <a:ext cx="35550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715200" y="5580000"/>
                <a:ext cx="1121760" cy="319320"/>
                <a:chOff x="3715200" y="5580000"/>
                <a:chExt cx="1121760" cy="319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826440" y="5580000"/>
                  <a:ext cx="899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15200" y="5580000"/>
                  <a:ext cx="1121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837680" y="5580000"/>
                <a:ext cx="1277280" cy="319320"/>
                <a:chOff x="4837680" y="5580000"/>
                <a:chExt cx="1277280" cy="319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948920" y="5580000"/>
                  <a:ext cx="1054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837680" y="5580000"/>
                  <a:ext cx="127728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115680" y="5580000"/>
                <a:ext cx="1589760" cy="319320"/>
                <a:chOff x="6115680" y="5580000"/>
                <a:chExt cx="1589760" cy="319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226200" y="5580000"/>
                  <a:ext cx="1367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115680" y="5580000"/>
                  <a:ext cx="1589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706160" y="5580000"/>
                <a:ext cx="1276920" cy="319320"/>
                <a:chOff x="7706160" y="5580000"/>
                <a:chExt cx="1276920" cy="319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816680" y="5580000"/>
                  <a:ext cx="10548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06160" y="5580000"/>
                  <a:ext cx="12769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59840" y="5899320"/>
                <a:ext cx="3555000" cy="407880"/>
                <a:chOff x="159840" y="5899320"/>
                <a:chExt cx="3555000" cy="407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71080" y="5899320"/>
                  <a:ext cx="33328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СЕ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9840" y="5899320"/>
                  <a:ext cx="35550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715200" y="5899320"/>
                <a:ext cx="1121760" cy="407880"/>
                <a:chOff x="3715200" y="5899320"/>
                <a:chExt cx="1121760" cy="407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26440" y="5899320"/>
                  <a:ext cx="8996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,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15200" y="5899320"/>
                  <a:ext cx="1121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837680" y="5899320"/>
                <a:ext cx="1277280" cy="407880"/>
                <a:chOff x="4837680" y="5899320"/>
                <a:chExt cx="1277280" cy="407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948920" y="5899320"/>
                  <a:ext cx="10544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37680" y="5899320"/>
                  <a:ext cx="1277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115680" y="5899320"/>
                <a:ext cx="1589760" cy="407880"/>
                <a:chOff x="6115680" y="5899320"/>
                <a:chExt cx="1589760" cy="407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226200" y="5899320"/>
                  <a:ext cx="13676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,7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115680" y="5899320"/>
                  <a:ext cx="158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706160" y="5899320"/>
                <a:ext cx="1276920" cy="407880"/>
                <a:chOff x="7706160" y="5899320"/>
                <a:chExt cx="1276920" cy="407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7816680" y="5899320"/>
                  <a:ext cx="105480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06160" y="5899320"/>
                  <a:ext cx="127692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59840" y="6307560"/>
                <a:ext cx="8823240" cy="318960"/>
                <a:chOff x="159840" y="6307560"/>
                <a:chExt cx="8823240" cy="3189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71080" y="6307560"/>
                  <a:ext cx="86004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 без АЭС         ** с АЭ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9840" y="6307560"/>
                  <a:ext cx="8823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152280" y="914400"/>
              <a:ext cx="883908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143000" y="1522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структуры потребл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ьно-печного топлива до 2020 год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C7C-F4DC-46DC-941A-C87CF30BC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1157400"/>
          <a:ext cx="7924680" cy="50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57400"/>
                    <a:ext cx="792468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80880" y="152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нансирование энергосберегающих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2001-2005 годах (факт) и 2006-2010 годах (прогно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F3E-7859-48F0-A751-A205DCD156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609480" y="990720"/>
            <a:ext cx="7924680" cy="5692680"/>
            <a:chOff x="609480" y="990720"/>
            <a:chExt cx="7924680" cy="5692680"/>
          </a:xfrm>
        </p:grpSpPr>
        <p:grpSp>
          <p:nvGrpSpPr>
            <p:cNvPr id="309" name=""/>
            <p:cNvGrpSpPr/>
            <p:nvPr/>
          </p:nvGrpSpPr>
          <p:grpSpPr>
            <a:xfrm>
              <a:off x="613440" y="992880"/>
              <a:ext cx="7915320" cy="5688360"/>
              <a:chOff x="613440" y="992880"/>
              <a:chExt cx="7915320" cy="568836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613440" y="992880"/>
                <a:ext cx="2415240" cy="1167480"/>
                <a:chOff x="613440" y="992880"/>
                <a:chExt cx="2415240" cy="1167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13440" y="992880"/>
                  <a:ext cx="2415240" cy="116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 энергоресурс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13440" y="992880"/>
                  <a:ext cx="2415240" cy="116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029040" y="992880"/>
                <a:ext cx="902160" cy="1167480"/>
                <a:chOff x="3029040" y="992880"/>
                <a:chExt cx="902160" cy="1167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29040" y="992880"/>
                  <a:ext cx="902160" cy="116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тен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аль-ные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запас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29040" y="992880"/>
                  <a:ext cx="902160" cy="116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31920" y="992880"/>
                <a:ext cx="4596840" cy="670320"/>
                <a:chOff x="3931920" y="992880"/>
                <a:chExt cx="4596840" cy="6703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931920" y="992880"/>
                  <a:ext cx="459684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овой объем исполь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производства, добычи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31920" y="992880"/>
                  <a:ext cx="459684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931920" y="1663200"/>
                <a:ext cx="902160" cy="497160"/>
                <a:chOff x="3931920" y="1663200"/>
                <a:chExt cx="902160" cy="4971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93192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93192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834800" y="1663200"/>
                <a:ext cx="902160" cy="497160"/>
                <a:chOff x="4834800" y="1663200"/>
                <a:chExt cx="902160" cy="4971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83480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3480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37320" y="1663200"/>
                <a:ext cx="902160" cy="497160"/>
                <a:chOff x="5737320" y="1663200"/>
                <a:chExt cx="902160" cy="4971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3732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3732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640200" y="1663200"/>
                <a:ext cx="902160" cy="497160"/>
                <a:chOff x="6640200" y="1663200"/>
                <a:chExt cx="902160" cy="497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4020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4020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543080" y="1663200"/>
                <a:ext cx="985680" cy="497160"/>
                <a:chOff x="7543080" y="1663200"/>
                <a:chExt cx="985680" cy="497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43080" y="166320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3080" y="166320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13440" y="2160360"/>
                <a:ext cx="2415240" cy="497160"/>
                <a:chOff x="613440" y="2160360"/>
                <a:chExt cx="2415240" cy="4971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13440" y="2160360"/>
                  <a:ext cx="241524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ефть, млн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13440" y="2160360"/>
                  <a:ext cx="24152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029040" y="2160360"/>
                <a:ext cx="902160" cy="497160"/>
                <a:chOff x="3029040" y="2160360"/>
                <a:chExt cx="902160" cy="4971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02904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2904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931920" y="2160360"/>
                <a:ext cx="902160" cy="497160"/>
                <a:chOff x="3931920" y="2160360"/>
                <a:chExt cx="902160" cy="4971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3192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93192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834800" y="2160360"/>
                <a:ext cx="902160" cy="497160"/>
                <a:chOff x="4834800" y="2160360"/>
                <a:chExt cx="902160" cy="497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83480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83480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737320" y="2160360"/>
                <a:ext cx="902160" cy="497160"/>
                <a:chOff x="5737320" y="2160360"/>
                <a:chExt cx="902160" cy="4971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73732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73732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640200" y="2160360"/>
                <a:ext cx="902160" cy="497160"/>
                <a:chOff x="6640200" y="2160360"/>
                <a:chExt cx="902160" cy="4971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64020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64020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7543080" y="2160360"/>
                <a:ext cx="985680" cy="497160"/>
                <a:chOff x="7543080" y="2160360"/>
                <a:chExt cx="985680" cy="4971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543080" y="216036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543080" y="216036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13440" y="2657880"/>
                <a:ext cx="2415240" cy="670680"/>
                <a:chOff x="613440" y="2657880"/>
                <a:chExt cx="2415240" cy="670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13440" y="2657880"/>
                  <a:ext cx="2415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путный газ, млн.м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13440" y="2657880"/>
                  <a:ext cx="241524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029040" y="2657880"/>
                <a:ext cx="902160" cy="670680"/>
                <a:chOff x="3029040" y="2657880"/>
                <a:chExt cx="902160" cy="6706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02904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02904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931920" y="2657880"/>
                <a:ext cx="902160" cy="670680"/>
                <a:chOff x="3931920" y="2657880"/>
                <a:chExt cx="902160" cy="6706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93192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93192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834800" y="2657880"/>
                <a:ext cx="902160" cy="670680"/>
                <a:chOff x="4834800" y="2657880"/>
                <a:chExt cx="902160" cy="6706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83480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83480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737320" y="2657880"/>
                <a:ext cx="902160" cy="670680"/>
                <a:chOff x="5737320" y="2657880"/>
                <a:chExt cx="902160" cy="670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3732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73732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0200" y="2657880"/>
                <a:ext cx="902160" cy="670680"/>
                <a:chOff x="6640200" y="2657880"/>
                <a:chExt cx="902160" cy="6706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020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4020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543080" y="2657880"/>
                <a:ext cx="985680" cy="670680"/>
                <a:chOff x="7543080" y="2657880"/>
                <a:chExt cx="985680" cy="670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543080" y="2657880"/>
                  <a:ext cx="9856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43080" y="2657880"/>
                  <a:ext cx="98568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13440" y="3328560"/>
                <a:ext cx="2415240" cy="497160"/>
                <a:chOff x="613440" y="3328560"/>
                <a:chExt cx="2415240" cy="497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13440" y="3328560"/>
                  <a:ext cx="241524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рф, млн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13440" y="3328560"/>
                  <a:ext cx="24152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029040" y="3328560"/>
                <a:ext cx="902160" cy="497160"/>
                <a:chOff x="3029040" y="3328560"/>
                <a:chExt cx="902160" cy="4971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02904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02904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931920" y="3328560"/>
                <a:ext cx="902160" cy="497160"/>
                <a:chOff x="3931920" y="3328560"/>
                <a:chExt cx="902160" cy="4971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92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93192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834800" y="3328560"/>
                <a:ext cx="902160" cy="497160"/>
                <a:chOff x="4834800" y="3328560"/>
                <a:chExt cx="902160" cy="4971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83480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83480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737320" y="3328560"/>
                <a:ext cx="902160" cy="497160"/>
                <a:chOff x="5737320" y="3328560"/>
                <a:chExt cx="902160" cy="4971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3732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73732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640200" y="3328560"/>
                <a:ext cx="902160" cy="497160"/>
                <a:chOff x="6640200" y="3328560"/>
                <a:chExt cx="902160" cy="497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64020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4020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543080" y="3328560"/>
                <a:ext cx="985680" cy="497160"/>
                <a:chOff x="7543080" y="3328560"/>
                <a:chExt cx="985680" cy="4971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543080" y="332856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3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43080" y="332856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13440" y="3825720"/>
                <a:ext cx="2415240" cy="497160"/>
                <a:chOff x="613440" y="3825720"/>
                <a:chExt cx="2415240" cy="4971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13440" y="3825720"/>
                  <a:ext cx="241524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ланцы, млрд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13440" y="3825720"/>
                  <a:ext cx="24152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29040" y="3825720"/>
                <a:ext cx="902160" cy="497160"/>
                <a:chOff x="3029040" y="3825720"/>
                <a:chExt cx="902160" cy="4971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2904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2904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931920" y="3825720"/>
                <a:ext cx="902160" cy="497160"/>
                <a:chOff x="3931920" y="3825720"/>
                <a:chExt cx="902160" cy="4971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93192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3192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834800" y="3825720"/>
                <a:ext cx="902160" cy="497160"/>
                <a:chOff x="4834800" y="3825720"/>
                <a:chExt cx="902160" cy="497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83480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3480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737320" y="3825720"/>
                <a:ext cx="902160" cy="497160"/>
                <a:chOff x="5737320" y="3825720"/>
                <a:chExt cx="902160" cy="497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73732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73732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640200" y="3825720"/>
                <a:ext cx="902160" cy="497160"/>
                <a:chOff x="6640200" y="3825720"/>
                <a:chExt cx="902160" cy="497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64020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64020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543080" y="3825720"/>
                <a:ext cx="985680" cy="497160"/>
                <a:chOff x="7543080" y="3825720"/>
                <a:chExt cx="985680" cy="497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543080" y="382572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543080" y="382572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13440" y="4322880"/>
                <a:ext cx="2415240" cy="670320"/>
                <a:chOff x="613440" y="4322880"/>
                <a:chExt cx="2415240" cy="6703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13440" y="4322880"/>
                  <a:ext cx="241524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урые угли, млн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3440" y="4322880"/>
                  <a:ext cx="241524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3029040" y="4322880"/>
                <a:ext cx="902160" cy="670320"/>
                <a:chOff x="3029040" y="4322880"/>
                <a:chExt cx="902160" cy="6703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02904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02904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931920" y="4322880"/>
                <a:ext cx="902160" cy="670320"/>
                <a:chOff x="3931920" y="4322880"/>
                <a:chExt cx="902160" cy="6703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93192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3192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834800" y="4322880"/>
                <a:ext cx="902160" cy="670320"/>
                <a:chOff x="4834800" y="4322880"/>
                <a:chExt cx="902160" cy="6703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83480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83480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737320" y="4322880"/>
                <a:ext cx="902160" cy="670320"/>
                <a:chOff x="5737320" y="4322880"/>
                <a:chExt cx="902160" cy="6703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73732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73732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640200" y="4322880"/>
                <a:ext cx="902160" cy="670320"/>
                <a:chOff x="6640200" y="4322880"/>
                <a:chExt cx="902160" cy="6703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64020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4020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543080" y="4322880"/>
                <a:ext cx="985680" cy="670320"/>
                <a:chOff x="7543080" y="4322880"/>
                <a:chExt cx="985680" cy="6703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543080" y="4322880"/>
                  <a:ext cx="98568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543080" y="4322880"/>
                  <a:ext cx="98568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13440" y="4993560"/>
                <a:ext cx="2415240" cy="1016640"/>
                <a:chOff x="613440" y="4993560"/>
                <a:chExt cx="2415240" cy="10166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13440" y="4993560"/>
                  <a:ext cx="241524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ревесное топливо и отходы деревообработки, млн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13440" y="4993560"/>
                  <a:ext cx="241524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029040" y="4993560"/>
                <a:ext cx="902160" cy="1016640"/>
                <a:chOff x="3029040" y="4993560"/>
                <a:chExt cx="902160" cy="10166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02904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2904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931920" y="4993560"/>
                <a:ext cx="902160" cy="1016640"/>
                <a:chOff x="3931920" y="4993560"/>
                <a:chExt cx="902160" cy="10166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3192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93192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834800" y="4993560"/>
                <a:ext cx="902160" cy="1016640"/>
                <a:chOff x="4834800" y="4993560"/>
                <a:chExt cx="902160" cy="10166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83480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83480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737320" y="4993560"/>
                <a:ext cx="902160" cy="1016640"/>
                <a:chOff x="5737320" y="4993560"/>
                <a:chExt cx="902160" cy="1016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73732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3732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640200" y="4993560"/>
                <a:ext cx="902160" cy="1016640"/>
                <a:chOff x="6640200" y="4993560"/>
                <a:chExt cx="902160" cy="10166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64020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8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64020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7543080" y="4993560"/>
                <a:ext cx="985680" cy="1016640"/>
                <a:chOff x="7543080" y="4993560"/>
                <a:chExt cx="985680" cy="10166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543080" y="4993560"/>
                  <a:ext cx="98568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543080" y="4993560"/>
                  <a:ext cx="9856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13440" y="6010560"/>
                <a:ext cx="2415240" cy="670680"/>
                <a:chOff x="613440" y="6010560"/>
                <a:chExt cx="2415240" cy="6706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13440" y="6010560"/>
                  <a:ext cx="2415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идроресурсы, тыс.кВт.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3440" y="6010560"/>
                  <a:ext cx="241524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29040" y="6010560"/>
                <a:ext cx="902160" cy="670680"/>
                <a:chOff x="3029040" y="6010560"/>
                <a:chExt cx="902160" cy="670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02904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02904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931920" y="6010560"/>
                <a:ext cx="902160" cy="670680"/>
                <a:chOff x="3931920" y="6010560"/>
                <a:chExt cx="902160" cy="670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93192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93192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834800" y="6010560"/>
                <a:ext cx="902160" cy="670680"/>
                <a:chOff x="4834800" y="6010560"/>
                <a:chExt cx="902160" cy="6706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83480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3480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5737320" y="6010560"/>
                <a:ext cx="902160" cy="670680"/>
                <a:chOff x="5737320" y="6010560"/>
                <a:chExt cx="902160" cy="6706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573732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73732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640200" y="6010560"/>
                <a:ext cx="902160" cy="670680"/>
                <a:chOff x="6640200" y="6010560"/>
                <a:chExt cx="902160" cy="6706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64020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64020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7543080" y="6010560"/>
                <a:ext cx="985680" cy="670680"/>
                <a:chOff x="7543080" y="6010560"/>
                <a:chExt cx="985680" cy="670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543080" y="6010560"/>
                  <a:ext cx="9856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543080" y="6010560"/>
                  <a:ext cx="98568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609480" y="990720"/>
              <a:ext cx="7924680" cy="56926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80880" y="152280"/>
            <a:ext cx="853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запасы и экономически целесообразные объемы использования местных энергоресурсо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150-0F5C-4335-8E35-24650DE20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0880" y="152280"/>
            <a:ext cx="853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запасы и экономически целесообразные объемы использования местных энергоресурсо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33520" y="914400"/>
            <a:ext cx="8305200" cy="5816520"/>
            <a:chOff x="533520" y="914400"/>
            <a:chExt cx="8305200" cy="5816520"/>
          </a:xfrm>
        </p:grpSpPr>
        <p:grpSp>
          <p:nvGrpSpPr>
            <p:cNvPr id="485" name=""/>
            <p:cNvGrpSpPr/>
            <p:nvPr/>
          </p:nvGrpSpPr>
          <p:grpSpPr>
            <a:xfrm>
              <a:off x="537840" y="916200"/>
              <a:ext cx="8295480" cy="5812200"/>
              <a:chOff x="537840" y="916200"/>
              <a:chExt cx="8295480" cy="58122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537840" y="916200"/>
                <a:ext cx="2531520" cy="1394640"/>
                <a:chOff x="537840" y="916200"/>
                <a:chExt cx="2531520" cy="13946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37840" y="916200"/>
                  <a:ext cx="2531520" cy="13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 энергоресурс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37840" y="916200"/>
                  <a:ext cx="2531520" cy="13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069720" y="916200"/>
                <a:ext cx="945720" cy="1394640"/>
                <a:chOff x="3069720" y="916200"/>
                <a:chExt cx="945720" cy="13946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069720" y="916200"/>
                  <a:ext cx="945720" cy="13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тен-циаль-ные запас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069720" y="916200"/>
                  <a:ext cx="945720" cy="13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015800" y="916200"/>
                <a:ext cx="4817520" cy="1394640"/>
                <a:chOff x="4015800" y="916200"/>
                <a:chExt cx="4817520" cy="1394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015800" y="916200"/>
                  <a:ext cx="4817520" cy="13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овой объем исполь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производства, добычи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015800" y="916200"/>
                  <a:ext cx="4817520" cy="13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37840" y="2310840"/>
                <a:ext cx="2531520" cy="608400"/>
                <a:chOff x="537840" y="2310840"/>
                <a:chExt cx="2531520" cy="6084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37840" y="231084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етропотенциал, млн.кВт.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37840" y="231084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069720" y="2310840"/>
                <a:ext cx="945720" cy="608400"/>
                <a:chOff x="3069720" y="2310840"/>
                <a:chExt cx="945720" cy="608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06972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6972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015800" y="2310840"/>
                <a:ext cx="945720" cy="608400"/>
                <a:chOff x="4015800" y="2310840"/>
                <a:chExt cx="945720" cy="6084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01580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01580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961880" y="2310840"/>
                <a:ext cx="945720" cy="608400"/>
                <a:chOff x="4961880" y="2310840"/>
                <a:chExt cx="945720" cy="6084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96188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96188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5907960" y="2310840"/>
                <a:ext cx="945720" cy="608400"/>
                <a:chOff x="5907960" y="2310840"/>
                <a:chExt cx="945720" cy="608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90796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90796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854040" y="2310840"/>
                <a:ext cx="945720" cy="608400"/>
                <a:chOff x="6854040" y="2310840"/>
                <a:chExt cx="945720" cy="608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85404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85404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7800120" y="2310840"/>
                <a:ext cx="1032840" cy="608400"/>
                <a:chOff x="7800120" y="2310840"/>
                <a:chExt cx="1032840" cy="6084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800120" y="231084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800120" y="231084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537840" y="2919600"/>
                <a:ext cx="2531520" cy="608400"/>
                <a:chOff x="537840" y="2919600"/>
                <a:chExt cx="2531520" cy="608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537840" y="291960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иомасса, тыс.ту.т в го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7840" y="291960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069720" y="2919600"/>
                <a:ext cx="945720" cy="608400"/>
                <a:chOff x="3069720" y="2919600"/>
                <a:chExt cx="945720" cy="608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06972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6972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015800" y="2919600"/>
                <a:ext cx="945720" cy="608400"/>
                <a:chOff x="4015800" y="2919600"/>
                <a:chExt cx="945720" cy="608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01580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01580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4961880" y="2919600"/>
                <a:ext cx="945720" cy="608400"/>
                <a:chOff x="4961880" y="2919600"/>
                <a:chExt cx="945720" cy="608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96188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96188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907960" y="2919600"/>
                <a:ext cx="945720" cy="608400"/>
                <a:chOff x="5907960" y="2919600"/>
                <a:chExt cx="945720" cy="6084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90796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90796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854040" y="2919600"/>
                <a:ext cx="945720" cy="608400"/>
                <a:chOff x="6854040" y="2919600"/>
                <a:chExt cx="945720" cy="6084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85404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5404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800120" y="2919600"/>
                <a:ext cx="1032840" cy="608400"/>
                <a:chOff x="7800120" y="2919600"/>
                <a:chExt cx="1032840" cy="6084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800120" y="291960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800120" y="291960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37840" y="3528000"/>
                <a:ext cx="2531520" cy="608400"/>
                <a:chOff x="537840" y="3528000"/>
                <a:chExt cx="2531520" cy="6084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37840" y="352800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олнечная энергия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37840" y="352800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3069720" y="3528000"/>
                <a:ext cx="945720" cy="608400"/>
                <a:chOff x="3069720" y="3528000"/>
                <a:chExt cx="945720" cy="6084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06972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06972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015800" y="3528000"/>
                <a:ext cx="945720" cy="608400"/>
                <a:chOff x="4015800" y="3528000"/>
                <a:chExt cx="945720" cy="6084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01580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1580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4961880" y="3528000"/>
                <a:ext cx="945720" cy="608400"/>
                <a:chOff x="4961880" y="3528000"/>
                <a:chExt cx="945720" cy="608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96188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96188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5907960" y="3528000"/>
                <a:ext cx="945720" cy="608400"/>
                <a:chOff x="5907960" y="3528000"/>
                <a:chExt cx="945720" cy="608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90796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90796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854040" y="3528000"/>
                <a:ext cx="945720" cy="608400"/>
                <a:chOff x="6854040" y="3528000"/>
                <a:chExt cx="945720" cy="608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85404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85404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800120" y="3528000"/>
                <a:ext cx="1032840" cy="608400"/>
                <a:chOff x="7800120" y="3528000"/>
                <a:chExt cx="1032840" cy="6084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800120" y="352800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800120" y="352800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537840" y="4136760"/>
                <a:ext cx="2531520" cy="765720"/>
                <a:chOff x="537840" y="4136760"/>
                <a:chExt cx="2531520" cy="7657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537840" y="4136760"/>
                  <a:ext cx="2531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оммунальные отходы тыс.ту.т в го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37840" y="4136760"/>
                  <a:ext cx="25315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069720" y="4136760"/>
                <a:ext cx="945720" cy="765720"/>
                <a:chOff x="3069720" y="4136760"/>
                <a:chExt cx="945720" cy="7657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06972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6972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015800" y="4136760"/>
                <a:ext cx="945720" cy="765720"/>
                <a:chOff x="4015800" y="4136760"/>
                <a:chExt cx="945720" cy="765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01580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01580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961880" y="4136760"/>
                <a:ext cx="945720" cy="765720"/>
                <a:chOff x="4961880" y="4136760"/>
                <a:chExt cx="945720" cy="7657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96188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96188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907960" y="4136760"/>
                <a:ext cx="945720" cy="765720"/>
                <a:chOff x="5907960" y="4136760"/>
                <a:chExt cx="945720" cy="765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590796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90796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6854040" y="4136760"/>
                <a:ext cx="945720" cy="765720"/>
                <a:chOff x="6854040" y="4136760"/>
                <a:chExt cx="945720" cy="7657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85404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85404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800120" y="4136760"/>
                <a:ext cx="1032840" cy="765720"/>
                <a:chOff x="7800120" y="4136760"/>
                <a:chExt cx="1032840" cy="7657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800120" y="4136760"/>
                  <a:ext cx="103284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800120" y="4136760"/>
                  <a:ext cx="103284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537840" y="4902840"/>
                <a:ext cx="2531520" cy="608400"/>
                <a:chOff x="537840" y="4902840"/>
                <a:chExt cx="2531520" cy="6084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37840" y="490284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итомасса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37840" y="490284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3069720" y="4902840"/>
                <a:ext cx="945720" cy="608400"/>
                <a:chOff x="3069720" y="4902840"/>
                <a:chExt cx="945720" cy="6084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306972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6972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015800" y="4902840"/>
                <a:ext cx="945720" cy="608400"/>
                <a:chOff x="4015800" y="4902840"/>
                <a:chExt cx="945720" cy="6084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01580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01580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961880" y="4902840"/>
                <a:ext cx="945720" cy="608400"/>
                <a:chOff x="4961880" y="4902840"/>
                <a:chExt cx="945720" cy="6084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496188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96188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907960" y="4902840"/>
                <a:ext cx="945720" cy="608400"/>
                <a:chOff x="5907960" y="4902840"/>
                <a:chExt cx="945720" cy="6084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90796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0796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6854040" y="4902840"/>
                <a:ext cx="945720" cy="608400"/>
                <a:chOff x="6854040" y="4902840"/>
                <a:chExt cx="945720" cy="6084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85404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85404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7800120" y="4902840"/>
                <a:ext cx="1032840" cy="608400"/>
                <a:chOff x="7800120" y="4902840"/>
                <a:chExt cx="1032840" cy="6084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7800120" y="490284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9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800120" y="490284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37840" y="5511240"/>
                <a:ext cx="2531520" cy="451080"/>
                <a:chOff x="537840" y="5511240"/>
                <a:chExt cx="2531520" cy="4510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37840" y="5511240"/>
                  <a:ext cx="25315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игнин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37840" y="5511240"/>
                  <a:ext cx="25315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3069720" y="5511240"/>
                <a:ext cx="945720" cy="451080"/>
                <a:chOff x="3069720" y="5511240"/>
                <a:chExt cx="945720" cy="451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06972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06972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015800" y="5511240"/>
                <a:ext cx="945720" cy="451080"/>
                <a:chOff x="4015800" y="5511240"/>
                <a:chExt cx="945720" cy="4510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01580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01580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961880" y="5511240"/>
                <a:ext cx="945720" cy="451080"/>
                <a:chOff x="4961880" y="5511240"/>
                <a:chExt cx="945720" cy="4510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96188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96188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907960" y="5511240"/>
                <a:ext cx="945720" cy="451080"/>
                <a:chOff x="5907960" y="5511240"/>
                <a:chExt cx="945720" cy="4510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90796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0796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54040" y="5511240"/>
                <a:ext cx="945720" cy="451080"/>
                <a:chOff x="6854040" y="5511240"/>
                <a:chExt cx="945720" cy="4510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5404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404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7800120" y="5511240"/>
                <a:ext cx="1032840" cy="451080"/>
                <a:chOff x="7800120" y="5511240"/>
                <a:chExt cx="1032840" cy="4510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7800120" y="5511240"/>
                  <a:ext cx="103284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800120" y="5511240"/>
                  <a:ext cx="103284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537840" y="5962680"/>
                <a:ext cx="2531520" cy="765720"/>
                <a:chOff x="537840" y="5962680"/>
                <a:chExt cx="2531520" cy="7657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37840" y="5962680"/>
                  <a:ext cx="2531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Этанол и биодизельное топливо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37840" y="5962680"/>
                  <a:ext cx="25315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3069720" y="5962680"/>
                <a:ext cx="945720" cy="765720"/>
                <a:chOff x="3069720" y="5962680"/>
                <a:chExt cx="945720" cy="7657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6972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6972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015800" y="5962680"/>
                <a:ext cx="945720" cy="765720"/>
                <a:chOff x="4015800" y="5962680"/>
                <a:chExt cx="945720" cy="7657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01580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01580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961880" y="5962680"/>
                <a:ext cx="945720" cy="765720"/>
                <a:chOff x="4961880" y="5962680"/>
                <a:chExt cx="945720" cy="7657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96188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6188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907960" y="5962680"/>
                <a:ext cx="945720" cy="765720"/>
                <a:chOff x="5907960" y="5962680"/>
                <a:chExt cx="945720" cy="7657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90796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90796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6854040" y="5962680"/>
                <a:ext cx="945720" cy="765720"/>
                <a:chOff x="6854040" y="5962680"/>
                <a:chExt cx="945720" cy="765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685404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85404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800120" y="5962680"/>
                <a:ext cx="1032840" cy="765720"/>
                <a:chOff x="7800120" y="5962680"/>
                <a:chExt cx="1032840" cy="765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800120" y="5962680"/>
                  <a:ext cx="103284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800120" y="5962680"/>
                  <a:ext cx="103284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533520" y="914400"/>
              <a:ext cx="8305200" cy="58165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8CF-57DA-468B-A7F1-326F5F4E6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2:10:49Z</dcterms:created>
  <dc:creator> ОНТП и ВЭС</dc:creator>
  <dc:description/>
  <dc:language>en-US</dc:language>
  <cp:lastModifiedBy> ОНТП и ВЭС</cp:lastModifiedBy>
  <dcterms:modified xsi:type="dcterms:W3CDTF">2006-12-04T16:15:03Z</dcterms:modified>
  <cp:revision>35</cp:revision>
  <dc:subject/>
  <dc:title>СТРАТЕГИЯ ШИРОКОМАСШТАБНОГО ИСПОЛЬЗОВАНИЯ ДРЕВЕСНОГО ТОПЛИВА</dc:title>
</cp:coreProperties>
</file>