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F185-5B78-4D76-AC7F-6CB0B095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6311-59F6-4B63-8B50-8B036336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280F-4BAF-4818-B3A8-292D0536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528-631F-4C5B-9032-2E2781EF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8A11-50EA-426F-A179-411DF994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E4DD-6781-4FD6-98C7-443B4D2F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B098-FA1B-431B-8C76-89AFBCB8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A2E1-28AC-4222-8AC9-1D71E04E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7626-DB25-4A21-81B1-A3DF7CBD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1DB9-73DD-460A-A92A-165532AD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9A1A-F2DF-4440-B5CE-8BCF1A23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3675-1CA4-4ECA-9892-928E54B8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A276-5AD6-4799-9D3A-9C258D7C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FFFA-0FDE-49FB-9283-17ED386B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0DA4-EBD6-495A-8551-A1E4EBB1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CBAD-2571-4788-990B-CB77DD36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617B-D6A8-428A-B544-FF88439B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B0AB5-CD9A-4537-9004-D0BEA2D3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0CE08-A945-47D8-A4C1-480F881D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9E205-E7BF-47B3-AF0A-59C85A2D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B2BD8-89B1-46D3-8E16-4EE044C3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E19EA-63F0-420B-AF65-2CD7B3C2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7D4E-6828-48CA-A77D-AEADC2B9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7EA3F-8149-461F-9B63-41099E48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F1A01-EA77-48F7-9145-EF8584AC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1D477-C53B-40D5-B372-C3873858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27CEB-2480-4672-B923-267231A1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3CF81-8AD9-4E1E-BF5B-B74A3677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F6C38-51B6-4454-985A-61D45AE7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528E9-4B4F-4AE3-AB8C-DBC3FCA7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520-0266-4339-BEAC-ABA1A69A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C707-7659-47D5-9ADC-A4AF2B4C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4914-0DC3-40AD-AD9F-A176E911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0393-D278-4C58-ADEC-66311197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D26-DC17-43A2-90E9-337F47D8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F0F6-6B4A-4F71-A35A-2C8950E8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DE31-3D5C-4873-A32E-1C00B52865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999F-0EC9-4A5F-AB6F-8024EA66A2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4D8E-5288-491C-86BF-6B5D123A0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26920" y="1773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бросы загрязняющих веществ в атмосферный воздух при сжигании биом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5516640"/>
            <a:ext cx="5329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.С. Пилипчук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лавный специалист Министерства природных ресурсов и охраны окружающей среды Республики Белару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95280" y="18864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им образом, все выбросы, образующиеся в результате сгорания топлива, можно подразделить на выбросы, характеристики которых определяются свойствами топлива и выбросы, характеристики которых определяются технологией сжигания топлива и условиями технологического проце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54160" y="1486080"/>
          <a:ext cx="8800920" cy="4679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1486080"/>
                    <a:ext cx="8800920" cy="46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24000" y="239760"/>
            <a:ext cx="84913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50021"/>
                </a:solidFill>
                <a:latin typeface="Arial"/>
              </a:rPr>
              <a:t>Вторичные меры по снижению уровня выбросов загрязняющих веществ применяются с целью удаления их из отходящих газов котла, среди которых особое значение имеет удаление твердых частиц, NO</a:t>
            </a:r>
            <a:r>
              <a:rPr b="0" lang="en-US" sz="1700" spc="-1" strike="noStrike" baseline="-25000">
                <a:solidFill>
                  <a:srgbClr val="a50021"/>
                </a:solidFill>
                <a:latin typeface="Arial"/>
              </a:rPr>
              <a:t>x</a:t>
            </a:r>
            <a:r>
              <a:rPr b="0" lang="en-US" sz="1700" spc="-1" strike="noStrike">
                <a:solidFill>
                  <a:srgbClr val="a50021"/>
                </a:solidFill>
                <a:latin typeface="Arial"/>
              </a:rPr>
              <a:t>, SO</a:t>
            </a:r>
            <a:r>
              <a:rPr b="0" lang="en-US" sz="17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a50021"/>
                </a:solidFill>
                <a:latin typeface="Arial"/>
              </a:rPr>
              <a:t>. Применяемые при этом методы различны как по степени снижения выбросов так и по стоимости. Однако, применение таких мер необходимо для соблюдения </a:t>
            </a:r>
            <a:r>
              <a:rPr b="1" lang="en-US" sz="1700" spc="-1" strike="noStrike">
                <a:solidFill>
                  <a:srgbClr val="a50021"/>
                </a:solidFill>
                <a:latin typeface="Arial"/>
              </a:rPr>
              <a:t>нормативов допустимой антропогенной нагрузки на окружающую среду, нормативов качества окружающей среды, а также технических нормативов </a:t>
            </a:r>
            <a:r>
              <a:rPr b="0" lang="en-US" sz="1700" spc="-1" strike="noStrike">
                <a:solidFill>
                  <a:srgbClr val="a50021"/>
                </a:solidFill>
                <a:latin typeface="Arial"/>
              </a:rPr>
              <a:t>и должно быть направлено</a:t>
            </a:r>
            <a:r>
              <a:rPr b="1" lang="en-US" sz="17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a50021"/>
                </a:solidFill>
                <a:latin typeface="Arial"/>
              </a:rPr>
              <a:t>на</a:t>
            </a:r>
            <a:r>
              <a:rPr b="1" lang="en-US" sz="1700" spc="-1" strike="noStrike">
                <a:solidFill>
                  <a:srgbClr val="a50021"/>
                </a:solidFill>
                <a:latin typeface="Arial"/>
              </a:rPr>
              <a:t> максимально возможное предотвращение загрязнения окружающей сред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574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2637000"/>
            <a:ext cx="843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В соответствии с постановлением Госстандарта Республики Беларусь от 19.04.2006 г. № 18 с 1 июля 2006 года на территории Республики Беларусь введены в действие государственные стандар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СТБ 1626.1-2006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«Установки котельные. Установки, работающие на газообразном, жидком и твердом топливе. Нормы выбросов загрязняющих веществ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СТБ 1626.2-2006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«Установки котельные. Установки, работающие на биомассе. Нормы выбросов загрязняющих вещест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4968360"/>
            <a:ext cx="847224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50021"/>
                </a:solidFill>
                <a:latin typeface="Arial"/>
              </a:rPr>
              <a:t>Таким образом, с введением в действие СТБ 1626.1 и СТБ 1626.2 реализованы требования об установлении нормативов допустимых выбросов для стационарных источников воздействия на окружающую среду, изложенные в статье 22 Закона Республики Беларусь от 26 ноября 1992 года №1982-XII "Об охране окружающей среды" и статье 23 Закона Республики Беларусь от 15 апреля 1997 года №29-З "Об охране атмосферного воздуха"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324000" y="3933720"/>
          <a:ext cx="8569080" cy="2346480"/>
        </p:xfrm>
        <a:graphic>
          <a:graphicData uri="http://schemas.openxmlformats.org/drawingml/2006/table">
            <a:tbl>
              <a:tblPr/>
              <a:tblGrid>
                <a:gridCol w="2447640"/>
                <a:gridCol w="1400400"/>
                <a:gridCol w="1552320"/>
                <a:gridCol w="1584360"/>
                <a:gridCol w="158436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Теплопроизводи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котельной установки, МВ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Норма выброса, мг/м</a:t>
                      </a:r>
                      <a:r>
                        <a:rPr b="0" lang="en-US" sz="1400" spc="-1" strike="noStrike" baseline="30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твердых част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углерода оксида (С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азота оксидов (NO</a:t>
                      </a:r>
                      <a:r>
                        <a:rPr b="0" lang="en-US" sz="1400" spc="-1" strike="noStrike" baseline="-30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серы диоксида (SO</a:t>
                      </a:r>
                      <a:r>
                        <a:rPr b="0" lang="en-US" sz="1400" spc="-1" strike="noStrike" baseline="-30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От 0,1 до 0,3 вклю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Не устанавлива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Не устанавлива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Св. 0,3 « 2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 2 « 25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 25  « 50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 50 « 100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250920" y="3068280"/>
            <a:ext cx="86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Нормы выбросов в атмосферу для котельных установ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веденных в эксплуатацию после 01.07.200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24000" y="836640"/>
          <a:ext cx="8569080" cy="2336760"/>
        </p:xfrm>
        <a:graphic>
          <a:graphicData uri="http://schemas.openxmlformats.org/drawingml/2006/table">
            <a:tbl>
              <a:tblPr/>
              <a:tblGrid>
                <a:gridCol w="2436840"/>
                <a:gridCol w="1414440"/>
                <a:gridCol w="1573200"/>
                <a:gridCol w="1573200"/>
                <a:gridCol w="157140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Теплопроизводи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котельной установки, МВ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Норма выброса, мг/м</a:t>
                      </a:r>
                      <a:r>
                        <a:rPr b="0" lang="en-US" sz="1400" spc="-1" strike="noStrike" baseline="30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твердых част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углерода оксида (С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азота оксидов (NO</a:t>
                      </a:r>
                      <a:r>
                        <a:rPr b="0" lang="en-US" sz="1400" spc="-1" strike="noStrike" baseline="-30000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серы диоксида (SO</a:t>
                      </a:r>
                      <a:r>
                        <a:rPr b="0" lang="en-US" sz="1400" spc="-1" strike="noStrike" baseline="-30000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От 0,1 до 0,3 вклю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Не устанавлива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Не устанавлива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Св. 0,3 « 2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 2 « 25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 25  « 50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 50 « 100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250920" y="1202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Нормы выбросов в атмосферу для котельных установ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веденных в эксплуатацию до 01.07.200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24000" y="404640"/>
            <a:ext cx="849600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Выв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1. Учитывая создавшееся положение с топливно-энергетическими ресурсами, постоянный рост цен на импортируемое топливо, использование  биомассы является одним из основных приоритетных направлений Концепции    энергетической    безопасности  и   повышения энергетической независимости Республики Беларусь, утвержденной Указом Президента Республики Беларусь от 25 августа 2005 г. №3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2. Сжигание биомассы возможно в любых котлах при соблюдении требований СТБ 1626.2-2006 «Установки котельные. Установки, работающие на биомассе. Нормы выбросов загрязняющих вещест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3. При сжигании биомассы необходимо применять первичные меры по снижению уровня выбросов загрязняющих веществ, главным из которых является уменьшение уровня влажности топл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4. При сжигании биомассы необходимо наладить управление процессом горения и оптимизировать режимы работы котлов с учетом влияния на  выбросы слишком низкой температуры горения, слишком коротком времени пребывания топлива в топке, недостатке/избытке кисл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5. При сжигании биомассы в существующих котлах необходимо рассмотреть возможность внедрения технологий ступенчатого сжигания и дожигания топл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95280" y="333360"/>
            <a:ext cx="849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6. При сжигании биомассы необходимо дополнительно применять различное пылегазоочистное оборудование с целью удаления загрязняющих веществ из отходящих газов котла и соблюдения норм их выбросов в атмосферный воздух, установленных в СТБ 1626.2-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7. Сжигание биомассы выгодно, однако биомасса - не бесплатное топливо и цена его будет расти. Поэтому для сжигания биомассы необходимо применять соответствующее оборудование, обеспечивающее более полное сжигание топлива с более высоким коэффициентом полезного действия. Использование старых, переоборудованных котлов повлечет за собой неоправданное увеличение потребление топливных ресурсов из-за низкого КПД их ис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8. Реконструкция существующих газомазутных котлов приведет к резкому увеличению потребления топливно-энергетических ресурсов из-за снижения КПД таких котлов, в некоторых случаях до 40-50 процентов. Сжигание биомассы в старых твердотопливных котлах, рассчитанных на применение каменного угля (антрацита), резко ухудшает их технико-экономические характеристики и экологическую обстановку в районе размещения таких котель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979640" y="1268280"/>
            <a:ext cx="6264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Спасибо за внимание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03960" y="580536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тел. 200-73-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0920" y="333360"/>
            <a:ext cx="864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Расчет выбросов загрязняющих веществ в атмосферный воздух производится в соответствии с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ТКП 17.08-01-2006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«Охрана окружающей среды и природопользование. Атмосфера. Выбросы загрязняющих веществ в атмосферный воздух.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Порядок определения выбросов при сжигании топлива в котлах теплопроизводительностью до 25 МВт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», утвержденном и введенном в действие с 01 мая 2006 г. постановлением Минприроды №2/10 от 28.02.200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47242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Таким образом, в официальных технических нормативных правовых актах закреплена юридическая и техническая возможность расчета выбросов загрязняющих веществ сжигания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следующих многочисленных видов биомас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430200" y="-414360"/>
            <a:ext cx="43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430200" y="-414360"/>
            <a:ext cx="43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430200" y="-414360"/>
            <a:ext cx="40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430200" y="-414360"/>
            <a:ext cx="46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430200" y="-414360"/>
            <a:ext cx="539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430200" y="-414360"/>
            <a:ext cx="43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430200" y="-414360"/>
            <a:ext cx="43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430200" y="-414360"/>
            <a:ext cx="757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430200" y="-414360"/>
            <a:ext cx="53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430200" y="-414360"/>
            <a:ext cx="43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430200" y="-414360"/>
            <a:ext cx="43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430200" y="-414360"/>
            <a:ext cx="43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430200" y="-414360"/>
            <a:ext cx="542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430200" y="-414360"/>
            <a:ext cx="539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2421000"/>
            <a:ext cx="864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Сжигание топлива в котлах теплопроизводительностью более 25 МВт регламентируется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ТКП 17.08-04-2006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«Охрана окружающей среды и природопользование. Атмосфера. Выбросы загрязняющих веществ в атмосферный воздух.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Порядок определения выбросов при сжигании топлива в котлах теплопроизводительностью более 25 МВт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», утвержденном и введенном в действие с 01 сентября 2006 г. постановлением Минприроды №3-Т от 28.06.2006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79280" y="189000"/>
          <a:ext cx="8785440" cy="6603840"/>
        </p:xfrm>
        <a:graphic>
          <a:graphicData uri="http://schemas.openxmlformats.org/drawingml/2006/table">
            <a:tbl>
              <a:tblPr/>
              <a:tblGrid>
                <a:gridCol w="1346040"/>
                <a:gridCol w="2055600"/>
                <a:gridCol w="352800"/>
                <a:gridCol w="426600"/>
                <a:gridCol w="495000"/>
                <a:gridCol w="567000"/>
                <a:gridCol w="496800"/>
                <a:gridCol w="495000"/>
                <a:gridCol w="709200"/>
                <a:gridCol w="777600"/>
                <a:gridCol w="495000"/>
                <a:gridCol w="568800"/>
              </a:tblGrid>
              <a:tr h="1189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Наименование топл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Марка или в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Состав рабочей массы топлива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Низшая теплота сгорания МДж/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Объемы  дымовых газов нм</a:t>
                      </a:r>
                      <a:r>
                        <a:rPr b="1" lang="ru-RU" sz="1200" spc="-1" strike="noStrike" baseline="30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/кг при </a:t>
                      </a: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=1,4, </a:t>
                      </a: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=0°</a:t>
                      </a: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=101,3 к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Отходы древесные для топливных нуж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Кора, кородревесные оста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8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1,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Щепа из малоплотной древесины (ель, сосна, тополь, липа, осина, ив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4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8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1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Щепа из среднеплотной древесины (береза, ольха, орех, дуб, кле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3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9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Древесные отходы, обрез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2,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2,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,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Топливо энергетическое из быстрорастущей древесины для топливных нуж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Древесина дровяная для топливных нуж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Хвой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4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Лиственные малоплот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1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4,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,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Лиственные среднеплот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1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,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3,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,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,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Смеш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1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,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Древесные стружки опилки, для топливных нуж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1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3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,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,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Костра для топливных нуж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2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4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4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Отходы сельскохозяйственного производства для топливных нуж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1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,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5,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4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,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635280" y="1341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067280" y="1341360"/>
                <a:ext cx="2887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00720" y="1341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076720" y="134136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084720" y="1341360"/>
                <a:ext cx="3016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580000" y="1341360"/>
                <a:ext cx="2890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659640" y="134136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380360" y="1341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101080" y="1341360"/>
                <a:ext cx="3603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y</m:t>
                        </m:r>
                      </m:sub>
                      <m:sup>
                        <m:r>
                          <m:t xml:space="preserve">1,4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8604360" y="1341360"/>
                <a:ext cx="3427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mp</m:t>
                        </m:r>
                      </m:sub>
                      <m:sup>
                        <m:r>
                          <m:t xml:space="preserve">1,4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84360" y="692280"/>
                <a:ext cx="2881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y</m:t>
                        </m:r>
                      </m:sub>
                      <m:sup>
                        <m:r>
                          <m:t xml:space="preserve">1,4</m:t>
                        </m:r>
                      </m:sup>
                    </m:sSub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643280" y="692280"/>
                <a:ext cx="3311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эм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11280" y="1052640"/>
                <a:ext cx="2808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11280" y="1413000"/>
                <a:ext cx="22320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·</m:t>
                        </m:r>
                        <m:r>
                          <m:t xml:space="preserve">N</m:t>
                        </m:r>
                      </m:num>
                      <m:den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·</m:t>
                        </m:r>
                        <m:r>
                          <m:t xml:space="preserve">η</m:t>
                        </m:r>
                      </m:den>
                    </m:f>
                    <m:r>
                      <m:t xml:space="preserve">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11280" y="2349360"/>
                <a:ext cx="396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·</m:t>
                        </m:r>
                        <m:r>
                          <m:t xml:space="preserve">N</m:t>
                        </m:r>
                      </m:num>
                      <m:den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·</m:t>
                        </m:r>
                        <m:r>
                          <m:t xml:space="preserve">η</m:t>
                        </m:r>
                      </m:den>
                    </m:f>
                    <m:r>
                      <m:t xml:space="preserve">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y</m:t>
                        </m:r>
                      </m:sub>
                      <m:sup>
                        <m:r>
                          <m:t xml:space="preserve">1,4</m:t>
                        </m:r>
                      </m:sup>
                    </m:sSub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932360" y="2349360"/>
                <a:ext cx="39592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·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r>
                      <m:t xml:space="preserve">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эм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539640" y="9324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Выбросы загрязняющих веществ в атмосферный воздух могут быть рассчитаны по одной из двух форму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4595760" y="26928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1480" y="1124280"/>
            <a:ext cx="52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четный расход топлива, рассчитываемый по формул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4600" y="2029680"/>
            <a:ext cx="81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ановка данного выражения приводит первые формулы к следующему ви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2932560"/>
            <a:ext cx="835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Таким образом, четко видна зависимость выбросов загрязняющих веществ от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низшей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теплоты сгорания топлива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 и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коэффициента полезного действия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 котла. Рассмотрим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подробнее, каким образом происходит влияние данных величин на выбросы загрязняющих веществ.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Высушивание и пиролиз/газификация являются первыми этапами процесса сгорания твердого топлива, и соответственно при высушивании происходит испарение влаги, что уменьшает температуру в топке, замедляя процесс сжигания топлива. Испарение содержащейся в древесине влаги и последующий нагрев водяного пара требуют значительных затрат энергии, что приводит к падению температуры ниже минимального уровня, требуемого для обеспечения процесса горения. Следовательно,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влажность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 является одной из наиболее важных переменных характеристик топлива и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напрямую влияет на низшую теплоту сгорания топлива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3492360" y="6199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4000" y="1890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Влажность древесины зависит от метода ее производства и хранения и выражается по форму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95280" y="765000"/>
                <a:ext cx="18003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411280" y="765000"/>
                <a:ext cx="21600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2630520" y="764280"/>
            <a:ext cx="34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ь древесины при влажност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411280" y="1052640"/>
                <a:ext cx="24768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2482560" y="1051920"/>
            <a:ext cx="488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тность древесины при нормальной влажн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12%, к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412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Значение коэффициента плотности древесины 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принимаем с учетом Приложения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к Указаниям по заполнению формы государственной статистической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№ 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4-сн «Отчет об остатках, поступлении и расходе топлива, сборе и использовании отработанных нефтепродукт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50920" y="2637000"/>
          <a:ext cx="8713800" cy="4170240"/>
        </p:xfrm>
        <a:graphic>
          <a:graphicData uri="http://schemas.openxmlformats.org/drawingml/2006/table">
            <a:tbl>
              <a:tblPr/>
              <a:tblGrid>
                <a:gridCol w="2500200"/>
                <a:gridCol w="809640"/>
                <a:gridCol w="895320"/>
                <a:gridCol w="1101600"/>
                <a:gridCol w="1171800"/>
                <a:gridCol w="1290600"/>
                <a:gridCol w="944640"/>
              </a:tblGrid>
              <a:tr h="14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Наименование топли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Влажность древесины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Низшая рабочая теплота сгорания, МДж/кг при влажности </a:t>
                      </a: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Коэффициент пересчета одного плотного куб. м в тонну натурального топли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Калорийный эквивалент для пересчета одной тонны натурального топлива в тонну условного топли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Рассчитанная влажность древесины исходя из значение коэффициента плотности древесины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Низшая рабочая теплота сгорания МДж/кг при пересчитанной влажности </a:t>
                      </a: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Кора, кородревесные ост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1,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,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Щепа из малоплотной древеси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1,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8,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Щепа из среднеплотной древесины (береза, ольха, орех, дуб, клен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1,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Древесные отходы, обрез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,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9,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Древесина дровяная, хвойные по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,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Древесина дровяная, лиственные по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,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Древесина дровяная, смешанные по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,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,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Древесные стружки, опил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,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Костра льня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4,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4,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Отходы сельскохозяйственного производства, соло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4,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4,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50920" y="19656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Таким образом, степень воздействия влажности на теплоту сгорания иллюстрирует следующий график, который свидетельствует о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сильном снижении теплоты сгорания при увеличении влажности топли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81080" y="1127160"/>
          <a:ext cx="8867520" cy="5294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080" y="1127160"/>
                    <a:ext cx="886752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395280" y="2203560"/>
          <a:ext cx="8353440" cy="4465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203560"/>
                    <a:ext cx="835344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700360" y="260280"/>
                <a:ext cx="39607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·</m:t>
                        </m:r>
                        <m:r>
                          <m:t xml:space="preserve">N</m:t>
                        </m:r>
                      </m:num>
                      <m:den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·</m:t>
                        </m:r>
                        <m:r>
                          <m:t xml:space="preserve">η</m:t>
                        </m:r>
                      </m:den>
                    </m:f>
                    <m:r>
                      <m:t xml:space="preserve">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y</m:t>
                        </m:r>
                      </m:sub>
                      <m:sup>
                        <m:r>
                          <m:t xml:space="preserve">1,4</m:t>
                        </m:r>
                      </m:sup>
                    </m:sSub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24000" y="112536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При увеличении влажности топлива  увеличивается отно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увеличивается, что иллюстрирует следующий график. Следовательно,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увеличиваются выбросы загрязняющих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7380360" y="981000"/>
                <a:ext cx="7207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y</m:t>
                            </m:r>
                          </m:sub>
                          <m:sup>
                            <m:r>
                              <m:t xml:space="preserve">1,4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24000" y="1484280"/>
          <a:ext cx="8569080" cy="4579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484280"/>
                    <a:ext cx="856908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539640" y="260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Рассмотрим подробнее, каким образом влажность топлива влияет на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коэффициент полезного действия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котла. Данную зависимость иллюстрирует следующий график, который показывает уменьшение КПД «брутто» котла при увеличении влажности топл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5280" y="6021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Следовательно, при уменьшении КПД «брутто» кот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увеличиваются выбросы загрязняющих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24000" y="580500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Температура сгорания биомассы в современных технологических процессах составляет от 800ºС до 1100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0920" y="260280"/>
          <a:ext cx="8713800" cy="5473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60280"/>
                    <a:ext cx="871380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5:09:14Z</dcterms:created>
  <dc:creator>Андрей</dc:creator>
  <dc:description/>
  <dc:language>en-US</dc:language>
  <cp:lastModifiedBy>1</cp:lastModifiedBy>
  <dcterms:modified xsi:type="dcterms:W3CDTF">2006-12-05T07:01:48Z</dcterms:modified>
  <cp:revision>39</cp:revision>
  <dc:subject/>
  <dc:title>Слайд 1</dc:title>
</cp:coreProperties>
</file>