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1A3-D669-45FB-8F2C-47504991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36A-6FA3-4138-8DF6-39CE0374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3AF-D8CE-439C-B55A-A854CA99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25A-B25B-447A-AD42-EB1BCC38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8160-326A-4EE9-BFDD-0C09464A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49FC-D9DD-472A-9967-2E27BCD4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0671-A1CA-4EA3-AB91-AD54456C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ADA0-5D02-4896-B186-D313B516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E6EA-5686-40A3-B1C7-50AC2E69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1F0A-8DE1-49D5-9B9E-597A2BE1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875F-7A0C-4FA4-A8B9-4188F25F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A55F-7803-4665-99F6-BF68BE25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3924-AB34-4913-A8C0-E8F52673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E370-C354-4C10-909F-30D2B89E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4C0F-0C1D-49D0-9C8C-FD3792ED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EE9C-DF71-4788-9E17-920EE267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72F3-D598-4E4A-B91F-DCAD4CC2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F025E-DCE3-4110-9AE1-585F7E88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02AD7-415F-4D99-8914-43B80F76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E7659-360E-43EA-8FD2-D1E3905B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94ABA-0895-48ED-9A04-7D6CAE70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2272C-3D83-478A-B559-BA7A568E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A29-E6DA-4EF5-9EFE-2E4F06F7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1BBB5-7ED8-43EE-AB81-43E04721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F48DD-B222-4C46-91CC-00E7F244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79412-3BF0-441A-88AF-4BD0958F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9A4C3-EBCB-4DCC-A4D3-D8A3C477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898CD-28A4-4BAF-9ACA-1C613F7D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1B74C-71C3-45A7-891D-A50F19C7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74F3D-38B5-41C8-AA12-56BE24BF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6344-4920-4888-9E4C-6A2F3E47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59DD-97CA-42DF-9368-620A46A4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101-3EA2-403F-8546-01744C91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5C9-5570-4D73-8FAB-2AB8ECDB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DF5-3834-447C-B52A-0F0F2B04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EF2-AFC6-47A1-9D5A-14DFFDAA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F877-BC3C-4CCA-8130-9239FCB5E3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8BFA-8F35-4D52-AE62-DD58461A25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684C-EB45-40D7-99EC-E87C57DBD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6920" y="1773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росы загрязняющих веществ в атмосферный воздух при сжигании биом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5516640"/>
            <a:ext cx="5329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.С. Пилипчук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лавный специалист Министерства природных ресурсов и охраны окружающей среды Республики Белару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95280" y="18864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им образом, все выбросы, образующиеся в результате сгорания топлива, можно подразделить на выбросы, характеристики которых определяются свойствами топлива и выбросы, характеристики которых определяются технологией сжигания топлива и условиями технологического процес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54160" y="1486080"/>
          <a:ext cx="8800920" cy="4679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1486080"/>
                    <a:ext cx="8800920" cy="46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4000" y="239760"/>
            <a:ext cx="84913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50021"/>
                </a:solidFill>
                <a:latin typeface="Arial"/>
              </a:rPr>
              <a:t>Вторичные меры по снижению уровня выбросов загрязняющих веществ применяются с целью удаления их из отходящих газов котла, среди которых особое значение имеет удаление твердых частиц, NO</a:t>
            </a:r>
            <a:r>
              <a:rPr b="0" lang="en-US" sz="1700" spc="-1" strike="noStrike" baseline="-25000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1700" spc="-1" strike="noStrike">
                <a:solidFill>
                  <a:srgbClr val="a50021"/>
                </a:solidFill>
                <a:latin typeface="Arial"/>
              </a:rPr>
              <a:t>, SO</a:t>
            </a:r>
            <a:r>
              <a:rPr b="0" lang="en-US" sz="1700" spc="-1" strike="noStrike" baseline="-25000">
                <a:solidFill>
                  <a:srgbClr val="a50021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a50021"/>
                </a:solidFill>
                <a:latin typeface="Arial"/>
              </a:rPr>
              <a:t>. Применяемые при этом методы различны как по степени снижения выбросов так и по стоимости. Однако, применение таких мер необходимо для соблюдения </a:t>
            </a:r>
            <a:r>
              <a:rPr b="1" lang="en-US" sz="1700" spc="-1" strike="noStrike">
                <a:solidFill>
                  <a:srgbClr val="a50021"/>
                </a:solidFill>
                <a:latin typeface="Arial"/>
              </a:rPr>
              <a:t>нормативов допустимой антропогенной нагрузки на окружающую среду, нормативов качества окружающей среды, а также технических нормативов </a:t>
            </a:r>
            <a:r>
              <a:rPr b="0" lang="en-US" sz="1700" spc="-1" strike="noStrike">
                <a:solidFill>
                  <a:srgbClr val="a50021"/>
                </a:solidFill>
                <a:latin typeface="Arial"/>
              </a:rPr>
              <a:t>и должно быть направлено</a:t>
            </a:r>
            <a:r>
              <a:rPr b="1" lang="en-US" sz="17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a50021"/>
                </a:solidFill>
                <a:latin typeface="Arial"/>
              </a:rPr>
              <a:t>на</a:t>
            </a:r>
            <a:r>
              <a:rPr b="1" lang="en-US" sz="1700" spc="-1" strike="noStrike">
                <a:solidFill>
                  <a:srgbClr val="a50021"/>
                </a:solidFill>
                <a:latin typeface="Arial"/>
              </a:rPr>
              <a:t> максимально возможное предотвращение загрязнения окружающей сред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574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2637000"/>
            <a:ext cx="843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В соответствии с постановлением Госстандарта Республики Беларусь от 19.04.2006 г. № 18 с 1 июля 2006 года на территории Республики Беларусь введены в действие государственные стандар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СТБ 1626.1-2006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«Установки котельные. Установки, работающие на газообразном, жидком и твердом топливе. Нормы выбросов загрязняющих веществ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СТБ 1626.2-2006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«Установки котельные. Установки, работающие на биомассе. Нормы выбросов загрязняющих вещест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4968360"/>
            <a:ext cx="847224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50021"/>
                </a:solidFill>
                <a:latin typeface="Arial"/>
              </a:rPr>
              <a:t>Таким образом, с введением в действие СТБ 1626.1 и СТБ 1626.2 реализованы требования об установлении нормативов допустимых выбросов для стационарных источников воздействия на окружающую среду, изложенные в статье 22 Закона Республики Беларусь от 26 ноября 1992 года №1982-XII "Об охране окружающей среды" и статье 23 Закона Республики Беларусь от 15 апреля 1997 года №29-З "Об охране атмосферного воздуха"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324000" y="3933720"/>
          <a:ext cx="8569080" cy="2346480"/>
        </p:xfrm>
        <a:graphic>
          <a:graphicData uri="http://schemas.openxmlformats.org/drawingml/2006/table">
            <a:tbl>
              <a:tblPr/>
              <a:tblGrid>
                <a:gridCol w="2447640"/>
                <a:gridCol w="1400400"/>
                <a:gridCol w="1552320"/>
                <a:gridCol w="1584360"/>
                <a:gridCol w="158436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Теплопроизвод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котельной установки, МВ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орма выброса, мг/м</a:t>
                      </a:r>
                      <a:r>
                        <a:rPr b="0" lang="en-US" sz="1400" spc="-1" strike="noStrike" baseline="30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твердых част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углерода оксида (С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азота оксидов (NO</a:t>
                      </a:r>
                      <a:r>
                        <a:rPr b="0" lang="en-US" sz="1400" spc="-1" strike="noStrike" baseline="-30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серы диоксида (SO</a:t>
                      </a:r>
                      <a:r>
                        <a:rPr b="0" lang="en-US" sz="1400" spc="-1" strike="noStrike" baseline="-30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От 0,1 до 0,3 вклю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е устанавлив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е устанавлив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Св. 0,3 « 2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 2 « 25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 25  « 50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 50 « 100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250920" y="3068280"/>
            <a:ext cx="86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ормы выбросов в атмосферу для котельных установ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веденных в эксплуатацию после 01.07.200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24000" y="836640"/>
          <a:ext cx="8569080" cy="2336760"/>
        </p:xfrm>
        <a:graphic>
          <a:graphicData uri="http://schemas.openxmlformats.org/drawingml/2006/table">
            <a:tbl>
              <a:tblPr/>
              <a:tblGrid>
                <a:gridCol w="2436840"/>
                <a:gridCol w="1414440"/>
                <a:gridCol w="1573200"/>
                <a:gridCol w="1573200"/>
                <a:gridCol w="157140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Теплопроизводи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котельной установки, МВ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орма выброса, мг/м</a:t>
                      </a:r>
                      <a:r>
                        <a:rPr b="0" lang="en-US" sz="1400" spc="-1" strike="noStrike" baseline="30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твердых част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углерода оксида (С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азота оксидов (NO</a:t>
                      </a:r>
                      <a:r>
                        <a:rPr b="0" lang="en-US" sz="1400" spc="-1" strike="noStrike" baseline="-30000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серы диоксида (SO</a:t>
                      </a:r>
                      <a:r>
                        <a:rPr b="0" lang="en-US" sz="1400" spc="-1" strike="noStrike" baseline="-30000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От 0,1 до 0,3 вклю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е устанавлив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е устанавлив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Св. 0,3 « 2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 2 « 25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 25  « 50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« 50 « 100 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250920" y="1202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ормы выбросов в атмосферу для котельных установ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веденных в эксплуатацию до 01.07.200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24000" y="404640"/>
            <a:ext cx="8496000" cy="56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Выв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1. Учитывая создавшееся положение с топливно-энергетическими ресурсами, постоянный рост цен на импортируемое топливо, использование  биомассы является одним из основных приоритетных направлений Концепции    энергетической    безопасности  и   повышения энергетической независимости Республики Беларусь, утвержденной Указом Президента Республики Беларусь от 25 августа 2005 г. №3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2. Сжигание биомассы возможно в любых котлах при соблюдении требований СТБ 1626.2-2006 «Установки котельные. Установки, работающие на биомассе. Нормы выбросов загрязняющих вещест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3. При сжигании биомассы необходимо применять первичные меры по снижению уровня выбросов загрязняющих веществ, главным из которых является уменьшение уровня влажности топл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4. При сжигании биомассы необходимо наладить управление процессом горения и оптимизировать режимы работы котлов с учетом влияния на  выбросы слишком низкой температуры горения, слишком коротком времени пребывания топлива в топке, недостатке/избытке кисл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5. При сжигании биомассы в существующих котлах необходимо рассмотреть возможность внедрения технологий ступенчатого сжигания и дожигания топл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95280" y="333360"/>
            <a:ext cx="849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6. При сжигании биомассы необходимо дополнительно применять различное пылегазоочистное оборудование с целью удаления загрязняющих веществ из отходящих газов котла и соблюдения норм их выбросов в атмосферный воздух, установленных в СТБ 1626.2-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7. Сжигание биомассы выгодно, однако биомасса - не бесплатное топливо и цена его будет расти. Поэтому для сжигания биомассы необходимо применять соответствующее оборудование, обеспечивающее более полное сжигание топлива с более высоким коэффициентом полезного действия. Использование старых, переоборудованных котлов повлечет за собой неоправданное увеличение потребление топливных ресурсов из-за низкого КПД их ис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8. Реконструкция существующих газомазутных котлов приведет к резкому увеличению потребления топливно-энергетических ресурсов из-за снижения КПД таких котлов, в некоторых случаях до 40-50 процентов. Сжигание биомассы в старых твердотопливных котлах, рассчитанных на применение каменного угля (антрацита), резко ухудшает их технико-экономические характеристики и экологическую обстановку в районе размещения таких котель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979640" y="1268280"/>
            <a:ext cx="626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Спасибо за внимание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03960" y="580536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тел. 200-73-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0920" y="333360"/>
            <a:ext cx="864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Расчет выбросов загрязняющих веществ в атмосферный воздух производится в соответствии с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ТКП 17.08-01-2006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«Охрана окружающей среды и природопользование. Атмосфера. Выбросы загрязняющих веществ в атмосферный воздух.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орядок определения выбросов при сжигании топлива в котлах теплопроизводительностью до 25 МВт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», утвержденном и введенном в действие с 01 мая 2006 г. постановлением Минприроды №2/10 от 28.02.200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47242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Таким образом, в официальных технических нормативных правовых актах закреплена юридическая и техническая возможность расчета выбросов загрязняющих веществ сжигания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следующих многочисленных видов биомас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430200" y="-414360"/>
            <a:ext cx="43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430200" y="-414360"/>
            <a:ext cx="43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430200" y="-414360"/>
            <a:ext cx="40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430200" y="-414360"/>
            <a:ext cx="46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430200" y="-414360"/>
            <a:ext cx="539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430200" y="-414360"/>
            <a:ext cx="43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-430200" y="-414360"/>
            <a:ext cx="43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430200" y="-414360"/>
            <a:ext cx="757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430200" y="-414360"/>
            <a:ext cx="538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430200" y="-414360"/>
            <a:ext cx="43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430200" y="-414360"/>
            <a:ext cx="43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430200" y="-414360"/>
            <a:ext cx="431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430200" y="-414360"/>
            <a:ext cx="542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430200" y="-414360"/>
            <a:ext cx="539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2421000"/>
            <a:ext cx="864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Сжигание топлива в котлах теплопроизводительностью более 25 МВт регламентируется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ТКП 17.08-04-2006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«Охрана окружающей среды и природопользование. Атмосфера. Выбросы загрязняющих веществ в атмосферный воздух.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орядок определения выбросов при сжигании топлива в котлах теплопроизводительностью более 25 МВт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», утвержденном и введенном в действие с 01 сентября 2006 г. постановлением Минприроды №3-Т от 28.06.2006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79280" y="189000"/>
          <a:ext cx="8785440" cy="6603840"/>
        </p:xfrm>
        <a:graphic>
          <a:graphicData uri="http://schemas.openxmlformats.org/drawingml/2006/table">
            <a:tbl>
              <a:tblPr/>
              <a:tblGrid>
                <a:gridCol w="1346040"/>
                <a:gridCol w="2055600"/>
                <a:gridCol w="352800"/>
                <a:gridCol w="426600"/>
                <a:gridCol w="495000"/>
                <a:gridCol w="567000"/>
                <a:gridCol w="496800"/>
                <a:gridCol w="495000"/>
                <a:gridCol w="709200"/>
                <a:gridCol w="777600"/>
                <a:gridCol w="495000"/>
                <a:gridCol w="568800"/>
              </a:tblGrid>
              <a:tr h="1189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аименование топл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Марка или в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Состав рабочей массы топлива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изшая теплота сгорания МДж/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Объемы  дымовых газов нм</a:t>
                      </a:r>
                      <a:r>
                        <a:rPr b="1" lang="ru-RU" sz="1200" spc="-1" strike="noStrike" baseline="30000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/кг при </a:t>
                      </a: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=1,4, </a:t>
                      </a: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=0°</a:t>
                      </a: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ru-RU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=101,3 кП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Отходы древесные для топливных нуж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Кора, кородревесные ост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3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8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1,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Щепа из малоплотной древесины (ель, сосна, тополь, липа, осина, ив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4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8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1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Щепа из среднеплотной древесины (береза, ольха, орех, дуб, кле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3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9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Древесные отходы, обрез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2,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2,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Топливо энергетическое из быстрорастущей древесины для топливных нуж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Древесина дровяная для топливных нуж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Хвой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4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Лиственные малопло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1,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4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Лиственные среднеплот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1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3,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Смеш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1,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Древесные стружки опилки, для топливных нуж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1,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3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Костра для топливных нуж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2,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4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4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Отходы сельскохозяйственного производства для топливных нуж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1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5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4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635280" y="1341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067280" y="1341360"/>
                <a:ext cx="2887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00720" y="1341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076720" y="1341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084720" y="1341360"/>
                <a:ext cx="3016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580000" y="1341360"/>
                <a:ext cx="2890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659640" y="1341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380360" y="1341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101080" y="1341360"/>
                <a:ext cx="3603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y</m:t>
                        </m:r>
                      </m:sub>
                      <m:sup>
                        <m:r>
                          <m:t xml:space="preserve">1,4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8604360" y="1341360"/>
                <a:ext cx="3427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mp</m:t>
                        </m:r>
                      </m:sub>
                      <m:sup>
                        <m:r>
                          <m:t xml:space="preserve">1,4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84360" y="692280"/>
                <a:ext cx="2881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y</m:t>
                        </m:r>
                      </m:sub>
                      <m:sup>
                        <m:r>
                          <m:t xml:space="preserve">1,4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643280" y="692280"/>
                <a:ext cx="331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эм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11280" y="1052640"/>
                <a:ext cx="2808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11280" y="1413000"/>
                <a:ext cx="22320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·</m:t>
                        </m:r>
                        <m:r>
                          <m:t xml:space="preserve">N</m:t>
                        </m:r>
                      </m:num>
                      <m:den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·</m:t>
                        </m:r>
                        <m:r>
                          <m:t xml:space="preserve">η</m:t>
                        </m:r>
                      </m:den>
                    </m:f>
                    <m:r>
                      <m:t xml:space="preserve">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11280" y="2349360"/>
                <a:ext cx="396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·</m:t>
                        </m:r>
                        <m:r>
                          <m:t xml:space="preserve">N</m:t>
                        </m:r>
                      </m:num>
                      <m:den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·</m:t>
                        </m:r>
                        <m:r>
                          <m:t xml:space="preserve">η</m:t>
                        </m:r>
                      </m:den>
                    </m:f>
                    <m:r>
                      <m:t xml:space="preserve">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y</m:t>
                        </m:r>
                      </m:sub>
                      <m:sup>
                        <m:r>
                          <m:t xml:space="preserve">1,4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932360" y="2349360"/>
                <a:ext cx="3959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·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r>
                      <m:t xml:space="preserve">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эм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539640" y="9324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Выбросы загрязняющих веществ в атмосферный воздух могут быть рассчитаны по одной из двух форму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-4595760" y="26928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1480" y="1124280"/>
            <a:ext cx="52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четный расход топлива, рассчитываемый по формул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4600" y="2029680"/>
            <a:ext cx="81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ановка данного выражения приводит первые формулы к следующему ви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2932560"/>
            <a:ext cx="835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Таким образом, четко видна зависимость выбросов загрязняющих веществ от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низшей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теплоты сгорания топлива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 и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коэффициента полезного действия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 котла. Рассмотрим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подробнее, каким образом происходит влияние данных величин на выбросы загрязняющих веществ.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Высушивание и пиролиз/газификация являются первыми этапами процесса сгорания твердого топлива, и соответственно при высушивании происходит испарение влаги, что уменьшает температуру в топке, замедляя процесс сжигания топлива. Испарение содержащейся в древесине влаги и последующий нагрев водяного пара требуют значительных затрат энергии, что приводит к падению температуры ниже минимального уровня, требуемого для обеспечения процесса горения. Следовательно,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влажность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 является одной из наиболее важных переменных характеристик топлива и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напрямую влияет на низшую теплоту сгорания топлива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3492360" y="619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4000" y="1890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Влажность древесины зависит от метода ее производства и хранения и выражается по форму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95280" y="765000"/>
                <a:ext cx="18003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411280" y="765000"/>
                <a:ext cx="21600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2630520" y="764280"/>
            <a:ext cx="34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древесины при влажност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411280" y="1052640"/>
                <a:ext cx="24768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2482560" y="1051920"/>
            <a:ext cx="488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тность древесины при нормальной влажн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12%, кг/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412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Значение коэффициента плотности древесины 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принимаем с учетом Приложения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к Указаниям по заполнению формы государственной статистической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№ </a:t>
            </a: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4-сн «Отчет об остатках, поступлении и расходе топлива, сборе и использовании отработанных нефтепродук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50920" y="2637000"/>
          <a:ext cx="8713800" cy="4170240"/>
        </p:xfrm>
        <a:graphic>
          <a:graphicData uri="http://schemas.openxmlformats.org/drawingml/2006/table">
            <a:tbl>
              <a:tblPr/>
              <a:tblGrid>
                <a:gridCol w="2500200"/>
                <a:gridCol w="809640"/>
                <a:gridCol w="895320"/>
                <a:gridCol w="1101600"/>
                <a:gridCol w="1171800"/>
                <a:gridCol w="1290600"/>
                <a:gridCol w="944640"/>
              </a:tblGrid>
              <a:tr h="14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аименование топли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Влажность древесины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изшая рабочая теплота сгорания, МДж/кг при влажности </a:t>
                      </a: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Коэффициент пересчета одного плотного куб. м в тонну натурального топли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Калорийный эквивалент для пересчета одной тонны натурального топлива в тонну условного топли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Рассчитанная влажность древесины исходя из значение коэффициента плотности древесины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Низшая рабочая теплота сгорания МДж/кг при пересчитанной влажности </a:t>
                      </a: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Кора, кородревесные остат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1,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,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Щепа из малоплотной древесин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1,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8,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Щепа из среднеплотной древесины (береза, ольха, орех, дуб, клен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1,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Древесные отходы, обрез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9,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Древесина дровяная, хвойные по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,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Древесина дровяная, лиственные по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,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Древесина дровяная, смешанные по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,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Древесные стружки, опил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,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Костра льня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4,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4,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Отходы сельскохозяйственного производства, соло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4,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4,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50920" y="1965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</a:rPr>
              <a:t>Таким образом, степень воздействия влажности на теплоту сгорания иллюстрирует следующий график, который свидетельствует о </a:t>
            </a: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сильном снижении теплоты сгорания при увеличении влажности топли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81080" y="1127160"/>
          <a:ext cx="8867520" cy="5294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080" y="1127160"/>
                    <a:ext cx="886752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395280" y="2203560"/>
          <a:ext cx="8353440" cy="4465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203560"/>
                    <a:ext cx="835344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700360" y="260280"/>
                <a:ext cx="39607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·</m:t>
                        </m:r>
                        <m:r>
                          <m:t xml:space="preserve">N</m:t>
                        </m:r>
                      </m:num>
                      <m:den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·</m:t>
                        </m:r>
                        <m:r>
                          <m:t xml:space="preserve">η</m:t>
                        </m:r>
                      </m:den>
                    </m:f>
                    <m:r>
                      <m:t xml:space="preserve">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y</m:t>
                        </m:r>
                      </m:sub>
                      <m:sup>
                        <m:r>
                          <m:t xml:space="preserve">1,4</m:t>
                        </m:r>
                      </m:sup>
                    </m:sSub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24000" y="112536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При увеличении влажности топлива  увеличивается 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увеличивается, что иллюстрирует следующий график. Следовательно,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увеличиваются выбросы загрязняющих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380360" y="981000"/>
                <a:ext cx="720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y</m:t>
                            </m:r>
                          </m:sub>
                          <m:sup>
                            <m:r>
                              <m:t xml:space="preserve">1,4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24000" y="1484280"/>
          <a:ext cx="8569080" cy="4579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84280"/>
                    <a:ext cx="856908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539640" y="260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Рассмотрим подробнее, каким образом влажность топлива влияет на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коэффициент полезного действия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котла. Данную зависимость иллюстрирует следующий график, который показывает уменьшение КПД «брутто» котла при увеличении влажности топл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6021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Следовательно, при уменьшении КПД «брутто» кот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увеличиваются выбросы загрязняющих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24000" y="580500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Температура сгорания биомассы в современных технологических процессах составляет от 800ºС до 1100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0920" y="260280"/>
          <a:ext cx="8713800" cy="5473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60280"/>
                    <a:ext cx="871380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5:09:14Z</dcterms:created>
  <dc:creator>Андрей</dc:creator>
  <dc:description/>
  <dc:language>en-US</dc:language>
  <cp:lastModifiedBy>1</cp:lastModifiedBy>
  <dcterms:modified xsi:type="dcterms:W3CDTF">2006-12-05T07:01:48Z</dcterms:modified>
  <cp:revision>39</cp:revision>
  <dc:subject/>
  <dc:title>Слайд 1</dc:title>
</cp:coreProperties>
</file>