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A3350-899F-4469-A5E7-970F950D1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676520" y="4571640"/>
            <a:ext cx="640080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1676520" y="5448960"/>
            <a:ext cx="640080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0D076-4E69-463B-A85C-EB8C1C41B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676520" y="457164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56480" y="457164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676520" y="544896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956480" y="544896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6182C-92F3-40A4-B304-DEAC59877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676520" y="4571640"/>
            <a:ext cx="206064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840480" y="4571640"/>
            <a:ext cx="206064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04800" y="4571640"/>
            <a:ext cx="206064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1676520" y="5448960"/>
            <a:ext cx="206064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840480" y="5448960"/>
            <a:ext cx="206064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6004800" y="5448960"/>
            <a:ext cx="206064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52378-0919-4656-B579-F2EFC0945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B34FF-A341-4776-8FDF-9079BA1CC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676520" y="4571640"/>
            <a:ext cx="6400800" cy="167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839E0-791A-467D-800A-9DA40C4C7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676520" y="4571640"/>
            <a:ext cx="6400800" cy="16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DBA0F-325C-4712-9743-35B42E884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676520" y="4571640"/>
            <a:ext cx="3123360" cy="16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956480" y="4571640"/>
            <a:ext cx="3123360" cy="16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C3E08-CE3F-4635-9E71-C1C11BCC7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8D43F-E4FE-4034-A191-6BDF7236C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1676520" y="1904760"/>
            <a:ext cx="7238880" cy="883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C8924-6505-4A71-B747-026A64E56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676520" y="457164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956480" y="4571640"/>
            <a:ext cx="3123360" cy="16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1676520" y="544896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C6BD3-30C4-42FC-AE4B-022411263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1676520" y="4571640"/>
            <a:ext cx="6400800" cy="167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9A7E9-99D7-4C4D-8082-0196D917E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676520" y="4571640"/>
            <a:ext cx="3123360" cy="16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956480" y="457164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956480" y="544896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0B71C-5924-4D6B-9B3E-04CEFE5C7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676520" y="457164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956480" y="457164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1676520" y="5448960"/>
            <a:ext cx="640080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77B27-B96C-42EC-8CC9-E21FB4BEF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676520" y="4571640"/>
            <a:ext cx="640080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1676520" y="5448960"/>
            <a:ext cx="640080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E2517-DDDA-4DBE-AF73-C6393AE9B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676520" y="457164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956480" y="457164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1676520" y="544896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956480" y="544896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FAFD1-5547-4529-B4AA-E5D33E56F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676520" y="4571640"/>
            <a:ext cx="206064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840480" y="4571640"/>
            <a:ext cx="206064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04800" y="4571640"/>
            <a:ext cx="206064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1676520" y="5448960"/>
            <a:ext cx="206064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840480" y="5448960"/>
            <a:ext cx="206064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04800" y="5448960"/>
            <a:ext cx="206064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E92B3-5CE7-46AB-861A-7AF93B6B7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676520" y="4571640"/>
            <a:ext cx="6400800" cy="16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5F579-B370-42D8-8241-B98263641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676520" y="4571640"/>
            <a:ext cx="3123360" cy="16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956480" y="4571640"/>
            <a:ext cx="3123360" cy="16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1FDED-CDBC-4072-BBFE-879883B67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3958E-12CA-47A2-8731-E9FA8FF07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676520" y="1904760"/>
            <a:ext cx="7238880" cy="883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A64E0-036F-4BAF-8572-2D1FFCBE3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676520" y="457164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56480" y="4571640"/>
            <a:ext cx="3123360" cy="16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676520" y="544896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83EBE-AFFA-47AC-92FF-C9C28F30A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676520" y="4571640"/>
            <a:ext cx="3123360" cy="16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956480" y="457164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956480" y="544896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12F08-A97C-4D1C-A8AE-6C7663F3C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76520" y="457164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56480" y="457164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1676520" y="5448960"/>
            <a:ext cx="640080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1A45C-70C4-4F94-8CE2-255F9B9D1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1D79C-D9B8-4703-95C4-1CDD534AE6CB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99" name="BTZBUL1A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D249A-DEFC-4F76-BFE5-017E4EA4840A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c00"/>
                </a:solidFill>
                <a:latin typeface="Arial Black"/>
              </a:rPr>
              <a:t>Нормативно-правовая база, регулирующая использование в Беларуси местных топливно-энергетических ресурсов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676520" y="4571640"/>
            <a:ext cx="6400800" cy="167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8600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c00"/>
                </a:solidFill>
                <a:latin typeface="Arial Black"/>
              </a:rPr>
              <a:t>Программа «25%»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звитие сырьевой базы по добыче и производству местных энергоресурс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рупные инвестиционные проект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правления совершенствования нормативно-правовой баз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58500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c00"/>
                </a:solidFill>
                <a:latin typeface="Arial Black"/>
              </a:rPr>
              <a:t>Программа «модернизации и энергосбережения»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пределяет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тенциальные запасы и экономически обоснованные объемы использования местных энергоресурс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адания по отраслям и объемы финансирования до 2010 г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310680"/>
            <a:ext cx="777240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c00"/>
                </a:solidFill>
                <a:latin typeface="Arial Black"/>
              </a:rPr>
              <a:t>Республиканская программа энергосбережения </a:t>
            </a:r>
            <a:br>
              <a:rPr sz="3600"/>
            </a:br>
            <a:r>
              <a:rPr b="0" lang="ru-RU" sz="3600" spc="-1" strike="noStrike">
                <a:solidFill>
                  <a:srgbClr val="ffcc00"/>
                </a:solidFill>
                <a:latin typeface="Arial Black"/>
              </a:rPr>
              <a:t>на 2006-2010гг.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пределяет приоритетность использования местных видов ТЭ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одержит ежегодные задания (плановые объемы) увеличения использования местных энергоресурсов и необходимые объемы финансирования на 2006-2010 гг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310680"/>
            <a:ext cx="777240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c00"/>
                </a:solidFill>
                <a:latin typeface="Arial Black"/>
              </a:rPr>
              <a:t>Отраслевые и региональные программы энергосбережения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еханизм реализации Республиканской программы энергосбереж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раткосрочные и долгосрочные программ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огласование и проверка выполнения со стороны Департамента по энергоэффективност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585360"/>
            <a:ext cx="77724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c00"/>
                </a:solidFill>
                <a:latin typeface="Arial Black"/>
              </a:rPr>
              <a:t>Экономическое стимулирование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Финансирование мероприятий на безвозвратной основе из инновационного фонда Минэнерго на цели энергосбереже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становление Министерства экономики от 31мая 2006 г. №91 по тарифам на электрическую энерги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161640"/>
            <a:ext cx="777240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c00"/>
                </a:solidFill>
                <a:latin typeface="Arial Black"/>
              </a:rPr>
              <a:t>Технические нормативные правовые акты</a:t>
            </a:r>
            <a:br>
              <a:rPr sz="3600"/>
            </a:b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осударственные стандарт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ограмма стандартизации в области энергосбережения на 2006-2010 гг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ехнические условия по отдельным видам местных энергоресурс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58500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c00"/>
                </a:solidFill>
                <a:latin typeface="Arial Black"/>
              </a:rPr>
              <a:t>Система государственной статистической отчетности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Форма «1-энергосбережение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Форма «1-ТЭР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Форма «4-сн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c00"/>
                </a:solidFill>
                <a:latin typeface="Arial Black"/>
              </a:rPr>
              <a:t>Спасибо за внимание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1676520" y="4571640"/>
            <a:ext cx="6400800" cy="167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525600"/>
            <a:ext cx="77724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c00"/>
                </a:solidFill>
                <a:latin typeface="Arial Black"/>
              </a:rPr>
              <a:t>Виды нормативных документов:</a:t>
            </a:r>
            <a:r>
              <a:rPr b="0" lang="ru-RU" sz="44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ормативные правовые акт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ехнические нормативные правовые акт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ограмм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8600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c00"/>
                </a:solidFill>
                <a:latin typeface="Arial Black"/>
              </a:rPr>
              <a:t>Законы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акон «Об энергосбережении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оект закона «О нетрадиционных и возобновляемых источниках энергии»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585360"/>
            <a:ext cx="77724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c00"/>
                </a:solidFill>
                <a:latin typeface="Arial Black"/>
              </a:rPr>
              <a:t>Закон «Об энергосбережении»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пределяет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сновные принципы государственного управления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энергосбережение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сновы экономических и финансовых механизмов энергосбереж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6000"/>
            <a:ext cx="7772400" cy="22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c00"/>
                </a:solidFill>
                <a:latin typeface="Arial Black"/>
              </a:rPr>
              <a:t>Проект закона «О нетрадиционных и возобновляемых источниках энергии»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62120" y="2514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пределяет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правления государственного регулирования в сфере развития и использования НВИЭ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правления государственной поддержки НВИЭ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585360"/>
            <a:ext cx="77724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c00"/>
                </a:solidFill>
                <a:latin typeface="Arial Black"/>
              </a:rPr>
              <a:t>Государственные программы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ЦЕЛЕВАЯ ПРОГРАММА</a:t>
            </a:r>
            <a:r>
              <a:rPr b="1" lang="ru-RU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ОБЕСПЕЧЕНИЯ В РЕСПУБЛИКЕ НЕ МЕНЕЕ 25 ПРОЦЕНТОВ ОБЪЕМА ПРОИЗВОДСТВА ЭЛЕКТРИЧЕСКОЙ И ТЕПЛОВОЙ ЭНЕРГИИ  ЗА СЧЕТ ИСПОЛЬЗОВАНИЯ МЕСТНЫХ ВИДОВ ТОПЛИВА И АЛЬТЕРНАТИВНЫХ ИСТОЧНИКОВ ЭНЕРГИИ</a:t>
            </a:r>
            <a:r>
              <a:rPr b="1" lang="ru-RU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НА ПЕРИОД ДО 2012 ГОД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585360"/>
            <a:ext cx="77724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c00"/>
                </a:solidFill>
                <a:latin typeface="Arial Black"/>
              </a:rPr>
              <a:t>Государственные программы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ГОСУДАРСТВЕННАЯ КОМПЛЕКСНАЯ ПРОГРАММА МОДЕРНИЗАЦИИ ОСНОВНЫХ ПРОИЗВОДСТВЕННЫХ ФОНДОВ БЕЛОРУССКОЙ ЭНЕРГОСИСТЕМЫ, ЭНЕРГОСБЕРЕЖЕНИЯ И УВЕЛИЧЕНИЯ ДОЛИ ИСПОЛЬЗОВАНИЯ В РЕСПУБЛИКЕ СОБСТВЕННЫХ ТОПЛИВНО-ЭНЕРГЕТИЧЕСКИХ РЕСУРСОВ В 2006-2010 ГОДА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585360"/>
            <a:ext cx="77724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c00"/>
                </a:solidFill>
                <a:latin typeface="Arial Black"/>
              </a:rPr>
              <a:t>Государственные программы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РЕСПУБЛИКАНСКАЯ ПРОГРАММА ЭНЕРГОСБЕРЕЖЕНИЯ НА 2006-2010 ГОД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8600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c00"/>
                </a:solidFill>
                <a:latin typeface="Arial Black"/>
              </a:rPr>
              <a:t>Программа «25%»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пределяет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огноз потребности в энергоносителях и структуры топливно-энергетического баланса Беларуси до 2012 г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Запасы и экономически целесообразный потенциал использования местных энергоресурс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8T14:47:22Z</dcterms:created>
  <dc:creator>Проказов</dc:creator>
  <dc:description/>
  <dc:language>en-US</dc:language>
  <cp:lastModifiedBy>Проказов</cp:lastModifiedBy>
  <dcterms:modified xsi:type="dcterms:W3CDTF">2006-12-04T14:49:19Z</dcterms:modified>
  <cp:revision>47</cp:revision>
  <dc:subject/>
  <dc:title>Нормативно-правовая база, регулирующая использование в Беларуси местных топливно-энергетических ресурсов</dc:title>
</cp:coreProperties>
</file>