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389-D2AB-43B0-928C-979F7E230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B73-1F83-4B34-BF53-184F8E1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AAF-D3F6-4E60-898B-CA8B8B80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39F-A86C-4965-A4D4-49836AD9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7F11-E5AB-4C15-BBE6-A941B55D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0544-7606-42B0-926B-C0F49EA1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ACEE-14E3-4CF1-8AF9-327720E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238E-5F57-4FCA-B828-1477B173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0B00-F1A9-4FCF-8883-5F2E19E3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D625-EC55-47C4-835E-DCAC015B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67F4-7853-405C-8B2C-C8774EF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41C-63F4-418D-8A75-2B07CE91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DAE2-DFCC-4C99-9B09-14ECB936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9044-6CFE-4E14-9DCF-B8243769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D44-793D-4AB3-BBD5-4C27185E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7368-8482-4C25-8B42-7FE017DF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6267-322C-4B02-8A7A-8321DEBD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1B0-144B-4B03-A971-9A95927B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894-94E6-4F78-9DC3-957A05AB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5B0-257C-4C32-A1DA-9FC61354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B9C-C8A4-4601-8131-29A5A4E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F5D-A091-48EE-A433-78B9F7A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01E-70F8-40A6-B5ED-52377300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F30-B528-44D5-8F41-491F6CD2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6192-63EB-42B2-B0D3-84ECF8C2E4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B7F3-0C51-4E3D-862B-5EF6700E1B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ормативно-правовая база, регулирующая использование в Беларуси местных топливно-энергетических ресурсов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Программа «25%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сырьевой базы по добыче и производству местных энерго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пные инвестиционные прое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совершенствования нормативно-правовой ба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Программа «модернизации и энергосбережения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нциальные запасы и экономически обоснованные объемы использования местных энерго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 отраслям и объемы финансирования до 2010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Республиканская программа энергосбережения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на 2006-2010гг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 приоритетность использования местных видов ТЭ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держит ежегодные задания (плановые объемы) увеличения использования местных энергоресурсов и необходимые объемы финансирования на 2006-2010 г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106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Отраслевые и региональные программы энергосбережения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ханизм реализации Республиканской программы энергосбере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ткосрочные и долгосрочные 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гласование и проверка выполнения со стороны Департамента по энергоэффектив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Экономическое стимулирова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нансирование мероприятий на безвозвратной основе из инновационного фонда Минэнерго на цели энергосбере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новление Министерства экономики от 31мая 2006 г. №91 по тарифам на электрическую энерг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6164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Технические нормативные правовые акты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сударственные стандар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а стандартизации в области энергосбережения на 2006-2010 г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ческие условия по отдельным видам местных энергоресур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Система государственной статистической отчетности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«1-энергосбережен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«1-ТЭР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«4-с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Спасибо за внимание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25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Виды нормативных документов: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мативные правовые а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ческие нормативные правовые ак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Закон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 «Об энергосбережени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закона «О нетрадиционных и возобновляемых источниках энергии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Закон «Об энергосбережении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принципы государственного управл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нергосбереже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ы экономических и финансовых механизмов энергосбере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00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Проект закона «О нетрадиционных и возобновляемых источниках энергии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я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государственного регулирования в сфере развития и использования НВИ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государственной поддержки НВИ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осударственные программ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ЦЕЛЕВАЯ ПРОГРАММА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ОБЕСПЕЧЕНИЯ В РЕСПУБЛИКЕ НЕ МЕНЕЕ 25 ПРОЦЕНТОВ ОБЪЕМА ПРОИЗВОДСТВА ЭЛЕКТРИЧЕСКОЙ И ТЕПЛОВОЙ ЭНЕРГИИ  ЗА СЧЕТ ИСПОЛЬЗОВАНИЯ МЕСТНЫХ ВИДОВ ТОПЛИВА И АЛЬТЕРНАТИВНЫХ ИСТОЧНИКОВ ЭНЕРГИИ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Unicode MS"/>
                <a:ea typeface="Times New Roman"/>
              </a:rPr>
              <a:t>НА ПЕРИОД ДО 2012 Г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осударственные программ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СУДАРСТВЕННАЯ КОМПЛЕКСНАЯ ПРОГРАММА МОДЕРНИЗАЦИИ ОСНОВНЫХ ПРОИЗВОДСТВЕННЫХ ФОНДОВ БЕЛОРУССКОЙ ЭНЕРГОСИСТЕМЫ, ЭНЕРГОСБЕРЕЖЕНИЯ И УВЕЛИЧЕНИЯ ДОЛИ ИСПОЛЬЗОВАНИЯ В РЕСПУБЛИКЕ СОБСТВЕННЫХ ТОПЛИВНО-ЭНЕРГЕТИЧЕСКИХ РЕСУРСОВ В 2006-2010 ГОД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85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Государственные программы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ПУБЛИКАНСКАЯ ПРОГРАММА ЭНЕРГОСБЕРЕЖЕНИЯ НА 2006-2010 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 Black"/>
              </a:rPr>
              <a:t>Программа «25%»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ет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гноз потребности в энергоносителях и структуры топливно-энергетического баланса Беларуси до 201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асы и экономически целесообразный потенциал использования местных энергоресур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4:47:22Z</dcterms:created>
  <dc:creator>Проказов</dc:creator>
  <dc:description/>
  <dc:language>en-US</dc:language>
  <cp:lastModifiedBy>Проказов</cp:lastModifiedBy>
  <dcterms:modified xsi:type="dcterms:W3CDTF">2006-12-04T14:49:19Z</dcterms:modified>
  <cp:revision>47</cp:revision>
  <dc:subject/>
  <dc:title>Нормативно-правовая база, регулирующая использование в Беларуси местных топливно-энергетических ресурсов</dc:title>
</cp:coreProperties>
</file>