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CD7-CD08-4222-89FA-39524293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58C-F6B4-40F2-B044-0A0285E4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B67-0974-452B-B292-16ADD8C6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9B7-BE97-43CE-8ABA-AA7B456E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79AA-7DB6-44A4-8BE6-F518D968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7F78-4A9A-4FAF-B36A-840744BC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E3A3-62C0-49BE-9EB3-6182CF66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EA11-DA7E-4B68-9800-4A183AAD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F7A1-134F-45D7-AD05-B2DEA858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91AE-F978-48F7-98FA-BD971339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2E8D-67D6-450A-9521-4A7A2C01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DB5-A5D4-448E-AF81-7F3F71DC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10A1-45CB-4F3C-B958-7F4B3FAA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52B0-2DB3-4912-B44D-48BC1CC5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9566-9F47-4280-BEF2-42D5A700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554D-EFA9-48D7-A6F9-D786C369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29E7-D6CB-49D2-863C-58F7F9C0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9EA8-AEE3-4C97-B2B5-F29F288D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90A-6778-42BA-9C46-B5B61103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760-7051-40D7-AB20-31622B5F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F00-BAA3-4719-A040-376134DA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0E6-1CFD-415E-9266-6951E241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E1C-7D73-475E-914C-14BF2ADF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07D-3FE2-4896-A4CD-E4AA1229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3C6C-13E2-4609-8B04-3A92DA5076E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EA74-FF29-4053-B528-9B17C62707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0B58-E909-47E9-91FC-6BB9337B2D5D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E144-F3B6-4DEF-BFAA-BE8630297B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40268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РООН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ГЭФ, ЕЭК ООН,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br>
              <a:rPr sz="4800"/>
            </a:br>
            <a:br>
              <a:rPr sz="4800"/>
            </a:b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Департамент по энергоэффективности Госсдандарта, 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 Реализация проекта «Энергия биомассы»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19160" y="5013360"/>
            <a:ext cx="60958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.Войтехови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F3B3-8F73-4D59-9EE8-5A12D09CE7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ценка отходов лесозаготовки в масштабах района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692360" y="1773360"/>
            <a:ext cx="7200720" cy="48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CC6-D54E-4CD8-AFB1-229440EBFE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Лаборатория монитринга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чество топлив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лоримет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R 6200EF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Теплотворная способность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золосодержани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лажность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рос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нцентрация твердых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Gravimat SHC502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, NOx, CnHn (Testo 350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помогательное оборудова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окоточные вес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шильный шка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332-75C1-492B-AE70-77C5D44B4C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БУЧЕНИЕ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за рубеж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ершен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изводство биомассы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нляндия, Австр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изводство и эксплуатация котельного оборудован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стр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Чехия, Швец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ая поездка для руководителей в Швецию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изводство биомассы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эксплуатация котельных и ТЭЦ, государственная поддержка биоэнергетик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в Республике Белару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олжаетс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пециалисты коммунального хозяйства из разных областей республик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6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ессий обучени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естные руководители и сотрудники органов управл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5B9-D8F9-4482-9C3A-B5B7AFDE2A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жидаемой сокращение выбросов 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CO2 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благодаря деятельности проекта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81080" y="3047760"/>
            <a:ext cx="69343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1.08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иллионов тонн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en-GB" sz="4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за 15 летний пери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4495680"/>
            <a:ext cx="106704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4648320"/>
          <a:ext cx="9237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48320"/>
                    <a:ext cx="9237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142-ECFB-4684-8428-90F837AC9E40}" type="slidenum">
              <a:t>13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25146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ECC-4783-4571-ACE6-834D7B6D61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44640" y="33300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 Narrow"/>
              </a:rPr>
              <a:t>Энергия биомассы</a:t>
            </a: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  </a:t>
            </a:r>
            <a:r>
              <a:rPr b="1" lang="ru-RU" sz="5400" spc="-1" strike="noStrike">
                <a:solidFill>
                  <a:srgbClr val="ffffcc"/>
                </a:solidFill>
                <a:latin typeface="Arial Narrow"/>
              </a:rPr>
              <a:t>(древесные отходы)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1988640"/>
            <a:ext cx="739152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ее финансирова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93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Э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 3,374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(2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н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$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освоен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ключ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1,54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лн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– Оборотный фонд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4 млн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которого направлено на демонстрационные объекты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партамент по ЭЭ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2,19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адельцы объект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 3,37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$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F54F-F4E1-47EE-830C-D23F3D91ED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ДЕМОНСТРАЦИОННЫЕ ОБЪЕКТЫ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15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отельная частного производственного предприят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ат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ла п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т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2. ТЭЦ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 2,5M</a:t>
            </a: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Вт</a:t>
            </a:r>
            <a:r>
              <a:rPr b="1" lang="ru-RU" sz="1800" spc="-1" strike="noStrike">
                <a:solidFill>
                  <a:srgbClr val="ff9966"/>
                </a:solidFill>
                <a:latin typeface="Arial"/>
              </a:rPr>
              <a:t>эл.</a:t>
            </a: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ОАО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Мостовдрев </a:t>
            </a: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9966"/>
                </a:solidFill>
                <a:latin typeface="Arial"/>
              </a:rPr>
              <a:t>перевод котельной в ТЭЦ</a:t>
            </a: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3. ТЭЦ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2,5 M</a:t>
            </a: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вт</a:t>
            </a:r>
            <a:r>
              <a:rPr b="1" lang="ru-RU" sz="1800" spc="-1" strike="noStrike">
                <a:solidFill>
                  <a:srgbClr val="ff9966"/>
                </a:solidFill>
                <a:latin typeface="Arial"/>
              </a:rPr>
              <a:t>эл.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РУП Минскэнерго в Вилейке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(</a:t>
            </a:r>
            <a:r>
              <a:rPr b="1" lang="ru-RU" sz="2000" spc="-1" strike="noStrike">
                <a:solidFill>
                  <a:srgbClr val="ff9966"/>
                </a:solidFill>
                <a:latin typeface="Arial"/>
              </a:rPr>
              <a:t>перевод котельной в ТЭЦ</a:t>
            </a:r>
            <a:r>
              <a:rPr b="1" lang="en-US" sz="2000" spc="-1" strike="noStrike">
                <a:solidFill>
                  <a:srgbClr val="ff99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66"/>
                </a:solidFill>
                <a:latin typeface="Arial"/>
              </a:rPr>
              <a:t>4. ГЛХУ «Вилейский лесхоз»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(переработка и постака биомассы на Вилейскую ТЭЦ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5. Петриковская ТЭЦ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1,0 M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т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эл.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новый модуль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317-569B-47A7-9E84-756057847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3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Первый объект проекта Волат</a:t>
            </a: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-1 </a:t>
            </a: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котельная</a:t>
            </a: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(2 </a:t>
            </a: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котла по</a:t>
            </a: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 1M</a:t>
            </a:r>
            <a:r>
              <a:rPr b="1" lang="ru-RU" sz="3600" spc="-1" strike="noStrike">
                <a:solidFill>
                  <a:srgbClr val="ffffcc"/>
                </a:solidFill>
                <a:latin typeface="Arial Narrow"/>
              </a:rPr>
              <a:t>Вт</a:t>
            </a: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)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791400" cy="468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9B93-A049-4FEC-87ED-DB5EB598BD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АО Мостовдрев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Монтаж котлоагрегата ТЭЦ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47920" y="1768320"/>
            <a:ext cx="746748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51B-6F65-41AE-9C31-96A6DD6EB2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609480"/>
            <a:ext cx="87361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Финансирование демонстрац. объектов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тыс. долл. США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1540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Объект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ГЭФ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Департам. ЭЭ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Объе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олат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130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3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190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9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320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8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Мостовдрев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320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0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48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10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800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2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ЭЦ Вилейка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35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5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51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860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ГЛХУ Вил. л.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23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6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24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89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320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ТЭЦ Петрик.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38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30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550  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50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7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адон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13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19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3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154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24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2160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630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3370 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03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2A62-A4A5-4C9E-AF6E-4A7F540CE7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ОБОРОТНЫЙ ФОНД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00200" y="1844280"/>
            <a:ext cx="731520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лад ГЭ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1,5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н. долл. СШ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1,24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лн. долл. США направлены на демонстрационные объек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партамент по ЭЭ Госстандарт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1,5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н. долл. СШ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0,37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лн. долл. США уже переведено в 2005 г. в оборотный фонд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0,46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лн. долл. США будет переведено в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2006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253-C2D7-4D42-AA53-308D243677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Географические информационные системы</a:t>
            </a: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lang="ru-RU" sz="4000" spc="-1" strike="noStrike">
                <a:solidFill>
                  <a:srgbClr val="ffffcc"/>
                </a:solidFill>
                <a:latin typeface="Arial Narrow"/>
              </a:rPr>
              <a:t>ГИС</a:t>
            </a:r>
            <a:r>
              <a:rPr b="1" lang="en-US" sz="4000" spc="-1" strike="noStrike">
                <a:solidFill>
                  <a:srgbClr val="ffffcc"/>
                </a:solidFill>
                <a:latin typeface="Arial Narrow"/>
              </a:rPr>
              <a:t>)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еографические данны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ющие котель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сные 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сурсы древесных отход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нспортные систем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 и железные дороги, водные артер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426-EB19-4655-B295-A1B40B1154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Оценка отходов лесозаготовки в масштабах Республик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619280" y="1981080"/>
            <a:ext cx="71550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B7A-A235-4D2C-90A7-B57F283D28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w_Auseichyk</cp:lastModifiedBy>
  <dcterms:modified xsi:type="dcterms:W3CDTF">2007-01-24T15:22:50Z</dcterms:modified>
  <cp:revision>68</cp:revision>
  <dc:subject/>
  <dc:title>Презентация PowerPoint</dc:title>
</cp:coreProperties>
</file>