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0DD-6F83-4648-A54C-0288EAAF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851-6272-40F8-B773-358D597D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7853-DA90-4216-82A7-2C72DC06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7F91-1858-493D-95A1-6B3B11BB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69C6-79F8-470B-BDA8-523F455A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9019-ED09-4044-ABFD-641AAE0C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0769-D75B-4E23-9D7B-1B88EA92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8FCA-876F-40A1-B799-CD44D19C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8D66-3AD2-4D7F-8033-0566539B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FDB0-1D48-4C66-86FE-ABCE0EC9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F53C-FBE1-4FE5-8977-D6C706C5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5F6-AE2E-4012-AABF-7AAEFD50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B88C-16B7-44B2-8077-42919347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E16E-F402-4F0F-95E3-C31FEC2A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B2F1-266B-40EC-8988-7CD65A0F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7E9C-E80B-4096-B547-5F77A883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EF6B-A565-4D62-A69E-C8C6BF35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540-8320-4090-AAC5-3B89E5C5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077C-6625-4849-9610-8FA2082E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9AAB-3CA2-4C3A-8361-1CF9948D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80CE-4330-41F0-A19E-8AA1622C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EE21-CB23-4F24-8FD8-3A910CBE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A088-5750-4CB7-815A-476A85BF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B20-AFE3-4077-9A55-9544ACAC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FD87-5FBE-424F-BE9E-C949628BFFE0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85F5-2229-4AFC-B3D9-20E143BCA2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BF10-D256-4880-A2A4-4B7E3A4256A3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35EA-B92C-440F-8623-465229EBB72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40268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РООН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ГЭФ, ЕЭК ООН,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br>
              <a:rPr sz="4800"/>
            </a:br>
            <a:br>
              <a:rPr sz="4800"/>
            </a:b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Департамент по энергоэффективности Госсдандарта, </a:t>
            </a: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 Реализация проекта «Энергия биомассы»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819160" y="5013360"/>
            <a:ext cx="60958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Войтехови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80880" y="4648320"/>
          <a:ext cx="9241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648320"/>
                    <a:ext cx="924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BBE6-6C3D-4EBD-AC1A-5DAAF5C062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Оценка отходов лесозаготовки в масштабах района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80880" y="4648320"/>
          <a:ext cx="9241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648320"/>
                    <a:ext cx="924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692360" y="1773360"/>
            <a:ext cx="7200720" cy="48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315-9B14-4D08-B698-9497CD3AF9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Лаборатория монитринга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3152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чество топлив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лоримет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R 6200EF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Теплотворная способность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золосодержани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лажность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рос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нцентрация твердых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Gravimat SHC502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держание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, NOx, CnHn (Testo 350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помогательное оборудова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окоточные вес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шильный шка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4648320"/>
          <a:ext cx="9241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648320"/>
                    <a:ext cx="924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F62-0396-4E92-96A2-3BA16CD9B8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ОБУЧЕНИ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за рубеж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ершен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изводство биомассы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инляндия, Австри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изводство и эксплуатация котельного оборудовани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встри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Чехия, Швеци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ебная поездка для руководителей в Швецию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изводство биомассы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эксплуатация котельных и ТЭЦ, государственная поддержка биоэнергетики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в Республике Беларус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олжаетс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пециалисты коммунального хозяйства из разных областей республики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6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ессий обучени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естные руководители и сотрудники органов управл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80880" y="4648320"/>
          <a:ext cx="9241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648320"/>
                    <a:ext cx="924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B608-A536-4E20-8A6E-F391526490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Ожидаемой сокращение выбросов 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CO2 </a:t>
            </a: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благодаря деятельности проекта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81080" y="3047760"/>
            <a:ext cx="69343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1.08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миллионов тонн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i="1" lang="en-GB" sz="4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за 15 летний пери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4495680"/>
            <a:ext cx="106704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4648320"/>
          <a:ext cx="92376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48320"/>
                    <a:ext cx="92376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6D3-A62C-4C37-91A8-0F0F6D0FEDE4}" type="slidenum">
              <a:t>13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251460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Спасибо за внима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FB4C-E01D-4351-809D-E04F728FB3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4640" y="33300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 Narrow"/>
              </a:rPr>
              <a:t>Энергия биомассы</a:t>
            </a: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  </a:t>
            </a:r>
            <a:r>
              <a:rPr b="1" lang="ru-RU" sz="5400" spc="-1" strike="noStrike">
                <a:solidFill>
                  <a:srgbClr val="ffffcc"/>
                </a:solidFill>
                <a:latin typeface="Arial Narrow"/>
              </a:rPr>
              <a:t>(древесные отходы)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1988640"/>
            <a:ext cx="739152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ее финансирова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,936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лн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Э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 3,374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лн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(2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лн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$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же освоен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ключая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1,54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лн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Оборотный фонд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4 млн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$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которого направлено на демонстрационные объекты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партамент по ЭЭ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2,19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ладельцы объекто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 3,37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$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4648320"/>
          <a:ext cx="9241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648320"/>
                    <a:ext cx="924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32D8-BCB8-44F4-B48A-98E88DDF03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609120"/>
            <a:ext cx="8736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ДЕМОНСТРАЦИОННЫЕ ОБЪЕКТЫ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154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Котельная частного производственного предприяти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лат-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ла п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M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т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2. ТЭЦ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  2,5M</a:t>
            </a: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Вт</a:t>
            </a:r>
            <a:r>
              <a:rPr b="1" lang="ru-RU" sz="1800" spc="-1" strike="noStrike">
                <a:solidFill>
                  <a:srgbClr val="ff9966"/>
                </a:solidFill>
                <a:latin typeface="Arial"/>
              </a:rPr>
              <a:t>эл.</a:t>
            </a:r>
            <a:r>
              <a:rPr b="1" lang="en-US" sz="1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ОАО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Мостовдрев </a:t>
            </a: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9966"/>
                </a:solidFill>
                <a:latin typeface="Arial"/>
              </a:rPr>
              <a:t>перевод котельной в ТЭЦ</a:t>
            </a: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3. ТЭЦ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 2,5 M</a:t>
            </a: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вт</a:t>
            </a:r>
            <a:r>
              <a:rPr b="1" lang="ru-RU" sz="1800" spc="-1" strike="noStrike">
                <a:solidFill>
                  <a:srgbClr val="ff9966"/>
                </a:solidFill>
                <a:latin typeface="Arial"/>
              </a:rPr>
              <a:t>эл.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РУП Минскэнерго в Вилейке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9966"/>
                </a:solidFill>
                <a:latin typeface="Arial"/>
              </a:rPr>
              <a:t>перевод котельной в ТЭЦ</a:t>
            </a: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4. ГЛХУ «Вилейский лесхоз»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(переработка и постака биомассы на Вилейскую ТЭЦ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5. Петриковская ТЭЦ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1,0 M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т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эл.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овый модуль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CD1E-4DC4-433C-968E-AD98E5DEBF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3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Первый объект проекта Волат</a:t>
            </a: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-1 </a:t>
            </a: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котельная</a:t>
            </a: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(2 </a:t>
            </a: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котла по</a:t>
            </a: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 1M</a:t>
            </a: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Вт</a:t>
            </a: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)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791400" cy="468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F622-CB38-4106-97C0-21E51870E9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ОАО Мостовдрев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 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Монтаж котлоагрегата ТЭЦ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47920" y="1768320"/>
            <a:ext cx="746748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97A6-4925-425A-8695-38BAEA6141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609480"/>
            <a:ext cx="87361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Финансирование демонстрац. объектов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тыс. долл. США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154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Объект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ГЭФ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Департам. ЭЭ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Объек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олат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130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3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190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9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320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8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Мостовдрев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320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40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48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10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800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2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ТЭЦ Вилейка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35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35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51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860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ГЛХУ Вил. л. 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23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36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24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89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320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ТЭЦ Петрик.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38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30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550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450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7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адон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13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19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3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154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24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2160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363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3370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40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2CAA-E202-4269-A9C9-15122BF491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7732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ОБОРОТНЫЙ ФОНД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00200" y="1844280"/>
            <a:ext cx="731520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клад ГЭ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1,54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лн. долл. СШ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1,24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лн. долл. США направлены на демонстрационные объек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партамент по ЭЭ Госстандарт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1,54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лн. долл. С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0,37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лн. долл. США уже переведено в 2005 г. в оборотный фонд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0,46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лн. долл. США будет переведено в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2006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4648320"/>
          <a:ext cx="9241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648320"/>
                    <a:ext cx="924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588-BC75-4AE5-A511-A8EA22F32C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Географические информационные системы</a:t>
            </a:r>
            <a:r>
              <a:rPr b="1" lang="en-US" sz="4000" spc="-1" strike="noStrike">
                <a:solidFill>
                  <a:srgbClr val="ffffcc"/>
                </a:solidFill>
                <a:latin typeface="Arial Narrow"/>
              </a:rPr>
              <a:t> (</a:t>
            </a: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ГИС</a:t>
            </a:r>
            <a:r>
              <a:rPr b="1" lang="en-US" sz="4000" spc="-1" strike="noStrike">
                <a:solidFill>
                  <a:srgbClr val="ffffcc"/>
                </a:solidFill>
                <a:latin typeface="Arial Narrow"/>
              </a:rPr>
              <a:t>)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ографические данны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ществующие котель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сные ресур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сурсы древесных отх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анспортные систем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 и железные дороги, водные артер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880" y="4648320"/>
          <a:ext cx="9241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648320"/>
                    <a:ext cx="924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340-089D-4603-944A-0BA0EC832B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Оценка отходов лесозаготовки в масштабах Республик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80880" y="4648320"/>
          <a:ext cx="9241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648320"/>
                    <a:ext cx="924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619280" y="1981080"/>
            <a:ext cx="71550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795-E970-482A-BE89-A277EBDA8F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w_Auseichyk</cp:lastModifiedBy>
  <dcterms:modified xsi:type="dcterms:W3CDTF">2007-01-24T15:22:50Z</dcterms:modified>
  <cp:revision>68</cp:revision>
  <dc:subject/>
  <dc:title>Презентация PowerPoint</dc:title>
</cp:coreProperties>
</file>