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316-16DB-4F55-B00A-312CC1DB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4BA-6224-46FF-AEC0-237DE8F5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43A-3261-44DD-BE96-82A4F19C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55B-0B7A-4C50-AD85-3FCDB6D6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9A51-4403-499C-9D6E-56FDA45F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C5E2-945A-4E6C-8703-E2676C44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3DC3-9848-482C-BE0E-C2E302E8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4CDB-ABA5-4896-A26C-FA3B6669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4B0-6A03-42DF-93F8-CCA43B75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2A36-B769-4607-A02C-02EF1442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4A37-CA84-4F5F-BBC6-08A24EDE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0E9-8756-46D3-B7F3-034E1DF7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398D-7C26-4E09-9E5D-A9B9E5F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F7B4-B55C-4704-96C2-FC0CBC5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E655-D0BA-4A61-A4A3-89BFF766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A059-04F4-49BB-8131-E3C98742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72B0-85CE-4285-989C-0A9DAF32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5EA-0DD5-466F-AAF3-1A34D085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821-A0FB-46BE-BD5A-098B60EA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FB5-0697-4815-A008-276A8EB2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99C-7896-40D8-9EF4-514F555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E2D-F200-4B00-A792-B789278D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267-571A-4FA6-9A01-5B2EF988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C73-61D7-4191-B6BA-4BB32B36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C638-C1C4-4614-A4CC-9FE926FEE0A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6580-5478-4CB0-B7D4-40EC22D58E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3424-4C0D-47AB-AE52-0D7AF436893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EE5B-A515-413F-8E17-9A31F44B98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0268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UNDP/GEF</a:t>
            </a:r>
            <a:r>
              <a:rPr b="1" lang="ru-RU" sz="4800" spc="-1" strike="noStrike">
                <a:solidFill>
                  <a:srgbClr val="ffffcc"/>
                </a:solidFill>
                <a:latin typeface="Verdana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Government of Belarus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“Biomass Energy” Project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23720" y="5013360"/>
            <a:ext cx="57913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dimir Voitekhovich (PMU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Vos (BT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GEFcolor" descr=""/>
          <p:cNvPicPr/>
          <p:nvPr/>
        </p:nvPicPr>
        <p:blipFill>
          <a:blip r:embed="rId3"/>
          <a:stretch/>
        </p:blipFill>
        <p:spPr>
          <a:xfrm>
            <a:off x="1523880" y="5460840"/>
            <a:ext cx="1219320" cy="11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1D1-BA0E-46EB-A506-769B85FA16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oint Stock Co. Mostovdrev  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Back pressure turbine  for CHP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706248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75F-C9FA-4563-B26C-249CE6BC06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Vileika CHP New Uni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7308720" cy="49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A85-D5F1-4D7A-B7E7-EDD0592BF9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Vileika Forestry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. 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ood chips production from residues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8077320" cy="53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7C8-31DE-4F44-A950-BD11FD4C39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Vileika Forestry</a:t>
            </a:r>
            <a:br>
              <a:rPr sz="4800"/>
            </a:b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Wood chips produced from Forest residues to be used at Vileika CHP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7451640" cy="49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68D-9931-4BFE-BBB7-8EA271C6CC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volving Fun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1080" y="1844280"/>
            <a:ext cx="693432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F contribution – $1.54 M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$1.54 m already invested in demonstration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partment for EE contribu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$1.54 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$1.04 m already invested in renewable energy and energy efficiency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49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47C-A332-4403-A9A7-5493CBD6AD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9640" y="609120"/>
            <a:ext cx="657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volving Fund Loan Ter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54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7" name=""/>
          <p:cNvGraphicFramePr/>
          <p:nvPr/>
        </p:nvGraphicFramePr>
        <p:xfrm>
          <a:off x="2340000" y="1981080"/>
          <a:ext cx="6575400" cy="4272120"/>
        </p:xfrm>
        <a:graphic>
          <a:graphicData uri="http://schemas.openxmlformats.org/drawingml/2006/table">
            <a:tbl>
              <a:tblPr/>
              <a:tblGrid>
                <a:gridCol w="3287520"/>
                <a:gridCol w="3287880"/>
              </a:tblGrid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olving Fu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aru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king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6% interest rate for USD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11% interest rate for USD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 interest rate for national currency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-15% interest rate for national currency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 period up to 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 period subject to negoti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89B-B308-4476-9872-308C3D38FB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7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volving Fund Disbursemen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60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3" name=""/>
          <p:cNvGraphicFramePr/>
          <p:nvPr/>
        </p:nvGraphicFramePr>
        <p:xfrm>
          <a:off x="1547640" y="1557360"/>
          <a:ext cx="7512120" cy="4989240"/>
        </p:xfrm>
        <a:graphic>
          <a:graphicData uri="http://schemas.openxmlformats.org/drawingml/2006/table">
            <a:tbl>
              <a:tblPr/>
              <a:tblGrid>
                <a:gridCol w="1568520"/>
                <a:gridCol w="1077840"/>
                <a:gridCol w="3359160"/>
                <a:gridCol w="1506600"/>
              </a:tblGrid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d 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an, 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ject 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olat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placement of 2 electricity boilers with biomass boil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stovdre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biomass C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leika C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biomass C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leka forest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iomass fuel supply sys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bruysk Tractor Enterpise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struction and modernization to improve EE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isov Electrical Equipment Plant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000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struction and modernization to improve 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pr-Bug Water Way”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 Hydro Power Pl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nskdrev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biomass CHP using ORC technolog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S &amp; Negotiation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gilev Plant of Artificial Fibers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struction and modernization to improve 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lGRES C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biomass CHP (biomass supply uni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DE5-DC06-4E1A-AD1B-6BDF0D08E0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GIS assessment of forest residues availability in Bela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66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1981080"/>
            <a:ext cx="7155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2A6-869D-4BA3-B6AD-A0E18EB7D1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Awareness rais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34920" y="1700280"/>
            <a:ext cx="71643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 practice guide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of bioenergy in E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od fuel market in Austria and Fi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ilization of wood fuel 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I projects for bioenergy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national and international seminars dedicated biomass production a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than 50 articles in magazines and newspapers, radio and TV 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79440" y="4581360"/>
          <a:ext cx="9525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4581360"/>
                    <a:ext cx="952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BE8-F581-47E6-9654-C785042039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chnical train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study tours abroad for technical specialists and decision mak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in-country training courses for technical specialists and mana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79440" y="4581360"/>
          <a:ext cx="9525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4581360"/>
                    <a:ext cx="952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70C-67D4-4C17-A1E8-D021C49B2F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Project objectives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68000" y="1980720"/>
            <a:ext cx="655164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objectiv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missions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nstitutional capacity develop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echnical capacity develop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nancial capacity develop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wareness rais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79440" y="4653000"/>
          <a:ext cx="9176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4653000"/>
                    <a:ext cx="9176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7D9-094B-429C-8CFE-362287AD3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in parties involv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67788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artment for Energy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stry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stry of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investenergosberezheni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contrac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BTG Biomass Technology Group, The  Netherland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andesEnergieVerein (LEV) Styria, Austr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co Ltd, United Kingdo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arusian contractors and subcontr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78000" y="4618080"/>
          <a:ext cx="95400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618080"/>
                    <a:ext cx="95400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41F-9ADE-49F8-9242-15FFE1AFF4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835280" y="1980720"/>
            <a:ext cx="712944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eful demonstration projects planning and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 selection of equipment supp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ong project financial b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ailed study of legislation while project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58920" y="4581360"/>
          <a:ext cx="954000" cy="19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4581360"/>
                    <a:ext cx="954000" cy="19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Lessons learn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64C-B857-4549-B0BD-144882187F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Other bioenergy projects in Belarus (1/2)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90476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acity building for implementation of flexible mechanisms of Kyoto protocol in Belarus  (UNDP/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ims to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Belaru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o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ate in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Implementation (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JI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projects, “green” investments and other carbon financing sche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utp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mplementation of regulatory framework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nhancement of capacity for projects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National Registry of carbon un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58920" y="4581360"/>
          <a:ext cx="954000" cy="19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4581360"/>
                    <a:ext cx="954000" cy="19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9A5-EA0C-458F-B9C0-EBC98E84D0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Other bioenergy projects in Belarus (2/2)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981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ld Bank “Social Infrastructure Retrofitting Project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Loan agre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ain project components is construction of 17 biomass fired boiler houses (0.5 – 5 MW capacit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investments $US 6 m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58920" y="4581360"/>
          <a:ext cx="954000" cy="19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4581360"/>
                    <a:ext cx="954000" cy="19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868-A257-43E5-A766-88ED41D41C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Demand for new bioenergy projects in Bela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050920" y="1981080"/>
            <a:ext cx="684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combustion of biomass with other fu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ineration of municipal solid wa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generation at municipal level (conversion of boiler houses to CH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erobic digestion plants for biogas production in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C cycle units for communal heat supply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78000" y="4581360"/>
          <a:ext cx="954000" cy="19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581360"/>
                    <a:ext cx="954000" cy="19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E7E-BA92-4000-B54D-94386E2658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Expected CO</a:t>
            </a:r>
            <a:r>
              <a:rPr b="1" lang="en-US" sz="4800" spc="-1" strike="noStrike" baseline="-25000">
                <a:solidFill>
                  <a:srgbClr val="ffffcc"/>
                </a:solidFill>
                <a:latin typeface="Arial Narrow"/>
              </a:rPr>
              <a:t>2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emissions reduction due to project activitie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81080" y="304776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1.08 million tons of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en-GB" sz="4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over 15 years peri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0880" y="4495680"/>
            <a:ext cx="1067040" cy="2057400"/>
            <a:chOff x="380880" y="4495680"/>
            <a:chExt cx="1067040" cy="2057400"/>
          </a:xfrm>
        </p:grpSpPr>
        <p:sp>
          <p:nvSpPr>
            <p:cNvPr id="208" name=""/>
            <p:cNvSpPr/>
            <p:nvPr/>
          </p:nvSpPr>
          <p:spPr>
            <a:xfrm>
              <a:off x="380880" y="4495680"/>
              <a:ext cx="106704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457200" y="4648320"/>
            <a:ext cx="92376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4648320"/>
                      <a:ext cx="92376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1C1-20F3-4FFB-B10D-EA7105E8524F}" type="slidenum">
              <a:t>25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25146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41F-BDAD-4F84-94FA-F8AF0D258D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609120"/>
            <a:ext cx="729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roject compon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8000" y="1980720"/>
            <a:ext cx="70567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uel switch project at 4 existing boiler ho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orest fuel supply demonstration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Establishment of a Revolving F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ntroduction of a Geographic Information Syst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G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Awareness raising and technical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eplication pla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9440" y="4581360"/>
          <a:ext cx="9525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4581360"/>
                    <a:ext cx="952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E76-106A-456F-9575-26F45D44A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7223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Biomass resources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39640" y="19890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sts cover 37% of Belarus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growth is  28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harvest is 13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biomass use is 6.5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harvest is 20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biomass use is 11.8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4653000"/>
          <a:ext cx="91908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653000"/>
                    <a:ext cx="91908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87A-9ECA-43AA-B9B5-6E76F7FB42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Biomass Energy from Wood Was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24000" y="1699920"/>
            <a:ext cx="654048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funding (plan) $US 9.0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ctual) $US 17.6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 $US 3.4 m (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$US 3.4 m (actu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ncluding $US 1.54 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olving F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artment for E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$US 2.2 m (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$US 5.0 m (actu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ncluding $US 1,54 m for Revolving Fund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te own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$US 3.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 (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$US 10.6 m (actual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09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" name=""/>
          <p:cNvSpPr/>
          <p:nvPr/>
        </p:nvSpPr>
        <p:spPr>
          <a:xfrm>
            <a:off x="6248520" y="6705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79AB-557A-45DF-823A-2F76E66630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Demonstration Sit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8644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iler house of private company Volat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units 1MW ea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P 2.5M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JSC Mostovdre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oiler house conversion to CH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P 2.5 M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Minskenergo in Vileik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ew unit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leika forestry enterprise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ass processing and supply to Vileika CHP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P 1.5 M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ebskenergo BelGRES in Orekhovs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ew un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000" y="4508640"/>
            <a:ext cx="1066680" cy="2057400"/>
            <a:chOff x="324000" y="4508640"/>
            <a:chExt cx="1066680" cy="2057400"/>
          </a:xfrm>
        </p:grpSpPr>
        <p:sp>
          <p:nvSpPr>
            <p:cNvPr id="116" name=""/>
            <p:cNvSpPr/>
            <p:nvPr/>
          </p:nvSpPr>
          <p:spPr>
            <a:xfrm>
              <a:off x="324000" y="450864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399960" y="466128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9960" y="466128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1AD-B520-4C5B-8DC1-E02266EB37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Location of Demonstration Sit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84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1616040"/>
            <a:ext cx="6324840" cy="52419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24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B5E-8AC3-4A5C-89D5-3AA2F7BAC4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rst demonstration site Volat-1 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Boiler house (2 boilers 1MW each)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6624720" cy="453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2960" y="4581360"/>
          <a:ext cx="959040" cy="19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2960" y="4581360"/>
                    <a:ext cx="959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0B3-59B5-40CF-BC00-134EF91A3E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Joint Stock Co. Mostovdrev  </a:t>
            </a: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onstruction of biomass boiler for CHP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6956280" cy="48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E2E-85EF-422D-8791-3FB24C04FD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imir</cp:lastModifiedBy>
  <dcterms:modified xsi:type="dcterms:W3CDTF">2008-01-14T13:42:36Z</dcterms:modified>
  <cp:revision>103</cp:revision>
  <dc:subject/>
  <dc:title>Презентация PowerPoint</dc:title>
</cp:coreProperties>
</file>