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D3A0-1B0C-4600-81A0-134917D9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6C98-0D45-4264-87E5-A12044AC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6340-1B55-4528-A5DA-40A18DEC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AD43-A42A-4E90-8234-3E44B118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BD30-38F9-4FE3-B007-6090D569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C479-4289-4D83-9635-7397D7D3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1BFF-2C5E-49D6-A2EB-7CE16DC1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31C0-0C9D-42C6-8518-10B3F189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FC2C-2EEC-44B9-B04E-D1256270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866C-4088-4477-AAF0-F4B8CC5E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C59E-6442-431C-950A-F6A275D8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07C0-2A1B-4D43-BFFA-645A8761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AD04-5F5A-4FBB-A919-74410006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657B-2A79-4243-B0F9-18A39D1C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AAA9-2E65-41D5-9A98-F016525E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2884-A061-42E2-A364-5D7A99F9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2B29-29FC-4F51-A049-C0FAD342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1CB5-E725-4655-BFB4-D265BD02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D97E-BE12-4911-BCB6-0B8D7551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4F23-3B4E-4095-BC8B-17383FED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9F7-DA9D-4317-B95E-32146F8F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780B-CACE-48C3-9821-EE565BD0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9FC-76A8-48CF-8256-2DFFAE5C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9DC6-4EF8-4968-A4AE-EB6AAF64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339933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EC39-CFBB-43E6-9195-C2F2D34EE3F6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8125-2C7B-42E7-805F-49A83A9BF25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339933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54F9-BB1B-4FAE-A259-F21D4FF56400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3EB7-BAE5-425E-BD51-4F6CBF3602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40268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Verdana"/>
              </a:rPr>
              <a:t>UNDP/GEF</a:t>
            </a:r>
            <a:r>
              <a:rPr b="1" lang="ru-RU" sz="4800" spc="-1" strike="noStrike">
                <a:solidFill>
                  <a:srgbClr val="ffffcc"/>
                </a:solidFill>
                <a:latin typeface="Verdana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Verdana"/>
              </a:rPr>
              <a:t>Government of Belarus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ffffcc"/>
                </a:solidFill>
                <a:latin typeface="Verdana"/>
              </a:rPr>
              <a:t>“Biomass Energy” Project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123720" y="5013360"/>
            <a:ext cx="579132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adimir Voitekhovich (PMU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hn Vos (BT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80880" y="4648320"/>
          <a:ext cx="9241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648320"/>
                    <a:ext cx="92412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GEFcolor" descr=""/>
          <p:cNvPicPr/>
          <p:nvPr/>
        </p:nvPicPr>
        <p:blipFill>
          <a:blip r:embed="rId3"/>
          <a:stretch/>
        </p:blipFill>
        <p:spPr>
          <a:xfrm>
            <a:off x="1523880" y="5460840"/>
            <a:ext cx="1219320" cy="11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4A01-C5DC-45C7-B172-A4D0CF656D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Joint Stock Co. Mostovdrev  </a:t>
            </a:r>
            <a:br>
              <a:rPr sz="4800"/>
            </a:br>
            <a:r>
              <a:rPr b="0" lang="en-US" sz="4000" spc="-1" strike="noStrike">
                <a:solidFill>
                  <a:srgbClr val="ffffcc"/>
                </a:solidFill>
                <a:latin typeface="Arial Narrow"/>
              </a:rPr>
              <a:t>Back pressure turbine  for CHP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7062480" cy="508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003B-7284-4BBE-A392-6BE89858B5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Vileika CHP New Uni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7308720" cy="49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C189-1B99-4AB8-9222-C356E445CF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Vileika Forestry</a:t>
            </a:r>
            <a:r>
              <a:rPr b="1" lang="ru-RU" sz="4800" spc="-1" strike="noStrike">
                <a:solidFill>
                  <a:srgbClr val="ffffcc"/>
                </a:solidFill>
                <a:latin typeface="Arial Narrow"/>
              </a:rPr>
              <a:t>. 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ood chips production from residues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8077320" cy="539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F87F-931A-4D2B-80AE-ADA7B8C82D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Vileika Forestry</a:t>
            </a:r>
            <a:br>
              <a:rPr sz="4800"/>
            </a:br>
            <a:r>
              <a:rPr b="1" lang="ru-RU" sz="4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Arial Narrow"/>
              </a:rPr>
              <a:t>Wood chips produced from Forest residues to be used at Vileika CHP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7451640" cy="49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8284-1E3B-4DB8-A3FA-E82546566D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07732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evolving Fund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81080" y="1844280"/>
            <a:ext cx="6934320" cy="425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EF contribution – $1.54 M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$1.54 m already invested in demonstration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partment for EE contribu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$1.54 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$1.04 m already invested in renewable energy and energy efficiency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04920" y="4495680"/>
            <a:ext cx="1066680" cy="2057400"/>
            <a:chOff x="304920" y="4495680"/>
            <a:chExt cx="1066680" cy="2057400"/>
          </a:xfrm>
        </p:grpSpPr>
        <p:sp>
          <p:nvSpPr>
            <p:cNvPr id="149" name=""/>
            <p:cNvSpPr/>
            <p:nvPr/>
          </p:nvSpPr>
          <p:spPr>
            <a:xfrm>
              <a:off x="304920" y="4495680"/>
              <a:ext cx="1066680" cy="2057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50" name=""/>
            <p:cNvGraphicFramePr/>
            <p:nvPr/>
          </p:nvGraphicFramePr>
          <p:xfrm>
            <a:off x="380880" y="4648320"/>
            <a:ext cx="924120" cy="184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4648320"/>
                      <a:ext cx="924120" cy="184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2BFC-F9D2-4351-B8FC-DCE9C5E0FD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39640" y="609120"/>
            <a:ext cx="657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evolving Fund Loan Term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4495680"/>
            <a:ext cx="1066680" cy="2057400"/>
            <a:chOff x="304920" y="4495680"/>
            <a:chExt cx="1066680" cy="2057400"/>
          </a:xfrm>
        </p:grpSpPr>
        <p:sp>
          <p:nvSpPr>
            <p:cNvPr id="154" name=""/>
            <p:cNvSpPr/>
            <p:nvPr/>
          </p:nvSpPr>
          <p:spPr>
            <a:xfrm>
              <a:off x="304920" y="4495680"/>
              <a:ext cx="1066680" cy="2057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55" name=""/>
            <p:cNvGraphicFramePr/>
            <p:nvPr/>
          </p:nvGraphicFramePr>
          <p:xfrm>
            <a:off x="380880" y="4648320"/>
            <a:ext cx="924120" cy="184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4648320"/>
                      <a:ext cx="924120" cy="184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7" name=""/>
          <p:cNvGraphicFramePr/>
          <p:nvPr/>
        </p:nvGraphicFramePr>
        <p:xfrm>
          <a:off x="2340000" y="1981080"/>
          <a:ext cx="6575400" cy="4272120"/>
        </p:xfrm>
        <a:graphic>
          <a:graphicData uri="http://schemas.openxmlformats.org/drawingml/2006/table">
            <a:tbl>
              <a:tblPr/>
              <a:tblGrid>
                <a:gridCol w="3287520"/>
                <a:gridCol w="3287880"/>
              </a:tblGrid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volving Fu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arus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nking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-6% interest rate for USD lo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-11% interest rate for USD lo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% interest rate for national currency lo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-15% interest rate for national currency loa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 period up to 1 y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ce period subject to negotia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3EFD-915B-4224-844C-C4AED1EAF7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57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evolving Fund Disbursemen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4495680"/>
            <a:ext cx="1066680" cy="2057400"/>
            <a:chOff x="304920" y="4495680"/>
            <a:chExt cx="1066680" cy="2057400"/>
          </a:xfrm>
        </p:grpSpPr>
        <p:sp>
          <p:nvSpPr>
            <p:cNvPr id="160" name=""/>
            <p:cNvSpPr/>
            <p:nvPr/>
          </p:nvSpPr>
          <p:spPr>
            <a:xfrm>
              <a:off x="304920" y="4495680"/>
              <a:ext cx="1066680" cy="2057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61" name=""/>
            <p:cNvGraphicFramePr/>
            <p:nvPr/>
          </p:nvGraphicFramePr>
          <p:xfrm>
            <a:off x="380880" y="4648320"/>
            <a:ext cx="924120" cy="184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4648320"/>
                      <a:ext cx="924120" cy="184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3" name=""/>
          <p:cNvGraphicFramePr/>
          <p:nvPr/>
        </p:nvGraphicFramePr>
        <p:xfrm>
          <a:off x="1547640" y="1557360"/>
          <a:ext cx="7512120" cy="4989240"/>
        </p:xfrm>
        <a:graphic>
          <a:graphicData uri="http://schemas.openxmlformats.org/drawingml/2006/table">
            <a:tbl>
              <a:tblPr/>
              <a:tblGrid>
                <a:gridCol w="1568520"/>
                <a:gridCol w="1077840"/>
                <a:gridCol w="3359160"/>
                <a:gridCol w="1506600"/>
              </a:tblGrid>
              <a:tr h="56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d us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oan, 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ject descrip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olat-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placement of 2 electricity boilers with biomass boil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perat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stovdre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truction of biomass CH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rat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ileika CH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truction of biomass CH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rat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ileka forest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6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iomass fuel supply syste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rat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bruysk Tractor Enterpise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0 000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nstruction and modernization to improve EE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risov Electrical Equipment Plant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 000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nstruction and modernization to improve E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pr-Bug Water Way”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5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truction of  Hydro Power Pla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nskdrev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0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truction of biomass CHP using ORC technolog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S &amp; Negotiation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gilev Plant of Artificial Fibers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nstruction and modernization to improve E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elGRES CH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1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truction of biomass CHP (biomass supply uni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perat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EAD2-F809-4505-82FC-59D9628564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GIS assessment of forest residues availability in Belaru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04920" y="4495680"/>
            <a:ext cx="1066680" cy="2057400"/>
            <a:chOff x="304920" y="4495680"/>
            <a:chExt cx="1066680" cy="2057400"/>
          </a:xfrm>
        </p:grpSpPr>
        <p:sp>
          <p:nvSpPr>
            <p:cNvPr id="166" name=""/>
            <p:cNvSpPr/>
            <p:nvPr/>
          </p:nvSpPr>
          <p:spPr>
            <a:xfrm>
              <a:off x="304920" y="4495680"/>
              <a:ext cx="1066680" cy="2057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67" name=""/>
            <p:cNvGraphicFramePr/>
            <p:nvPr/>
          </p:nvGraphicFramePr>
          <p:xfrm>
            <a:off x="380880" y="4648320"/>
            <a:ext cx="924120" cy="184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4648320"/>
                      <a:ext cx="924120" cy="184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619280" y="1981080"/>
            <a:ext cx="715500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96F0-8BD1-4D51-8FC6-A0ED732A9D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Awareness raising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834920" y="1700280"/>
            <a:ext cx="71643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st practice guide 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port of bioenergy in E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od fuel market in Austria and Fin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tilization of wood fuel 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I projects for bioenergy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national and international seminars dedicated biomass production and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re than 50 articles in magazines and newspapers, radio and TV inter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79440" y="4581360"/>
          <a:ext cx="9525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4581360"/>
                    <a:ext cx="9525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E4B7-0FAE-48D4-8077-95DA14F838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echnical training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 study tours abroad for technical specialists and decision mak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 in-country training courses for technical specialists and manag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79440" y="4581360"/>
          <a:ext cx="9525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4581360"/>
                    <a:ext cx="9525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321E-1BD5-4E63-B324-D3EF21167B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Narrow"/>
              </a:rPr>
              <a:t>Project objectives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68000" y="1980720"/>
            <a:ext cx="655164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 objective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emissions re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objec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nstitutional capacity developmen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echnical capacity developmen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nancial capacity developmen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Awareness rais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79440" y="4653000"/>
          <a:ext cx="917640" cy="18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4653000"/>
                    <a:ext cx="917640" cy="18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589E-2BCD-489E-9D2E-1DD468986E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Main parties involved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08000" y="1484280"/>
            <a:ext cx="67788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artment for Energy E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stry of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stry of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investenergosberezheni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tional contracto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BTG Biomass Technology Group, The  Netherland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LandesEnergieVerein (LEV) Styria, Austri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Eco Ltd, United Kingdom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arusian contractors and subcontr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78000" y="4618080"/>
          <a:ext cx="954000" cy="19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4618080"/>
                    <a:ext cx="95400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674C-3BD2-49D1-866A-A50F00C954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835280" y="1980720"/>
            <a:ext cx="712944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eful demonstration projects planning and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r selection of equipment suppl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ong project financial ba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ailed study of legislation while project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58920" y="4581360"/>
          <a:ext cx="954000" cy="19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4581360"/>
                    <a:ext cx="954000" cy="19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755640" y="3330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Lessons learned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14FB-0F03-4B0B-A4DC-8D12C7875D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Other bioenergy projects in Belarus (1/2)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904760" y="1143000"/>
            <a:ext cx="70102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pacity building for implementation of flexible mechanisms of Kyoto protocol in Belarus  (UNDP/GE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Aims to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support Belarus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to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participate in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Implementation (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JI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projects, “green” investments and other carbon financing schem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utpu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Implementation of regulatory framework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Enhancement of capacity for projects develop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National Registry of carbon uni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58920" y="4581360"/>
          <a:ext cx="954000" cy="19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4581360"/>
                    <a:ext cx="954000" cy="19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140D-7933-47FF-A01F-C91083E870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 Narrow"/>
              </a:rPr>
              <a:t>Other bioenergy projects in Belarus (2/2)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9810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ld Bank “Social Infrastructure Retrofitting Project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Loan agree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the main project components is construction of 17 biomass fired boiler houses (0.5 – 5 MW capacity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investments $US 6 mill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58920" y="4581360"/>
          <a:ext cx="954000" cy="19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920" y="4581360"/>
                    <a:ext cx="954000" cy="19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E640-4D91-4359-9470-46CB2F3012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47640" y="609120"/>
            <a:ext cx="7367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Demand for new bioenergy projects in Belaru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050920" y="1981080"/>
            <a:ext cx="6842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-combustion of biomass with other fu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ineration of municipal solid was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generation at municipal level (conversion of boiler houses to CH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erobic digestion plants for biogas production in agri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C cycle units for communal heat supply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78000" y="4581360"/>
          <a:ext cx="954000" cy="19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4581360"/>
                    <a:ext cx="954000" cy="19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E353-B0E9-4868-93E7-2469502A3E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Expected CO</a:t>
            </a:r>
            <a:r>
              <a:rPr b="1" lang="en-US" sz="4800" spc="-1" strike="noStrike" baseline="-25000">
                <a:solidFill>
                  <a:srgbClr val="ffffcc"/>
                </a:solidFill>
                <a:latin typeface="Arial Narrow"/>
              </a:rPr>
              <a:t>2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emissions reduction due to project activities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981080" y="3047760"/>
            <a:ext cx="69343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1.08 million tons of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i="1" lang="en-GB" sz="40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en-GB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over 15 years peri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0880" y="4495680"/>
            <a:ext cx="1067040" cy="2057400"/>
            <a:chOff x="380880" y="4495680"/>
            <a:chExt cx="1067040" cy="2057400"/>
          </a:xfrm>
        </p:grpSpPr>
        <p:sp>
          <p:nvSpPr>
            <p:cNvPr id="208" name=""/>
            <p:cNvSpPr/>
            <p:nvPr/>
          </p:nvSpPr>
          <p:spPr>
            <a:xfrm>
              <a:off x="380880" y="4495680"/>
              <a:ext cx="1067040" cy="2057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9" name=""/>
            <p:cNvGraphicFramePr/>
            <p:nvPr/>
          </p:nvGraphicFramePr>
          <p:xfrm>
            <a:off x="457200" y="4648320"/>
            <a:ext cx="923760" cy="184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4648320"/>
                      <a:ext cx="923760" cy="184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8709-61C5-4C6B-B9FD-884D5F15E62B}" type="slidenum">
              <a:t>25</a:t>
            </a:fld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71600" y="251460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0429-B8DC-4787-825E-4353CD5BE7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8920" y="609120"/>
            <a:ext cx="7296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Project component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8000" y="1980720"/>
            <a:ext cx="705672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Fuel switch project at 4 existing boiler ho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orest fuel supply demonstration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Establishment of a Revolving Fu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Introduction of a Geographic Information Syste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G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Awareness raising and technical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eplication pla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79440" y="4581360"/>
          <a:ext cx="95256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4581360"/>
                    <a:ext cx="9525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8001-CA29-42BC-B8E9-D99D0E88D0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7223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Narrow"/>
              </a:rPr>
              <a:t>Biomass resources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339640" y="198900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ests cover 37% of Belarus 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nual growth is  28 million 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nual harvest is 13 million 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nual biomass use is 6.5 million 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0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nual harvest is 20 million 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nual biomass use is 11.8 million 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5280" y="4653000"/>
          <a:ext cx="919080" cy="18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653000"/>
                    <a:ext cx="91908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BFC9-9C18-46CC-A696-3CEF59F1C3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Biomass Energy from Wood Wast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124000" y="1699920"/>
            <a:ext cx="6540480" cy="465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tal funding (plan) $US 9.0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actual) $US 17.6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E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 $US 3.4 m (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$US 3.4 m (actual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ncluding $US 1.54 m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volving Fun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artment for E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$US 2.2 m (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$US 5.0 m (actu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ncluding $US 1,54 m for Revolving Fund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ite own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$US 3.4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 (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$US 10.6 m (actual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4920" y="4495680"/>
            <a:ext cx="1066680" cy="2057400"/>
            <a:chOff x="304920" y="4495680"/>
            <a:chExt cx="1066680" cy="2057400"/>
          </a:xfrm>
        </p:grpSpPr>
        <p:sp>
          <p:nvSpPr>
            <p:cNvPr id="109" name=""/>
            <p:cNvSpPr/>
            <p:nvPr/>
          </p:nvSpPr>
          <p:spPr>
            <a:xfrm>
              <a:off x="304920" y="4495680"/>
              <a:ext cx="1066680" cy="2057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10" name=""/>
            <p:cNvGraphicFramePr/>
            <p:nvPr/>
          </p:nvGraphicFramePr>
          <p:xfrm>
            <a:off x="380880" y="4648320"/>
            <a:ext cx="924120" cy="184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4648320"/>
                      <a:ext cx="924120" cy="184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2" name=""/>
          <p:cNvSpPr/>
          <p:nvPr/>
        </p:nvSpPr>
        <p:spPr>
          <a:xfrm>
            <a:off x="6248520" y="6705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0EEC-A4B5-4896-99A2-62E9655AAE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36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Demonstration Sit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50920" y="1483920"/>
            <a:ext cx="686448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iler house of private company Volat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units 1MW eac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P 2.5MW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JSC Mostovdrev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oiler house conversion to CH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P 2.5 MW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f Minskenergo in Vileik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new unit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leika forestry enterprise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mass processing and supply to Vileika CHP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P 1.5 MW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tebskenergo BelGRES in Orekhovs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new uni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000" y="4508640"/>
            <a:ext cx="1066680" cy="2057400"/>
            <a:chOff x="324000" y="4508640"/>
            <a:chExt cx="1066680" cy="2057400"/>
          </a:xfrm>
        </p:grpSpPr>
        <p:sp>
          <p:nvSpPr>
            <p:cNvPr id="116" name=""/>
            <p:cNvSpPr/>
            <p:nvPr/>
          </p:nvSpPr>
          <p:spPr>
            <a:xfrm>
              <a:off x="324000" y="4508640"/>
              <a:ext cx="1066680" cy="2057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399960" y="4661280"/>
            <a:ext cx="924120" cy="184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9960" y="4661280"/>
                      <a:ext cx="924120" cy="184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E9CD-5141-4616-BC2D-8231487D05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Location of Demonstration Sit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9810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1844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09680" y="1616040"/>
            <a:ext cx="6324840" cy="524196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04920" y="4495680"/>
            <a:ext cx="1066680" cy="2057400"/>
            <a:chOff x="304920" y="4495680"/>
            <a:chExt cx="1066680" cy="2057400"/>
          </a:xfrm>
        </p:grpSpPr>
        <p:sp>
          <p:nvSpPr>
            <p:cNvPr id="124" name=""/>
            <p:cNvSpPr/>
            <p:nvPr/>
          </p:nvSpPr>
          <p:spPr>
            <a:xfrm>
              <a:off x="304920" y="4495680"/>
              <a:ext cx="1066680" cy="2057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380880" y="4648320"/>
            <a:ext cx="924120" cy="1847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4648320"/>
                      <a:ext cx="924120" cy="184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6098-7CA3-4BE7-B073-503D50BF95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First demonstration site Volat-1 </a:t>
            </a:r>
            <a:br>
              <a:rPr sz="4800"/>
            </a:br>
            <a:r>
              <a:rPr b="0" lang="en-US" sz="4000" spc="-1" strike="noStrike">
                <a:solidFill>
                  <a:srgbClr val="ffffcc"/>
                </a:solidFill>
                <a:latin typeface="Arial Narrow"/>
              </a:rPr>
              <a:t>Boiler house (2 boilers 1MW each)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6624720" cy="4537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4920" y="4495680"/>
            <a:ext cx="1066680" cy="2057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72960" y="4581360"/>
          <a:ext cx="959040" cy="191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2960" y="4581360"/>
                    <a:ext cx="95904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4144-E1FA-49F3-93D0-CFD6633837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Narrow"/>
              </a:rPr>
              <a:t>Joint Stock Co. Mostovdrev  </a:t>
            </a: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onstruction of biomass boiler for CHP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6956280" cy="48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BB8-1074-46C5-A7E2-E225C87F08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ladimir</cp:lastModifiedBy>
  <dcterms:modified xsi:type="dcterms:W3CDTF">2008-01-14T13:42:36Z</dcterms:modified>
  <cp:revision>103</cp:revision>
  <dc:subject/>
  <dc:title>Презентация PowerPoint</dc:title>
</cp:coreProperties>
</file>