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EAE03-0F4C-4F2C-8DA9-681EBA38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DF061-DF7F-4BB9-B32D-0BEDE0B2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864E-702B-40BD-9FA4-11886E97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D71E3-1EEA-4EDB-8335-08047C2F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A880-2097-423C-BB6D-F9464C00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04D8-0B85-4724-A8AD-0CC86547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9CC9-5260-40CB-B02B-E40C90BC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FD7F-A695-4177-80D0-4AE67A55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2B3B-7F35-4DFF-89A3-077EBBB3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E08F-9637-4BBC-855D-480161D9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FECB-A65D-497E-8A28-B6D6D839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CFCE7-686E-477D-8B43-30B5A5D6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887D-8D4F-4503-8671-42E26C96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2454-21B6-4241-BA66-8D6D22FB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BDD9-FE50-4C49-B96A-AC3CA2AE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38A4-D0D0-4849-925B-3B6609AE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96EB-E535-4EE8-A939-AA6AED05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FAEED-5C86-41E6-A9D9-55C3B270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98FE-E424-4A1B-A3E6-0679797C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9C86F-867D-4F0F-A282-AB1A3DCE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DD097-AA9C-4AC8-9204-6C06E775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216F9-05ED-4205-82E8-2395C99D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4F29C-BC34-42A3-BDE1-EA6749F1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63867-4709-4DAD-A00C-A46A31B1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B953-D4A1-4E21-B4A7-72389515DB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84D0-850F-4B0B-A44D-CD36310A15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95280" y="1700280"/>
            <a:ext cx="6048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ценка общего потенциала древесного топлива, доступного для получения энергии и создание ГИС, как инструмента планирования и управления биоэнергетикой в республ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86200" y="5084640"/>
            <a:ext cx="61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7d"/>
                </a:solidFill>
                <a:latin typeface="Arial"/>
              </a:rPr>
              <a:t>в рамках реализации проекта технической помощи ПРООН/ГЭФ «Применение биомассы для отопления и горячего водоснабжения в Республике Беларус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4000" y="419040"/>
            <a:ext cx="8569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База данных по коте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421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9640" y="5493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Результаты оценки количества древесных отходов в лесхозах РБ на 10 лет исходя из плана хозяйственных меро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11280" y="1400040"/>
          <a:ext cx="803916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00040"/>
                    <a:ext cx="803916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Куренецкое лесн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590400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Фрагмент карты с нанесением котельных и лесничеств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(в районе г.Орш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70400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6000" y="475920"/>
            <a:ext cx="8567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Фрагмент карты распределения оценки количества древесных отходов (центры лесных кварталов), и котельных мощностью более 0,5МВ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1062000"/>
            <a:ext cx="776592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915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Пример оценки количества древесных от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70580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56000" y="476280"/>
            <a:ext cx="44640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родный соста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42920" y="1076400"/>
            <a:ext cx="722016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Результат оцен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чёт показал, что на выбранной территории радиусо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 к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технически доступно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10тыс. м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плотных) древесных от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достаточно для обеспечения древесным топливом котельной мощностью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08МВ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тече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одино 30км, 50км, 100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326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Цели проекта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9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использование отходов заготовки и переработки древесины в качестве топл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уменьшение выбросов загрязняющих веществ в атмосф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ы оценки количества отходов деревозаготовки в окрестностях г.Жод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28036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з транспортной се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360" y="1276200"/>
            <a:ext cx="7416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71516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зультаты выбо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777708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зультаты анали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6624720" cy="2737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91440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спективы разви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чить нанесение лес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нести деревоперерабатывающие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270792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Тел.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2278540, Е-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mail: suvorov@niks.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ГИАС состоит из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пологическая основа – электронные ка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ы данных с привязкой к конкретным географическим объектам на ка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струментарий обработки и анализа информации, а также моделирования ситуаций и генерации рекомендаций (программное обеспеч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ГИАС позволи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7328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грегировать различные типы данных по лесам, отходам, котель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ить расчёт имеющихся ресурсов биомассы, которую можно использовать в качестве топл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 транспортных зат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делать заключение о целесообразности перевода на древесное топливо того или иного объ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Структура ГИ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1916280"/>
            <a:ext cx="806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34544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й ко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й лес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й населённых пун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й дорожной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пографические слои (реки, озёра, контуры лесных массивов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труктура базы данных хозяйственных мероприятий лесозагот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8353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5364000" cy="3189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5759280" cy="270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16360" y="836640"/>
            <a:ext cx="414036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Фрагмент карты (г.Минск и Минский район)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- топологическая основа для дальнейшей привязк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569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Котельные более 0.5МВ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280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8:14:30Z</dcterms:created>
  <dc:creator>IV</dc:creator>
  <dc:description/>
  <dc:language>en-US</dc:language>
  <cp:lastModifiedBy>admin</cp:lastModifiedBy>
  <dcterms:modified xsi:type="dcterms:W3CDTF">2007-01-16T10:30:22Z</dcterms:modified>
  <cp:revision>30</cp:revision>
  <dc:subject/>
  <dc:title>Фрагмент карты </dc:title>
</cp:coreProperties>
</file>